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318C-ABE9-46F5-BB7A-53885AC01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90FF-4681-40BC-AF21-D2F1C072B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4001-E800-44CF-A48E-DE53CDCDC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10B7-16BD-472E-9BD2-F35B0505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5E29-F2C2-4650-9EC8-B5319B82C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45AC-536D-4019-9F68-DB6BE6751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4166-8B11-426F-A9B3-4B450F6B7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AA5D-EB7C-4EEE-BFB4-0B174180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1B4E-06F8-40CE-AF3E-7F934B9A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30EE-FC9F-4DFF-872B-3CAA639A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422B-B618-4DB1-A3FD-22D6BF27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A4CB-FA43-4795-9A74-D9F22E28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1229-2B1B-4500-9DFA-C220EDE7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6124-4494-4BE9-9C5D-0A68BB5E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566E-FE5B-4703-A8F9-B4760018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E5C0-5E56-480A-8C0E-DB98A8FE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6C7A-1C04-4570-9B55-6D09CE58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8FD2-ADA6-4129-AC4C-7EE24621B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36B0-F2BD-40B1-83BA-720433186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20AF5-CA77-40AE-B458-78F498F42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7EC65-DEA3-42A6-BE16-79C140BD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3D2C2-3C80-40AD-89E4-A165FDAF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9A4F2-46CA-465A-84A6-F5EF7EBA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44338-CFE2-4AD1-94DD-427827BD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E10C-511B-40C7-936F-E6843A67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FB9E3-D1D0-42B2-91AE-C02BE4F0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47961-4FDC-4701-B2D7-77BFF020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B0221-10DA-4DED-A90B-8E4FCE56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E3CF8-0322-42B1-986B-20F154F9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65D62-A312-49C0-B323-923C2995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4DF05-97ED-4C9E-BB75-7B5833A4B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79C3E-A989-4414-8EC4-26C317684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943C7-9027-450E-9FBD-E0A879D48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04780-662D-4287-8987-CD9C638B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0230D-EBD4-4027-8796-DDD349BB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0050-C10E-4B1B-9178-8295B644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D51AC-59A9-4732-917D-16699350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109FB-787F-4C59-B90F-C0A96CEF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76AED-1F21-4DD0-9E05-7E8F3196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483D4-6E24-46DD-9336-532524AA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D47B9-44C9-46F6-9BA4-2F63CEE1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DC6B7-986A-4642-BE04-2720669C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B2565-7F83-4700-B2D3-5C024BF6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2E24F-926C-4FA8-A6BB-17CBA0CE8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B00B4-0632-4C81-BB71-90B0BB872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CD7B5-8938-47BA-945D-9F939820C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9A24-0931-438B-9A7B-8D18EC4F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BB511-78DC-46FF-8E69-58672D38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FD854-79C4-4CCE-9BD5-95824043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75184-F125-4CA6-8B0D-2BD4E19C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CE554-1C0D-49D6-9208-8BB23918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57834-A4A6-4755-859C-2C149D19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F8B53-3E7D-4094-BE0C-E9F4726B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AE937-198F-40DC-924A-9E7BF91F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80636-BAB9-4B00-B5E7-BB0B5279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858F1-AB69-4AC9-8ED6-0B485162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BF836-8521-42AE-B5E9-03390E3EC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D038-4A8E-42E4-9BE0-6D4DAF21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43820-B270-4AFC-BA16-59AA1A6D1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DA5E0-F28E-40B0-8A11-ADF441E36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1F812-20F9-4AB6-917C-6F58019F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A632C-A122-4704-BA8A-550053D7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92CA3-7E64-41E8-817C-A2F2E96C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56D30-C6B0-413C-A448-944DB46A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F596C-437A-4ED2-BCD5-6BC0B89B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E057E-DA21-4E52-A7F2-8AC48B96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6B4FF-1426-42E4-80D3-1AE6CA6F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BA411-D6CF-4C5D-B6E3-16A69862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C729-3C19-4AF2-AD0A-B1D95923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1E2FC-DEE3-4236-B616-0F41F82D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5BC5A-E711-42A5-B064-90D96403D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4F0BA-98B3-42BA-9FDC-B8C92DD99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F1435-9A01-4FB6-8492-E9D8598A8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887F2-72FD-4433-97FC-4E654318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67221-2C08-4A8B-BD65-61234CC8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7A951-CDEB-494C-8196-1431B064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6D166-08AF-48D0-B59E-1EE70E21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46065-91C0-4558-8F60-8007C5D3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EBA11-23EA-473C-9706-216C93E9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C26E-9436-4F60-897C-F4031AFF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87DEC-08A3-45EC-9501-92E881DA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A86E8-4EC4-4A0E-8C39-3EA8264B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D4EBA-9E3E-4A26-80A7-8A3E1BCC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858CF-3564-4199-94A3-6FF26C6C2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7EF7E-634E-4AB2-9E74-EFD6DCAF7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27192-7A0F-47F6-862D-5E3378E85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FD660-C150-465C-9BF8-130A01F6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1F3E0-BCA1-4401-B2EB-F2B30EB2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7C9A7-A51B-4EE2-B42A-80215019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4BCC8-6516-49B2-A939-D811E56B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5BC9-4099-4FC8-AA14-BC6FF258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7CD97-3487-49DD-8593-61581DBF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C4C14-6B52-4A87-9D5A-7D384251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E479C-FCE4-4BF2-95E8-623C4F9E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D8217-7F84-425A-98E9-846AC19C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08CB0-6F83-48BC-9231-4A379158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3E61E-A261-429B-BAC0-670CBF173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65A69-AD8D-4E90-89B5-B79D2D52F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76B4-747C-4ED5-974F-76AE99AD9CD4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CS525 Garcia, Erickson and Ahm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38A6-A395-4713-AF16-781FCCF1422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E8EC-FE3A-41D8-9C8B-383A2C044CCD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Lucida Sans Unicode"/>
              </a:rPr>
              <a:t>CS525 Garcia, Erickson and Ahm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2E53-6AD1-48CB-A3E6-AD2C300AFEF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5D93-080F-485F-85CF-E9A0D76FAFD6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CS525 Garcia, Erickson and Ahm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FACC-F548-4068-8704-83F830BBF63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5C77-9430-4593-9BD5-B8C2CD9D016D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CS525 Garcia, Erickson and Ahm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DE99-7B7B-4D3B-97EB-F10D7E88533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A8C8-1D8F-456A-9F7B-EDD1466A0463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CS525 Garcia, Erickson and Ahm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E816-9384-443F-BC90-E1ECAE10F8D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F870-53D2-4D9E-9C7C-4155F223E28F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CS525 Garcia, Erickson and Ahm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5796-0EBD-4AB9-A7D5-DDE3DF0C962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8130-F05F-4AFC-B449-33F5AB5B8B5B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CS525 Garcia, Erickson and Ahm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4D79-0565-46F1-8BB7-C8354B41221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4232-AAE7-446A-BAE7-421AFB28DD99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CS525 Garcia, Erickson and Ahm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2BDC-F350-476F-934B-CC0D7D793AA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5984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By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Mohammed Ahmed, Derrick Erickson, and Ben Garci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rtual Senso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3D Fi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il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1" name="Footer Placeholder 4"/>
          <p:cNvSpPr/>
          <p:nvPr/>
        </p:nvSpPr>
        <p:spPr>
          <a:xfrm>
            <a:off x="5181480" y="6248520"/>
            <a:ext cx="3544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CS525 Garcia, Erickson and Ahm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068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lacing virtual sensors in LabanDancer Figure to generate 3D dat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4" name="Footer Placeholder 4"/>
          <p:cNvSpPr/>
          <p:nvPr/>
        </p:nvSpPr>
        <p:spPr>
          <a:xfrm>
            <a:off x="5181480" y="6248520"/>
            <a:ext cx="3544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CS525 Garcia, Erickson and Ahm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0" descr="MainScreen.JPG"/>
          <p:cNvPicPr/>
          <p:nvPr/>
        </p:nvPicPr>
        <p:blipFill>
          <a:blip r:embed="rId2"/>
          <a:stretch/>
        </p:blipFill>
        <p:spPr>
          <a:xfrm>
            <a:off x="2362320" y="2514600"/>
            <a:ext cx="48416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3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Coordinate 3D, pronounced see-three-de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C3D data file format was developed by Andrew Dainis in 1987 as a convenient and efficient means for storing 3D coordinate and analog data, with all associated parameters, for a single measurement tria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8" name="Footer Placeholder 4"/>
          <p:cNvSpPr/>
          <p:nvPr/>
        </p:nvSpPr>
        <p:spPr>
          <a:xfrm>
            <a:off x="5181480" y="6248520"/>
            <a:ext cx="3544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CS525 Garcia, Erickson and Ahm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90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Fig01.JPG"/>
          <p:cNvPicPr/>
          <p:nvPr/>
        </p:nvPicPr>
        <p:blipFill>
          <a:blip r:embed="rId3"/>
          <a:stretch/>
        </p:blipFill>
        <p:spPr>
          <a:xfrm>
            <a:off x="1295280" y="2209680"/>
            <a:ext cx="6934320" cy="2819520"/>
          </a:xfrm>
          <a:prstGeom prst="rect">
            <a:avLst/>
          </a:prstGeom>
          <a:ln w="0">
            <a:noFill/>
          </a:ln>
        </p:spPr>
      </p:pic>
      <p:sp>
        <p:nvSpPr>
          <p:cNvPr id="392" name="Footer Placeholder 4"/>
          <p:cNvSpPr/>
          <p:nvPr/>
        </p:nvSpPr>
        <p:spPr>
          <a:xfrm>
            <a:off x="5181480" y="6248520"/>
            <a:ext cx="3544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CS525 Garcia, Erickson and Ahm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Content Placeholder 3" descr="Ben Graph.jpg"/>
          <p:cNvPicPr/>
          <p:nvPr/>
        </p:nvPicPr>
        <p:blipFill>
          <a:blip r:embed="rId1"/>
          <a:stretch/>
        </p:blipFill>
        <p:spPr>
          <a:xfrm>
            <a:off x="762120" y="1155600"/>
            <a:ext cx="7772400" cy="4845240"/>
          </a:xfrm>
          <a:prstGeom prst="rect">
            <a:avLst/>
          </a:prstGeom>
          <a:ln w="0">
            <a:noFill/>
          </a:ln>
        </p:spPr>
      </p:pic>
      <p:pic>
        <p:nvPicPr>
          <p:cNvPr id="394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5" name="Footer Placeholder 4"/>
          <p:cNvSpPr/>
          <p:nvPr/>
        </p:nvSpPr>
        <p:spPr>
          <a:xfrm>
            <a:off x="5181480" y="6248520"/>
            <a:ext cx="3544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CS525 Garcia, Erickson and Ahm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ble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hang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were we thinking?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d resul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195120" y="225360"/>
            <a:ext cx="8498160" cy="1152720"/>
          </a:xfrm>
          <a:prstGeom prst="rect">
            <a:avLst/>
          </a:prstGeom>
          <a:ln w="0">
            <a:noFill/>
          </a:ln>
        </p:spPr>
      </p:pic>
      <p:sp>
        <p:nvSpPr>
          <p:cNvPr id="398" name="Footer Placeholder 4"/>
          <p:cNvSpPr/>
          <p:nvPr/>
        </p:nvSpPr>
        <p:spPr>
          <a:xfrm>
            <a:off x="5181480" y="6248520"/>
            <a:ext cx="3544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CS525 Garcia, Erickson and Ahm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ject Over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d Resul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re do we go from her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1" name="Footer Placeholder 4"/>
          <p:cNvSpPr/>
          <p:nvPr/>
        </p:nvSpPr>
        <p:spPr>
          <a:xfrm>
            <a:off x="5181480" y="6248520"/>
            <a:ext cx="3544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CS525 Garcia, Erickson and Ahm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4T20:01:37Z</dcterms:created>
  <dc:creator>EAS</dc:creator>
  <dc:description/>
  <dc:language>en-US</dc:language>
  <cp:lastModifiedBy>MohdAziz</cp:lastModifiedBy>
  <dcterms:modified xsi:type="dcterms:W3CDTF">2010-05-02T00:23:57Z</dcterms:modified>
  <cp:revision>17</cp:revision>
  <dc:subject/>
  <dc:title>Generating C3D files using Laban Dancer</dc:title>
</cp:coreProperties>
</file>