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FFD4-603A-4FD7-96B3-57898666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BBF-06E7-448B-81BB-F9E2859C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7D2-162E-41C5-BF79-7C1D8B9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422-F014-4102-A938-90CF091F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14A-508F-4FA8-ACE5-169B2B8E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933-CA91-40F0-BE9E-83ECFFB2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DAF-94B0-46EE-999E-41E36A51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FAD-45B7-4AD5-8113-3C7D6EC6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1E69-C2FB-4D45-9064-233B830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1BB3-FBC5-45CA-B0C0-A059C19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7AC-A628-4426-B555-321A3FD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D06-82CB-4313-BC05-F1F15F2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2B3-235C-42AD-9778-11CBFB6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226-819D-4934-86DB-771EC7B7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F39F-D7A9-4B77-AFB4-0574A43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9C95-42B6-4711-A80E-9D4A9DE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FA30-6BAC-496B-AA1B-F4BD946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1A1-26D2-4A3B-919D-F0D624FD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EEF3-4DA5-4A45-84FE-A7C073B0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1285-6423-4839-9FA5-7F4968A8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95B6-7993-4BFA-B089-2BFF0188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AA1F-F1FC-4D4B-A4B0-E00CC1A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AFE3-603F-4FEF-87FA-4D0256CC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585E-8EB9-40AE-B8B1-7FD58F6D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0CF-56A8-4971-B291-A839066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71E4-2C10-4DF9-A62E-58BC730E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987B-9C0F-4068-B4A9-B40AAC5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6696-ABF4-4496-912F-D1A6E45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E9D5-CF3A-4FB2-9B66-B75785A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075E-26F7-4E08-9448-820C587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8787-10C0-40CE-B4B4-FCB539FD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718A-789D-4B2D-8718-F2915281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4171-2203-4D5D-BF48-F213DC9D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FC32-3296-444D-9FAE-5A1C5636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D1B6-1D43-4D94-AE80-28E4F79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434-2E94-47BB-86F5-DC03D81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9BC2-FE34-45D4-9FE8-38349C9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5E93-4874-4DAC-9419-7540609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42FC-4004-4416-9339-5F8451B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0504-85B4-49D6-99C6-3D48BC0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174C-8E57-4B21-8A3E-72CB25A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B266-5B9A-4F0C-9C3F-606CA3A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B586-729D-49C6-85F6-93AAEB3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08CF-0BBE-4DD3-9C61-EE9621F6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D63F7-910C-45B0-A7D2-2C4EDAF6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FAA4-FCA6-4358-9CB9-EB92B36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38E-F0F5-4BFE-BE58-CA5BA74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70D5-68B9-43D0-8E15-CF3D1B1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57F3-6E61-434B-AA58-F1A7B1D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D092-2652-4972-88AC-73749F02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814B-2560-46FA-BAFB-8B37244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69FE-75DB-4729-B7CE-C02159F4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FCFD-0CDC-4D84-A167-8DAED95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47B0-2ECB-4A63-A55D-8B8D089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BAA4-40E4-4DFA-BAD4-58AD6D1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6D63-F02F-4A92-9043-42882D8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E220-4E57-4462-B6C6-9379AE26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1ED-BB90-4F6E-924B-578E489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E726-6D9D-4B66-808F-6500AF0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5EB9C-5DF5-4441-8CD6-2CE41D91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F7B1-4480-4916-B8AE-284ECFC6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CAE9-1C22-4ED6-B4BA-4B2DE29D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C2A5-DA0D-408E-87AA-D2F9F94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64D7-8494-4260-A05D-C9D06C2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943DF-E899-4CA9-84BD-4BD01C08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560D-3118-4297-B3B3-C581557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19FD-2F03-400C-9795-8E0941B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C877-6FB8-4187-9127-6B428EA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811-C89A-4D6D-9210-7CE5A04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CAB1-E05B-453F-8EE6-53EC9FEE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AE91-1596-4447-8A82-AA558EC7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8969-322C-4906-8774-4743D804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9E90-1377-4540-84D0-394CAC20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D60F-F4D4-44C8-AE85-6F5B9F2F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8275E-86B6-43C9-A26C-71C6615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947D-FFC2-418A-9900-FA328656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E985-45D8-4916-89EF-21CA81B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F24A-FE14-4E99-9BA3-34E0DA8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BE08-9DC2-4FD8-9BEB-B25570C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8BF-DBB6-4FB6-82AD-059BF85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5C25-80F4-4604-B459-F5EBF0F2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9E07-48EF-4F4D-9F9B-F0D4844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0803-B0ED-4E12-A8A2-E8DEB38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E452-E503-46AA-B97C-DA9B99A7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A6EC-395C-4EDF-AF72-6C448C04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5272-0412-423A-B52F-11CA38CE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C356C-5ABA-441F-94BE-E6FF221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2C5B8-300F-4DD5-9C45-CD3053A3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0576E-1A38-4B27-A124-6916945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DC6F-4811-4CD1-BE22-6E6F339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E43-F8AC-43F5-98C1-80F4848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3D446-C31B-4EA7-8DBD-EB8EFCB9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3FCD-ED48-4BEF-99CC-D82015E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5733-981D-48CB-BB47-668DF83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8DDDA-D937-4212-B516-C5E5391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3FD5-B3BE-4ECF-8350-40B7C562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B729-1F74-4762-A71B-8ADAA43D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C39B8-2C8A-4D60-AF31-8CD8E278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75E-2BEE-4322-86ED-E9387F7776C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814-BB78-410F-8C03-74CDFCA7CB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A8C-0832-44DF-AB9B-854C4833C78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A952-2DB2-406D-8692-5C7C9119469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D1C0-D8F1-489C-B7A7-D23E02742F7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02D-1765-4DFD-985A-A94AD88E37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4EA7-94A2-4467-82C4-8773E8C16F0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A33-18BC-43AB-9B2F-F5DCBD9F9A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1A2-DAA8-4B95-BA7A-E22E2DD2F62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BA4-CF63-45F8-BB21-E8AF40E32C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DF76-D3FB-4987-83DE-480FD1160F1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1BE-F817-4A4E-A03B-857017CCCD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148-F4DE-4881-AC8D-3116B1939AC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78FD-48F6-4C45-9A97-CBF7A1D92D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005-4083-4712-BCCC-46BDEED9DC67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E018-BCE2-4B32-AB0A-E0C36B023F0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By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hammed Ahmed, Derrick Erickson, and Ben Garc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Sens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3D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068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cing virtual sensors in LabanDancer Figure to generate 3D da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0" descr="MainScreen.JPG"/>
          <p:cNvPicPr/>
          <p:nvPr/>
        </p:nvPicPr>
        <p:blipFill>
          <a:blip r:embed="rId2"/>
          <a:stretch/>
        </p:blipFill>
        <p:spPr>
          <a:xfrm>
            <a:off x="2362320" y="2514600"/>
            <a:ext cx="4841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3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Coordinate 3D, pronounced see-three-de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3D data file format was developed by Andrew Dainis in 1987 as a convenient and efficient means for storing 3D coordinate and analog data, with all associated parameters, for a single measurement tr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ig01.JPG"/>
          <p:cNvPicPr/>
          <p:nvPr/>
        </p:nvPicPr>
        <p:blipFill>
          <a:blip r:embed="rId3"/>
          <a:stretch/>
        </p:blipFill>
        <p:spPr>
          <a:xfrm>
            <a:off x="1295280" y="2209680"/>
            <a:ext cx="6934320" cy="2819520"/>
          </a:xfrm>
          <a:prstGeom prst="rect">
            <a:avLst/>
          </a:prstGeom>
          <a:ln w="0">
            <a:noFill/>
          </a:ln>
        </p:spPr>
      </p:pic>
      <p:sp>
        <p:nvSpPr>
          <p:cNvPr id="392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3" descr="Ben Graph.jpg"/>
          <p:cNvPicPr/>
          <p:nvPr/>
        </p:nvPicPr>
        <p:blipFill>
          <a:blip r:embed="rId1"/>
          <a:stretch/>
        </p:blipFill>
        <p:spPr>
          <a:xfrm>
            <a:off x="762120" y="1155600"/>
            <a:ext cx="7772400" cy="4845240"/>
          </a:xfrm>
          <a:prstGeom prst="rect">
            <a:avLst/>
          </a:prstGeom>
          <a:ln w="0">
            <a:noFill/>
          </a:ln>
        </p:spPr>
      </p:pic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ere we thinking?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2536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 we go from he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20:01:37Z</dcterms:created>
  <dc:creator>EAS</dc:creator>
  <dc:description/>
  <dc:language>en-US</dc:language>
  <cp:lastModifiedBy>MohdAziz</cp:lastModifiedBy>
  <dcterms:modified xsi:type="dcterms:W3CDTF">2010-05-02T00:23:57Z</dcterms:modified>
  <cp:revision>17</cp:revision>
  <dc:subject/>
  <dc:title>Generating C3D files using Laban Dancer</dc:title>
</cp:coreProperties>
</file>