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99E6-792E-4645-A093-70F1298AF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7508-393C-4237-852F-F8FE09526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9BC9-00C1-4433-94BA-2FD8DF503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9D3B-F9FE-4583-BADB-D3A770A4E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365E-3663-4331-980D-1B5592FC8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2422-D574-4606-8F73-5A6AC2DC3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523-575F-48BC-B2F5-5314EA75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88E-BE18-40E3-BC9E-A793C76F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744-0B36-437F-8639-94E5562F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362-E5A2-40C6-8A4C-B12DD090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ECA-4332-49A6-A91D-D7B9A58D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A825-D17F-442C-9D1A-D4EBEA89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92D-BFEB-42E2-9EAF-F50CFB76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914-9747-4731-B688-F5CC2D7F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483-CE43-48D7-BE43-9DAA8FA6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F93-7076-413E-8304-0FB82E91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6F9-5F78-47D4-B7DF-52D0E3BA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07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FC5-2320-4B13-A536-3137DA25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e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B0E1-8FAF-403B-9C45-0E1006DA9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8732880" y="554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9150480" y="21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9763200" y="17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9547200" y="1203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pple iP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oing Where Google Maps Can’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202280" y="267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789520" y="343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UCCS_logo"/>
          <p:cNvPicPr/>
          <p:nvPr/>
        </p:nvPicPr>
        <p:blipFill>
          <a:blip r:embed="rId2"/>
          <a:stretch/>
        </p:blipFill>
        <p:spPr>
          <a:xfrm>
            <a:off x="3429000" y="5181480"/>
            <a:ext cx="2514600" cy="731880"/>
          </a:xfrm>
          <a:prstGeom prst="rect">
            <a:avLst/>
          </a:prstGeom>
          <a:ln w="0">
            <a:noFill/>
          </a:ln>
        </p:spPr>
      </p:pic>
      <p:sp>
        <p:nvSpPr>
          <p:cNvPr id="57" name="Date Placeholder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ring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e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ate Placeholder 8"/>
          <p:cNvSpPr/>
          <p:nvPr/>
        </p:nvSpPr>
        <p:spPr>
          <a:xfrm>
            <a:off x="762012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S 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ent Develop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K 3.2 released late March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a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ad Wi-F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ometer, Compass,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ad Wi-Fi + 3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GPS &amp; cellular loc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10702800" y="164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ate Placeholder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e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ate Placeholder 8"/>
          <p:cNvSpPr/>
          <p:nvPr/>
        </p:nvSpPr>
        <p:spPr>
          <a:xfrm>
            <a:off x="769608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ocation aware iPad / iPhone 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UCCS main campus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om in /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 between portrait and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current location on map and update as device moves around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e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ate Placeholder 8"/>
          <p:cNvSpPr/>
          <p:nvPr/>
        </p:nvSpPr>
        <p:spPr>
          <a:xfrm>
            <a:off x="769608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8848800" y="92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e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ate Placeholder 8"/>
          <p:cNvSpPr/>
          <p:nvPr/>
        </p:nvSpPr>
        <p:spPr>
          <a:xfrm>
            <a:off x="769608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iPhone UCCSMap Portrait Eng.png"/>
          <p:cNvPicPr/>
          <p:nvPr/>
        </p:nvPicPr>
        <p:blipFill>
          <a:blip r:embed="rId1"/>
          <a:stretch/>
        </p:blipFill>
        <p:spPr>
          <a:xfrm>
            <a:off x="152280" y="457200"/>
            <a:ext cx="2745000" cy="510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iPhone GMaps Sat UCCS.png"/>
          <p:cNvPicPr/>
          <p:nvPr/>
        </p:nvPicPr>
        <p:blipFill>
          <a:blip r:embed="rId2"/>
          <a:stretch/>
        </p:blipFill>
        <p:spPr>
          <a:xfrm>
            <a:off x="4876920" y="380880"/>
            <a:ext cx="4114800" cy="2212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iPad UCCSMap Landscape UC.png"/>
          <p:cNvPicPr/>
          <p:nvPr/>
        </p:nvPicPr>
        <p:blipFill>
          <a:blip r:embed="rId3"/>
          <a:stretch/>
        </p:blipFill>
        <p:spPr>
          <a:xfrm>
            <a:off x="4432320" y="2438280"/>
            <a:ext cx="4711680" cy="3924360"/>
          </a:xfrm>
          <a:prstGeom prst="rect">
            <a:avLst/>
          </a:prstGeom>
          <a:ln w="0">
            <a:noFill/>
          </a:ln>
        </p:spPr>
      </p:pic>
      <p:sp>
        <p:nvSpPr>
          <p:cNvPr id="78" name="Rectangular Callout 15"/>
          <p:cNvSpPr/>
          <p:nvPr/>
        </p:nvSpPr>
        <p:spPr>
          <a:xfrm>
            <a:off x="2819520" y="1295280"/>
            <a:ext cx="1981080" cy="1143000"/>
          </a:xfrm>
          <a:prstGeom prst="wedgeRectCallout">
            <a:avLst>
              <a:gd name="adj1" fmla="val 57773"/>
              <a:gd name="adj2" fmla="val 97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7" descr="iPad Wording Zoomed In.png"/>
          <p:cNvPicPr/>
          <p:nvPr/>
        </p:nvPicPr>
        <p:blipFill>
          <a:blip r:embed="rId4"/>
          <a:stretch/>
        </p:blipFill>
        <p:spPr>
          <a:xfrm>
            <a:off x="2971800" y="1600200"/>
            <a:ext cx="1689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Phone SDK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Image holds imag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ImageView displays a UI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ScrollView holds a UIImageView and manages scrolling and zo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LocationManager provides location coordinates and accuracy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e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ate Placeholder 8"/>
          <p:cNvSpPr/>
          <p:nvPr/>
        </p:nvSpPr>
        <p:spPr>
          <a:xfrm>
            <a:off x="769608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ad / iPhone dev is simple yet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rait to Landscape transitions take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 view classes can be created for iPhone and iPad within an 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C notation has its own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View = [ [ UIImageView alloc ] initWithImage:             [ UIImage imageNamed: @"Map.png" ]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management i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imageView release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e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ate Placeholder 8"/>
          <p:cNvSpPr/>
          <p:nvPr/>
        </p:nvSpPr>
        <p:spPr>
          <a:xfrm>
            <a:off x="769608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ring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e Tay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ate Placeholder 8"/>
          <p:cNvSpPr/>
          <p:nvPr/>
        </p:nvSpPr>
        <p:spPr>
          <a:xfrm>
            <a:off x="769608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S 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3:57:51Z</dcterms:created>
  <dc:creator>jbtaylor</dc:creator>
  <dc:description/>
  <dc:language>en-US</dc:language>
  <cp:lastModifiedBy>jbtaylor</cp:lastModifiedBy>
  <cp:lastPrinted>2008-11-13T17:55:13Z</cp:lastPrinted>
  <dcterms:modified xsi:type="dcterms:W3CDTF">2010-04-26T01:55:07Z</dcterms:modified>
  <cp:revision>15</cp:revision>
  <dc:subject/>
  <dc:title>Apple iPad</dc:title>
</cp:coreProperties>
</file>