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C868-C550-4613-B1A8-B74F29DEC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2809-364A-4A23-90BA-3CB422416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A236-7A29-489C-88BD-336AE598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8929-E4BF-4038-B8D4-75ACFCFA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789C-014E-4B34-A346-6180A9AC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3A33-33AB-40F8-B0C7-AD41866F9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840-6F91-42D6-80CD-CF4FDC30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292-9F74-4B27-9399-40777A0A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2F5-B7A0-41AA-BD65-A7DD0737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FC2-D8C3-47AC-AFB9-0FB0D29F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189-147A-438C-9DFB-7653CBB2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4C3-8164-40E6-9552-E5F58D22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618-8C42-4848-882B-E8E7900B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FE5-A894-475D-BCBE-E90B5078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984-8566-4CB3-B878-A05D1151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5F1-A83D-4114-89EE-C1F9E47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EE4-508E-4826-9EA5-BABC6064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C37-99FA-4CC6-BAD9-E3D7FD4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99F7-CE41-4F04-B6DE-64A4A2281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8732880" y="554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9150480" y="21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9763200" y="17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9547200" y="1203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pple iP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oing Where Google Maps Can’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02280" y="267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789520" y="343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UCCS_logo"/>
          <p:cNvPicPr/>
          <p:nvPr/>
        </p:nvPicPr>
        <p:blipFill>
          <a:blip r:embed="rId2"/>
          <a:stretch/>
        </p:blipFill>
        <p:spPr>
          <a:xfrm>
            <a:off x="3429000" y="5181480"/>
            <a:ext cx="2514600" cy="731880"/>
          </a:xfrm>
          <a:prstGeom prst="rect">
            <a:avLst/>
          </a:prstGeom>
          <a:ln w="0">
            <a:noFill/>
          </a:ln>
        </p:spPr>
      </p:pic>
      <p:sp>
        <p:nvSpPr>
          <p:cNvPr id="57" name="Date Placeholder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ate Placeholder 8"/>
          <p:cNvSpPr/>
          <p:nvPr/>
        </p:nvSpPr>
        <p:spPr>
          <a:xfrm>
            <a:off x="762012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nt Develop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K 3.2 released late March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d Wi-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ometer, Compass,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d Wi-Fi + 3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GPS &amp; cellular loc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10702800" y="164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ocation aware iPad / iPhone 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UCCS main campus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 in /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between portrait and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current location on map and update as device moves around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8848800" y="92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iPhone UCCSMap Portrait Eng.png"/>
          <p:cNvPicPr/>
          <p:nvPr/>
        </p:nvPicPr>
        <p:blipFill>
          <a:blip r:embed="rId1"/>
          <a:stretch/>
        </p:blipFill>
        <p:spPr>
          <a:xfrm>
            <a:off x="152280" y="457200"/>
            <a:ext cx="2745000" cy="510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Phone GMaps Sat UCCS.png"/>
          <p:cNvPicPr/>
          <p:nvPr/>
        </p:nvPicPr>
        <p:blipFill>
          <a:blip r:embed="rId2"/>
          <a:stretch/>
        </p:blipFill>
        <p:spPr>
          <a:xfrm>
            <a:off x="4876920" y="380880"/>
            <a:ext cx="4114800" cy="221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iPad UCCSMap Landscape UC.png"/>
          <p:cNvPicPr/>
          <p:nvPr/>
        </p:nvPicPr>
        <p:blipFill>
          <a:blip r:embed="rId3"/>
          <a:stretch/>
        </p:blipFill>
        <p:spPr>
          <a:xfrm>
            <a:off x="4432320" y="2438280"/>
            <a:ext cx="4711680" cy="3924360"/>
          </a:xfrm>
          <a:prstGeom prst="rect">
            <a:avLst/>
          </a:prstGeom>
          <a:ln w="0">
            <a:noFill/>
          </a:ln>
        </p:spPr>
      </p:pic>
      <p:sp>
        <p:nvSpPr>
          <p:cNvPr id="78" name="Rectangular Callout 15"/>
          <p:cNvSpPr/>
          <p:nvPr/>
        </p:nvSpPr>
        <p:spPr>
          <a:xfrm>
            <a:off x="2819520" y="1295280"/>
            <a:ext cx="1981080" cy="1143000"/>
          </a:xfrm>
          <a:prstGeom prst="wedgeRectCallout">
            <a:avLst>
              <a:gd name="adj1" fmla="val 57773"/>
              <a:gd name="adj2" fmla="val 97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iPad Wording Zoomed In.png"/>
          <p:cNvPicPr/>
          <p:nvPr/>
        </p:nvPicPr>
        <p:blipFill>
          <a:blip r:embed="rId4"/>
          <a:stretch/>
        </p:blipFill>
        <p:spPr>
          <a:xfrm>
            <a:off x="2971800" y="1600200"/>
            <a:ext cx="1689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Phone SDK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Image holds ima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ImageView displays a UI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ScrollView holds a UIImageView and manages scrolling and zo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LocationManager provides location coordinates and accuracy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d / iPhone dev is simple yet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rait to Landscape transitions take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 view classes can be created for iPhone and iPad within an 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C notation has its own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View = [ [ UIImageView alloc ] initWithImage:             [ UIImage imageNamed: @"Map.png" ]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management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imageView release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3:57:51Z</dcterms:created>
  <dc:creator>jbtaylor</dc:creator>
  <dc:description/>
  <dc:language>en-US</dc:language>
  <cp:lastModifiedBy>jbtaylor</cp:lastModifiedBy>
  <cp:lastPrinted>2008-11-13T17:55:13Z</cp:lastPrinted>
  <dcterms:modified xsi:type="dcterms:W3CDTF">2010-04-26T01:55:07Z</dcterms:modified>
  <cp:revision>15</cp:revision>
  <dc:subject/>
  <dc:title>Apple iPad</dc:title>
</cp:coreProperties>
</file>