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8D51A-0D89-46A7-AD83-E8AAE5A62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6E3D-96ED-4B47-AC01-F0E43CC9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127A1-32C3-4C79-AC7B-7CE18C782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F92AE-BF56-45E2-82E7-6E40D44E1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09102-7B0F-470E-888F-3B09F4CF3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01B4-66ED-4B11-8676-AD3E88129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4CF6F-8D6A-4D05-8340-4DD2CDAB8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E7B5D-CBB4-41B2-B2D1-7EA8B8D4C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79A0-B330-421D-8C95-71F59C01C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85DCB-2E3E-4DF5-B2B4-BDDA8267E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9C68E-868D-4E5E-BA0C-1D3CEC170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CBB07-A795-4D22-A53F-1CA6CFFFE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B091-9823-40E0-BFFF-717B621C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92B35-6AD1-4181-A86F-5B406F145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19602-B0DD-442E-AB3E-2D330DFFB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1DA7F-DDE8-43F6-A2A9-75422EA49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37E83-5523-4081-AF5F-CE9562FC0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FB61-AE1C-41B1-A9F6-D39D92C7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5183B-D4C7-4ADA-89D4-373030D0E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6AD1-2BF4-4E08-9A7E-CAC2185C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42B7-42DD-422D-835C-A558AA30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EFDF-F295-4176-874D-B4126605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5C58-FB53-4E77-8DB0-A486C937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C882-D41F-4CA9-A1F1-46E6093E4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2932-40D9-4DF4-8FBF-3280A42D71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D6B3-F956-4DD7-96C3-9D20E841C08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ulticast Media Streaming: </a:t>
            </a:r>
            <a:br>
              <a:rPr sz="3200"/>
            </a:br>
            <a:r>
              <a:rPr b="1" lang="en-US" sz="3200" spc="-1" strike="noStrike">
                <a:solidFill>
                  <a:srgbClr val="003366"/>
                </a:solidFill>
                <a:latin typeface="Arial"/>
              </a:rPr>
              <a:t>Techniques for Efficiency, Security, And Copyright Protection</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mes Logan</a:t>
            </a: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S 525</a:t>
            </a: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 Chow</a:t>
            </a:r>
            <a:endParaRPr b="0" lang="en-US" sz="28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ermarking Multicast Video with a Hierarchy of Intermediarie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ugmenting Watermarking process that uses fingerprints for copyrighted and restricted d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Based on a MSTstructure broken into two component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WHIM Backbone: Root to Last Router before clien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WHIM Last Hop: Last Router to Client</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3431C02E-AB1A-4953-A2A8-5BD982DCB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 </a:t>
            </a:r>
            <a:endParaRPr b="1" lang="en-US" sz="3600" spc="-1" strike="noStrike">
              <a:solidFill>
                <a:srgbClr val="006666"/>
              </a:solidFill>
              <a:latin typeface="Arial"/>
            </a:endParaRPr>
          </a:p>
        </p:txBody>
      </p:sp>
      <p:sp>
        <p:nvSpPr>
          <p:cNvPr id="116"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s of WHIM</a:t>
            </a:r>
            <a:endParaRPr b="0" lang="en-US" sz="24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nsuring Robustness in Fingerprinting</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Preventing the collusion problem</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symmetric Fingerprinting to identify individual hosts</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Protection Granularit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Logging</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fficienc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1C203353-5652-42B5-A756-1D82CC197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WHIM Work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Unique path from source to client is created via MST</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ource and all intermediary routers are assigned unique ids (WHIM Backbon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Last Hop router assigns clients unique ids by either its own method or using public keys (WHIM Last Ho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s messages flow towards clients intermediary routers concatenate their distinct id to the message to create a watermark</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the last hop the router appends the clients id to the watermark the delivers the message to client</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E46DCA78-32FA-4F65-B2F6-FD2A3B07A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828800" y="2362320"/>
            <a:ext cx="5505480" cy="3733560"/>
          </a:xfrm>
          <a:prstGeom prst="rect">
            <a:avLst/>
          </a:prstGeom>
          <a:ln w="0">
            <a:noFill/>
          </a:ln>
        </p:spPr>
      </p:pic>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Diagram</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James Logan CS525 2010</a:t>
            </a:r>
          </a:p>
        </p:txBody>
      </p:sp>
      <p:sp>
        <p:nvSpPr>
          <p:cNvPr id="3" name="PlaceHolder 2"/>
          <p:cNvSpPr>
            <a:spLocks noGrp="1"/>
          </p:cNvSpPr>
          <p:nvPr>
            <p:ph type="sldNum" idx="3"/>
          </p:nvPr>
        </p:nvSpPr>
        <p:spPr/>
        <p:txBody>
          <a:bodyPr/>
          <a:p>
            <a:fld id="{08E1D905-83A2-4DAA-B1C5-809363863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M Continued</a:t>
            </a:r>
            <a:endParaRPr b="1" lang="en-US" sz="3600" spc="-1" strike="noStrike">
              <a:solidFill>
                <a:srgbClr val="006666"/>
              </a:solidFill>
              <a:latin typeface="Arial"/>
            </a:endParaRPr>
          </a:p>
        </p:txBody>
      </p:sp>
      <p:sp>
        <p:nvSpPr>
          <p:cNvPr id="122"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or Issues</a:t>
            </a:r>
            <a:endParaRPr b="0" lang="en-US" sz="28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600" spc="-1" strike="noStrike">
                <a:solidFill>
                  <a:srgbClr val="003366"/>
                </a:solidFill>
                <a:latin typeface="Arial"/>
              </a:rPr>
              <a:t>WHIM can identify who leaked information but cannot guarantee secure routing</a:t>
            </a:r>
            <a:endParaRPr b="0" lang="en-US" sz="16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ution</a:t>
            </a:r>
            <a:endParaRPr b="0" lang="en-US" sz="28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Combine WHIM with Hierarchical Secure Streaming which adds the following functionality</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intermediate routers assigned keys via root server</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upon client request the root server assigns client key</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root server sends client the keys of the routers on its unique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path which are encrypted by the previous key starting from the</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client</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data sent from root server is encrypted at each hop then decrypted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using the keys sent to the client via the root server </a:t>
            </a:r>
            <a:endParaRPr b="0" lang="en-US" sz="1600" spc="-1" strike="noStrike">
              <a:solidFill>
                <a:srgbClr val="003366"/>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37744E53-C14C-4643-B884-86435318F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ways a tradeoff between a desired service and client and network resourc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component’s location in the network can have positive and negative consequences based on its configuration and execu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ST algorithm is important to ensure efficiency in a multicast streaming network for the technologies that make use of it</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71DB135E-88D4-4693-9841-BA06D18B6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84872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en-US" sz="1400" spc="-1" strike="noStrike">
                <a:solidFill>
                  <a:srgbClr val="003366"/>
                </a:solidFill>
                <a:latin typeface="Arial"/>
              </a:rPr>
              <a:t>	</a:t>
            </a:r>
            <a:r>
              <a:rPr b="0" lang="en-US" sz="1400" spc="-1" strike="noStrike">
                <a:solidFill>
                  <a:srgbClr val="003366"/>
                </a:solidFill>
                <a:latin typeface="Arial"/>
              </a:rPr>
              <a:t>Sumit Rot, John Ankorn, Susie Wee, </a:t>
            </a:r>
            <a:r>
              <a:rPr b="0" i="1" lang="en-US" sz="1400" spc="-1" strike="noStrike">
                <a:solidFill>
                  <a:srgbClr val="003366"/>
                </a:solidFill>
                <a:latin typeface="Arial"/>
              </a:rPr>
              <a:t>Architecture of a Modular Streaming Server for Content Delivery Networks</a:t>
            </a:r>
            <a:r>
              <a:rPr b="0" lang="en-US" sz="1400" spc="-1" strike="noStrike">
                <a:solidFill>
                  <a:srgbClr val="003366"/>
                </a:solidFill>
                <a:latin typeface="Arial"/>
              </a:rPr>
              <a:t>, 2003</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en-US" sz="1400" spc="-1" strike="noStrike">
                <a:solidFill>
                  <a:srgbClr val="003366"/>
                </a:solidFill>
                <a:latin typeface="Arial"/>
              </a:rPr>
              <a:t>	</a:t>
            </a:r>
            <a:r>
              <a:rPr b="0" lang="en-US" sz="1400" spc="-1" strike="noStrike">
                <a:solidFill>
                  <a:srgbClr val="003366"/>
                </a:solidFill>
                <a:latin typeface="Arial"/>
              </a:rPr>
              <a:t>Chung-Ming Huang, Pei-Chuan Liu, </a:t>
            </a:r>
            <a:r>
              <a:rPr b="0" i="1" lang="en-US" sz="1400" spc="-1" strike="noStrike">
                <a:solidFill>
                  <a:srgbClr val="003366"/>
                </a:solidFill>
                <a:latin typeface="Arial"/>
              </a:rPr>
              <a:t>A Ubiquitous 1-to-k Media Streaming Architecture Using the IPv4/IPv6 Multicast Transition Gateway Approach</a:t>
            </a:r>
            <a:r>
              <a:rPr b="0" lang="en-US" sz="1400" spc="-1" strike="noStrike">
                <a:solidFill>
                  <a:srgbClr val="003366"/>
                </a:solidFill>
                <a:latin typeface="Arial"/>
              </a:rPr>
              <a:t>, 2004</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a:t>
            </a:r>
            <a:r>
              <a:rPr b="0" lang="en-US" sz="1400" spc="-1" strike="noStrike">
                <a:solidFill>
                  <a:srgbClr val="003366"/>
                </a:solidFill>
                <a:latin typeface="Arial"/>
              </a:rPr>
              <a:t>	</a:t>
            </a:r>
            <a:r>
              <a:rPr b="0" lang="en-US" sz="1400" spc="-1" strike="noStrike">
                <a:solidFill>
                  <a:srgbClr val="003366"/>
                </a:solidFill>
                <a:latin typeface="Arial"/>
              </a:rPr>
              <a:t>Li Lao, Jun-Hong Cui, M.Y. Sanadidi, Mario Gerla, </a:t>
            </a:r>
            <a:r>
              <a:rPr b="0" i="1" lang="en-US" sz="1400" spc="-1" strike="noStrike">
                <a:solidFill>
                  <a:srgbClr val="003366"/>
                </a:solidFill>
                <a:latin typeface="Arial"/>
              </a:rPr>
              <a:t>Scalable and Adaptive Multicast Video Streaming for Heterogeneous and Mobile Users</a:t>
            </a:r>
            <a:r>
              <a:rPr b="0" lang="en-US" sz="1400" spc="-1" strike="noStrike">
                <a:solidFill>
                  <a:srgbClr val="003366"/>
                </a:solidFill>
                <a:latin typeface="Arial"/>
              </a:rPr>
              <a:t>, 2005</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en-US" sz="1400" spc="-1" strike="noStrike">
                <a:solidFill>
                  <a:srgbClr val="003366"/>
                </a:solidFill>
                <a:latin typeface="Arial"/>
              </a:rPr>
              <a:t>	</a:t>
            </a:r>
            <a:r>
              <a:rPr b="0" lang="en-US" sz="1400" spc="-1" strike="noStrike">
                <a:solidFill>
                  <a:srgbClr val="003366"/>
                </a:solidFill>
                <a:latin typeface="Arial"/>
              </a:rPr>
              <a:t>Jun-Hong Cui, Jinkyu Kim, Dario Maggiorini, Khaled Bousetta, Mario Gerla, </a:t>
            </a:r>
            <a:r>
              <a:rPr b="0" i="1" lang="en-US" sz="1400" spc="-1" strike="noStrike">
                <a:solidFill>
                  <a:srgbClr val="003366"/>
                </a:solidFill>
                <a:latin typeface="Arial"/>
              </a:rPr>
              <a:t>Aggregated Multicast – A Comparative Study</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a:t>
            </a:r>
            <a:r>
              <a:rPr b="0" lang="en-US" sz="1400" spc="-1" strike="noStrike">
                <a:solidFill>
                  <a:srgbClr val="003366"/>
                </a:solidFill>
                <a:latin typeface="Arial"/>
              </a:rPr>
              <a:t>	</a:t>
            </a:r>
            <a:r>
              <a:rPr b="0" lang="en-US" sz="1400" spc="-1" strike="noStrike">
                <a:solidFill>
                  <a:srgbClr val="003366"/>
                </a:solidFill>
                <a:latin typeface="Arial"/>
              </a:rPr>
              <a:t>Aiguo Fei, Junhong, Mario Gerla, </a:t>
            </a:r>
            <a:r>
              <a:rPr b="0" i="1" lang="en-US" sz="1400" spc="-1" strike="noStrike">
                <a:solidFill>
                  <a:srgbClr val="003366"/>
                </a:solidFill>
                <a:latin typeface="Arial"/>
              </a:rPr>
              <a:t>Aggregated Multicast: an Approach to Reduce Multicast State</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a:t>
            </a:r>
            <a:r>
              <a:rPr b="0" lang="en-US" sz="1400" spc="-1" strike="noStrike">
                <a:solidFill>
                  <a:srgbClr val="003366"/>
                </a:solidFill>
                <a:latin typeface="Arial"/>
              </a:rPr>
              <a:t>	</a:t>
            </a:r>
            <a:r>
              <a:rPr b="0" lang="en-US" sz="1400" spc="-1" strike="noStrike">
                <a:solidFill>
                  <a:srgbClr val="003366"/>
                </a:solidFill>
                <a:latin typeface="Arial"/>
              </a:rPr>
              <a:t>Hao-hua Chu, Lintian Qiao, Klara Nahrstedt, </a:t>
            </a:r>
            <a:r>
              <a:rPr b="0" i="1" lang="en-US" sz="1400" spc="-1" strike="noStrike">
                <a:solidFill>
                  <a:srgbClr val="003366"/>
                </a:solidFill>
                <a:latin typeface="Arial"/>
              </a:rPr>
              <a:t>A Secure Multicast Protocol with Copyright Protection</a:t>
            </a:r>
            <a:r>
              <a:rPr b="0" lang="en-US" sz="1400" spc="-1" strike="noStrike">
                <a:solidFill>
                  <a:srgbClr val="003366"/>
                </a:solidFill>
                <a:latin typeface="Arial"/>
              </a:rPr>
              <a:t>, April 2002</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a:t>
            </a:r>
            <a:r>
              <a:rPr b="0" lang="en-US" sz="1400" spc="-1" strike="noStrike">
                <a:solidFill>
                  <a:srgbClr val="003366"/>
                </a:solidFill>
                <a:latin typeface="Arial"/>
              </a:rPr>
              <a:t>	</a:t>
            </a:r>
            <a:r>
              <a:rPr b="0" lang="en-US" sz="1400" spc="-1" strike="noStrike">
                <a:solidFill>
                  <a:srgbClr val="003366"/>
                </a:solidFill>
                <a:latin typeface="Arial"/>
              </a:rPr>
              <a:t>Paul Judge, Mostafa Ammar, </a:t>
            </a:r>
            <a:r>
              <a:rPr b="0" i="1" lang="en-US" sz="1400" spc="-1" strike="noStrike">
                <a:solidFill>
                  <a:srgbClr val="003366"/>
                </a:solidFill>
                <a:latin typeface="Arial"/>
              </a:rPr>
              <a:t>WHIM: Watermarking Multicast Video with a Hierarchy of Intermediaries</a:t>
            </a:r>
            <a:endParaRPr b="0" lang="en-US" sz="14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727C09D8-9384-488E-9ED3-923DF7C13C5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utline</a:t>
            </a:r>
            <a:endParaRPr b="1" lang="en-US" sz="3600" spc="-1" strike="noStrike">
              <a:solidFill>
                <a:srgbClr val="006666"/>
              </a:solidFill>
              <a:latin typeface="Arial"/>
            </a:endParaRPr>
          </a:p>
        </p:txBody>
      </p:sp>
      <p:sp>
        <p:nvSpPr>
          <p:cNvPr id="98"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gregated Trees – Effici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cast Transition Gateway – Effici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M: Watermarking Multicast Video with a Hierarchy of Intermediaries – Security and Copyright Protec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F0927C60-AA79-4FC2-8E9C-CA993CCB3F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Trees In Multicast Network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Source Tree: One root per source,  MST algorithm used to maintain branch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Shared Tree: Common root chosen as a rendezvous point to distribute all messag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12B090DE-86D9-4ABF-83D0-27139310E4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2"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ic Tree Issu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Too many trees in the network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emory and Processing overhead maintaining bi-directional forwarding states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Overhead processing for tree creation and reconstruction (Sour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Latency, bottlenecking, and additional hop counts (Shar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lu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ggregated Tree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10E7911D-7633-49E0-9E9B-BAA0B6586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4" name="PlaceHolder 1"/>
          <p:cNvSpPr>
            <a:spLocks noGrp="1"/>
          </p:cNvSpPr>
          <p:nvPr>
            <p:ph/>
          </p:nvPr>
        </p:nvSpPr>
        <p:spPr>
          <a:xfrm>
            <a:off x="837720" y="2362320"/>
            <a:ext cx="7696440" cy="3504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gregated Tre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ree(s) managed by a tree manager mechanism and not the routers themselv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Goal:  reduce router memory usage, forwarding state entries, router processing, and bandwidth usage in intra-domain network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DDA2ADC8-BC3C-4E28-8D1B-EB79190E4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gregated Trees Continued</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ggregated Tree Procedur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Dynamic management mechanism evaluates join request sent by border routers. Determines if the subscription is already available on a tree path. If not it creates a new tree or branch(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Tree Manager then assigns a tree the multicast group(s).  Multiple groups on one tree path reduces bandwidth and router memory usag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Messages are encapsulated upon entering the network.  The original message is preserved upon encapsulation.  This is the key to reducing router processing overhead.</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Routers decapsulate the messages to determine forwarding.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nagement Issu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Centralized Management Mechanism is seen as a single point of failur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6DB131E5-3508-43E4-AD2F-5D9EF0000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cast Transition Gateway</a:t>
            </a:r>
            <a:endParaRPr b="1" lang="en-US" sz="3600" spc="-1" strike="noStrike">
              <a:solidFill>
                <a:srgbClr val="006666"/>
              </a:solidFill>
              <a:latin typeface="Arial"/>
            </a:endParaRPr>
          </a:p>
        </p:txBody>
      </p:sp>
      <p:sp>
        <p:nvSpPr>
          <p:cNvPr id="108" name="PlaceHolder 1"/>
          <p:cNvSpPr>
            <a:spLocks noGrp="1"/>
          </p:cNvSpPr>
          <p:nvPr>
            <p:ph/>
          </p:nvPr>
        </p:nvSpPr>
        <p:spPr>
          <a:xfrm>
            <a:off x="837720" y="2361960"/>
            <a:ext cx="769644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lticast Transition Gatewa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Conceptual mechanism used to support protocol transparency for multicast networks that communicate with other networks with limitation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Transparency is for multicast to unicast (M2U) and multicast to multicast (M2M) for IPv4 and IPv6 transitioning using the following execution configuration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6 multicast to IPv6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4 multicast to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6 multicast to IPv6 and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IPv4 multicast to IPv6 and IPv4 unicas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6-to-4 and 4-to-6 multicas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362B9557-325A-43F6-85AF-F089C2F8ED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TG Continued</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TG Process Works</a:t>
            </a:r>
            <a:endParaRPr b="0" lang="en-US" sz="2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ised of two components: Client Connection Manager/Announcement Control and Streaming Relay Mechanism</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makes request via anycast to MTG(s) based on information obtained from Announcement Control (Capacity/Current Bandwidth etc)</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selects MTG</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ient Connection Manager establishes the connection and maintains i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reaming Relay Mechanism translates messages based on execution configuration</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CFD0F7B3-3FCE-435B-93CC-AF267406D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TG Continued</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cerns with two or more MTGs supporting M2M execution configuration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Identical Configurations: client receives the same data from two different sourc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Exact Opposite Configurations: Loopback occurs when one MTG sends out multicast messages and another MTG listening on that group receives it and puts it back into the originating network then originating MTG receives the messages and sends them out again.</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olution: Use RTCP message to let other MTGs know a message transition has taken plac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Scaling:  In Large networks with many MTGs, Coordination Servers using P2P communicate with each other to select MTG for the client are needed.</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James Logan CS525 2010</a:t>
            </a:r>
          </a:p>
        </p:txBody>
      </p:sp>
      <p:sp>
        <p:nvSpPr>
          <p:cNvPr id="4" name="PlaceHolder 3"/>
          <p:cNvSpPr>
            <a:spLocks noGrp="1"/>
          </p:cNvSpPr>
          <p:nvPr>
            <p:ph type="sldNum" idx="3"/>
          </p:nvPr>
        </p:nvSpPr>
        <p:spPr/>
        <p:txBody>
          <a:bodyPr/>
          <a:p>
            <a:fld id="{AAF8219F-1155-461A-AC0A-F34F60126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01:05:18Z</dcterms:created>
  <dc:creator>Shahzenan</dc:creator>
  <dc:description/>
  <dc:language>en-US</dc:language>
  <cp:lastModifiedBy>Shahzenan</cp:lastModifiedBy>
  <dcterms:modified xsi:type="dcterms:W3CDTF">2010-04-28T00:17:12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