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3BF-6482-40B9-A7E4-1749AA00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FE2-BBE1-466D-84F8-B69035C1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722-72EE-4666-B9CE-A7AE80A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196-9C5F-480A-B961-18D0795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B0C-9B65-4174-807B-A0D08461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A11-BD00-4AB4-A6BC-5B54868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840-F0D5-4697-8B99-2523205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D7B-C54B-4007-A9AC-FB719B1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984-5538-4318-AA01-2F2410E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DB2-C56F-482D-85F1-A4F9D96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93-798F-465C-BD84-BEF9F3B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548-949D-4C01-8852-53C091B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6523-D188-41AF-B05E-66FFE915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Network for Interna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hua Hend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company w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in mor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uccessfully with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in and out of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alente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amount of people(FB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,000,000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to no cost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new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, Team, Site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Customers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people with simila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g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C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3:19:39Z</dcterms:created>
  <dc:creator>Infor</dc:creator>
  <dc:description/>
  <dc:language>en-US</dc:language>
  <cp:lastModifiedBy>Infor</cp:lastModifiedBy>
  <dcterms:modified xsi:type="dcterms:W3CDTF">2010-05-02T22:37:37Z</dcterms:modified>
  <cp:revision>8</cp:revision>
  <dc:subject/>
  <dc:title>Social Network for Internal Business</dc:title>
</cp:coreProperties>
</file>