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BD-84C2-42C4-B2A4-D141A691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3DD-ABC6-4A5B-8E7F-528D5CE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814-0279-4629-96FA-5A1A1242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C48-72F6-4891-A676-B881F296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AB0-100B-430B-B36F-294FC3C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B12-B09C-46DC-811A-FEC7F29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B0C-A0B7-4368-9B75-D3A7694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E52-0533-4AD7-90B1-C6B8203B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A38-F3AC-4156-A702-F953F820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0C4-DC48-4D13-8BD5-C7BE7EA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CF1-1A6C-4011-A15E-06FE0C7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BF5-3F63-4184-AA9C-7668B25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203-8341-4E46-8E04-D600F26A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Network for Internal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hua Hend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company w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ng in mor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uccessfully with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in and out of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alente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amount of people(FB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,000,000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to no cost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new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, Team, Site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Customers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people with simila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nt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g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C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3:19:39Z</dcterms:created>
  <dc:creator>Infor</dc:creator>
  <dc:description/>
  <dc:language>en-US</dc:language>
  <cp:lastModifiedBy>Infor</cp:lastModifiedBy>
  <dcterms:modified xsi:type="dcterms:W3CDTF">2010-05-02T22:37:37Z</dcterms:modified>
  <cp:revision>8</cp:revision>
  <dc:subject/>
  <dc:title>Social Network for Internal Business</dc:title>
</cp:coreProperties>
</file>