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069-71F5-4D73-A295-CBBE9082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708-27BE-4F8E-9AE5-935C4454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006-17A9-4CCC-87FF-847F283B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98C-388B-4501-BE29-D1683EA6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7C1-E2DC-43DE-94AB-6F83D484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623-9AC2-489F-B8CF-3BF2E602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EB7-4920-4F8D-94BF-2796B764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612-E028-4DBC-8783-63B6DC27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FD7-EF02-48F7-A4DA-54165F3A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531-F98A-4D04-BB6A-D1D9F23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1AE-A3F5-4F2B-AF6E-A8F9B11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6B0-BA45-4466-8058-3A2764D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21EA-0D14-41ED-9718-72F3A2CDE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java.sun.com/products/java-media/jai/docs/" TargetMode="External"/><Relationship Id="rId2" Type="http://schemas.openxmlformats.org/officeDocument/2006/relationships/hyperlink" Target="http://java.sun.com/products/java-media/jai/docs/" TargetMode="External"/><Relationship Id="rId3" Type="http://schemas.openxmlformats.org/officeDocument/2006/relationships/hyperlink" Target="http://www.inf.ufrgs.br/~revista/docs/rita11/rita_v11_n1_p93a124.pdf" TargetMode="External"/><Relationship Id="rId4" Type="http://schemas.openxmlformats.org/officeDocument/2006/relationships/hyperlink" Target="http://java.sun.com/products/java-media/jai/forDevelopers/jai-apidocs/" TargetMode="External"/><Relationship Id="rId5" Type="http://schemas.openxmlformats.org/officeDocument/2006/relationships/hyperlink" Target="http://java.sun.com/products/java-media/jai/forDevelopers/jai-apidocs/" TargetMode="External"/><Relationship Id="rId6" Type="http://schemas.openxmlformats.org/officeDocument/2006/relationships/hyperlink" Target="https://jai.dev.java.net/binary-builds.html#Stable_builds_1.1.4" TargetMode="External"/><Relationship Id="rId7" Type="http://schemas.openxmlformats.org/officeDocument/2006/relationships/hyperlink" Target="https://jai.dev.java.net/binary-builds.html#Stable_builds_1.1.4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  <a:ea typeface="굴림"/>
              </a:rPr>
              <a:t>Image Processing Techniques using the Jav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omic Sans MS"/>
                <a:ea typeface="굴림"/>
              </a:rPr>
              <a:t>TM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  <a:ea typeface="굴림"/>
              </a:rPr>
              <a:t> Advanced Imaging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omic Sans MS"/>
                <a:ea typeface="굴림"/>
              </a:rPr>
              <a:t>TM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  <a:ea typeface="굴림"/>
              </a:rPr>
              <a:t> (JAI) API Framework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Bill Champl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UCCS / CS52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Spring ‘0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Project Websit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Project Wiki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cs525javaimaging.pbwiki.com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urce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Sun Microsystems.  Programming in Java Advanced Imaging, Release 1.0.1, Palo Alto. CA, November 1999.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1"/>
              </a:rPr>
              <a:t>http://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2"/>
              </a:rPr>
              <a:t>java.sun.com/products/java-media/jai/docs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R. Santos.  Java Advanced Imaging API: A Tutorial.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RITA Vol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XI Number 1, 2004,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3"/>
              </a:rPr>
              <a:t>http://www.inf.ufrgs.br/~revista/docs/rita11/rita_v11_n1_p93a124.pd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JAI API doc page: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4"/>
              </a:rPr>
              <a:t>http://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5"/>
              </a:rPr>
              <a:t>java.sun.com/products/java-media/jai/forDevelopers/jai-apidocs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JAI API download page: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6"/>
              </a:rPr>
              <a:t>https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7"/>
              </a:rPr>
              <a:t>://jai.dev.java.net/binary-builds.html#Stable_builds_1.1.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JAI Tutorial:  http://java.sun.com/developer/releases/jai/#jaidem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Developer Forum: http://forum.java.sun.com/forum.jspa?forumID=540&amp;start=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Sun’s Java JAI project: https://jai.dev.java.net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Sample Using Project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JAI Success Stories: http://java.sun.com/products/java-media/jai/success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Univ. Washington Intelligent Transportation System: http://java.sun.com/products/java-media/jai/success/uw-its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LMCO Web based Electronic Light Table (WebELT): http://java.sun.com/products/java-media/jai/success/lmco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Note: JAI Logo Icon taken from 6 above - JAI Tutorial “images” directory; warping code on slide 14 taken from 6 above - JAI Tutorial JAIWarpDemo.java source c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3B2-3C94-4436-BEDB-DADD235D69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14240" y="26665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ckup Slid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215-1722-47F5-9940-6D558B4B9F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41408" b="9376"/>
          <a:stretch/>
        </p:blipFill>
        <p:spPr>
          <a:xfrm>
            <a:off x="1600200" y="1447920"/>
            <a:ext cx="4138560" cy="480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12240" y="19414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code on sli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944-5E5A-47D0-8EDC-2542D2AB79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5943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amma Scaling Exa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914400"/>
            <a:ext cx="4876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ma Scaling ramps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mer pixel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 value = slider.get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gamma = value / 10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x;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(int i = 0; i &lt; 256; i++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 = i / 256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 = 255.0 * Math.pow(x, gamm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bleData[0][i] = (byte)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bleData[1][i] = (byte)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bleData[2][i] = (byte)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}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ameterBlock p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w ParameterB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Source(im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new LookupTableJAI(tableDat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rget = JAI.create("lookup", pb, 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splay.set(targe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3505320"/>
          <a:ext cx="3686040" cy="26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05320"/>
                    <a:ext cx="36860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3"/>
          <a:srcRect l="14065" t="13540" r="40625" b="50002"/>
          <a:stretch/>
        </p:blipFill>
        <p:spPr>
          <a:xfrm>
            <a:off x="152280" y="609480"/>
            <a:ext cx="441972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514-B1DC-4EEF-8EE1-B0F611F9F4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ping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6397" t="3214" r="39817" b="4036"/>
          <a:stretch/>
        </p:blipFill>
        <p:spPr>
          <a:xfrm>
            <a:off x="152280" y="1447920"/>
            <a:ext cx="3962520" cy="3757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95800" y="1371600"/>
            <a:ext cx="5019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ping translates image pts thru a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coefficients set by control pt 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loat[] srcCoords = new float[2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loat[] dstCoords = new float[2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rp = WarpPolynomial.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createWarp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srcCoor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, dstCoords, 0,2*numPoints,1.0F/wid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0F/height, (float)width, (float)height,degre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loat[][] tcoeffs = warp.getCoeff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 length = tcoeffs[0].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effs = new float[2 * 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(int i = 0; i &lt; 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effs[i] = tcoeffs[0]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effs[i+length] = tcoeffs[1][i]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ameterBlock pb = new ParameterB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Source(srcIm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war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new InterpolationNeares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stImage = JAI.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creat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"warp", p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BBB-6756-46A8-9111-0715EEB5ED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ject Descri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ject Purpo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view of JAI API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alling JA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ming Techniq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ing Model and Application Development Ste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Image Processing Code Frag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 / Recommend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477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5FD-19A2-4A50-9744-F42876190C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urpose of this project is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ver the image processing (IP) capabilities of Sun Microsystems JAI AP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 the programming techniques necessary to write JAI based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ort on how some other projects have leveraged JA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tronom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dical Im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etary Exploration (viewing surface images of Mars, Venus, moons of Jupiter,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824-5E7F-47B3-BD95-510597348C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I API Cap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I is an API package that greatly simplifies developing applications requiring the use of IP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s over 80 pre-canned algorithms to save developing from scrat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s a high level API for using these algorith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tends existing Java 2D imaging capabilit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equently integrates well with Java 2D (AWT) and Swing AP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organizations can integrate custom algorith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ly portable – runs on any hardware and O/S Java do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gorithms supported inclu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math routines applied to the same pixels from one or more images i.e. add, subtract, or, xor, log, extrema (min/max) and creating a histogr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age transformation routines i.e. convolving, edge detection, and filtering (low / high pass filter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ometric transforms including rotation, scaling, translation and warp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equency operator encoding / decoding (codecs) i.e. DCT/IDCT and DFT/ID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78B-1CC0-4F72-A748-C312E7F20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I API Capabilities – con’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Supported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laying one image on top of ano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ing the composite of two images using Transpar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ling of images, so only those visible portions need to be proces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ing client/server imaging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creation of custom color lookup tables (CLUTs) and running an image through a CL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ility to apply different color systems to an image and convert between them i.e. CIE/CMYK/RG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38C-8E78-4F12-B21B-BC41294D1A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load and install the Java Development Toolkit (JDK) or Java Run-Time Environment (JRE) if only running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load and install JAI API from Sun’s Java website (see referen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up run path to find “java” and classpath to find 3 JAI jar files, plus maximum heap memory size option (-Xmx), but only if 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onally download JAI demonstration tutor program (see referen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setting paths and runn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Prompt&gt;</a:t>
            </a: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JaiTutor path=.\jre1.6.0_03\b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Prompt&gt;</a:t>
            </a: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java -Xmx32m –classpath .;./classes;jai_core.jar;jai_codec.jar;mlibwrapper_jai.jar; Tuto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 from IDE or put “java” command as above into .bat file or run directly from command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748-F59C-46A0-A988-48AD0B4946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gramming Techniqu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72292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00400" y="685800"/>
            <a:ext cx="5943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굴림"/>
              </a:rPr>
              <a:t>Programming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Creates a “pipeline” of IP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Deferred execution” causes pipeline to execute only when final result is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362320"/>
            <a:ext cx="41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ogramm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tch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Algo. to execu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Build paramet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nvoke Static JAI “create”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o something with results i.e. pipe to next operation, display images, or sa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E6D-AABB-4149-967C-76662AB439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amming Techniques – cont’d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IP Code Frag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ing an image file from disk (correct codec automatically us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PlanarImage myImage = JAI.create(“fileload”, “C:/images/galaxyPicture.jpeg”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Or alternatively, to load an image from the interne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PlanarImage myImage = JAI.create("url"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new URL("http://viva.uccs.edu/~wchampli/cs525/images/wchampli.png")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ating an image (where angle is a float initially set to 0 degree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blic void actionPerformed(ActionEvent event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method called if button pres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gle += 45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increase rotation angle by 45 deg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ameterBlock pb = new ParameterBlock(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create parm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Source(myImage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add image to parameter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width / 2.0F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x origin parameter is one-half image 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height / 2.0F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y origin parameter is one-half image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(float) Math.toRadians((double) angle)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angle parame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new InterpolationNearest()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to fill in angles parame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mage = JAI.create("Rotate", pb, null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execute the operation and get an im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nvas.set(image);}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play result image (note:could pipe into another operati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6B8-ED1F-4C62-A88C-7D1BC6F153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clusions/Recommend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I makes it easy to develop IP applications and it saves substantial programming effort over re-coding algorith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I is more portable typical C libraries targeted for specific platfor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date, JAI has been a well kept secret as information is scattered amongst various sources on the internet and it is not yet in widespread 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kipedia entry just appeared in mid Apri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I Tutorial not previously build-able due to missing files (until the last few week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n’s JAI project team now appears to be actively working demos, fixing bugs, etc. so JAI use should now become more widespr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 Improvement Suggestion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nge underlying data storage to use Java I/O buffer classes to save copying between buffer storage typ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ify IP algorithm code to create multiple threads for processing large images to leverage multi-c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an IP algo chaining editor tool to build algo pipelines and execute them (considering as a possible master’s proj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872-DABA-4978-B50F-2C0319952B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DeeAnn</cp:lastModifiedBy>
  <dcterms:modified xsi:type="dcterms:W3CDTF">2008-05-04T03:25:47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