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5E5-3DFA-4364-93C6-3450E89C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6D87-F82E-49DC-B7C8-E71EC4CE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694-D764-4B3D-9CE3-7E4208C7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772-153D-44CB-B957-8AE6C871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40F-FA56-4884-A1B4-A89EC30F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2455-9AAE-4B96-ADC9-243048AA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5B6-2455-4899-926F-78505663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F43B-39F3-4E6C-8C1A-1F1E38F8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F56-2784-4D39-9097-69B4840E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F57-8DB7-4FB0-8807-AF9875BD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F1CE-A9E0-445E-9B88-03910377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104-E76E-4B33-BB54-A022179C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E754-2AB4-4CF9-A3FD-11D4328FF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java.sun.com/products/java-media/jai/docs/" TargetMode="External"/><Relationship Id="rId2" Type="http://schemas.openxmlformats.org/officeDocument/2006/relationships/hyperlink" Target="http://java.sun.com/products/java-media/jai/docs/" TargetMode="External"/><Relationship Id="rId3" Type="http://schemas.openxmlformats.org/officeDocument/2006/relationships/hyperlink" Target="http://www.inf.ufrgs.br/~revista/docs/rita11/rita_v11_n1_p93a124.pdf" TargetMode="External"/><Relationship Id="rId4" Type="http://schemas.openxmlformats.org/officeDocument/2006/relationships/hyperlink" Target="http://java.sun.com/products/java-media/jai/forDevelopers/jai-apidocs/" TargetMode="External"/><Relationship Id="rId5" Type="http://schemas.openxmlformats.org/officeDocument/2006/relationships/hyperlink" Target="http://java.sun.com/products/java-media/jai/forDevelopers/jai-apidocs/" TargetMode="External"/><Relationship Id="rId6" Type="http://schemas.openxmlformats.org/officeDocument/2006/relationships/hyperlink" Target="https://jai.dev.java.net/binary-builds.html#Stable_builds_1.1.4" TargetMode="External"/><Relationship Id="rId7" Type="http://schemas.openxmlformats.org/officeDocument/2006/relationships/hyperlink" Target="https://jai.dev.java.net/binary-builds.html#Stable_builds_1.1.4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05704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  <a:ea typeface="굴림"/>
              </a:rPr>
              <a:t>Image Processing Techniques using the Jav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omic Sans MS"/>
                <a:ea typeface="굴림"/>
              </a:rPr>
              <a:t>TM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  <a:ea typeface="굴림"/>
              </a:rPr>
              <a:t> Advanced Imaging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omic Sans MS"/>
                <a:ea typeface="굴림"/>
              </a:rPr>
              <a:t>TM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  <a:ea typeface="굴림"/>
              </a:rPr>
              <a:t> (JAI) API Framework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Bill Champl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UCCS / CS52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Spring ‘0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Project Websit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Project Wiki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://cs525javaimaging.pbwiki.com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ources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Sun Microsystems.  Programming in Java Advanced Imaging, Release 1.0.1, Palo Alto. CA, November 1999. 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Comic Sans MS"/>
                <a:ea typeface="굴림"/>
                <a:hlinkClick r:id="rId1"/>
              </a:rPr>
              <a:t>http://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Comic Sans MS"/>
                <a:ea typeface="굴림"/>
                <a:hlinkClick r:id="rId2"/>
              </a:rPr>
              <a:t>java.sun.com/products/java-media/jai/docs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R. Santos.  Java Advanced Imaging API: A Tutorial.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RITA Vol.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XI Number 1, 2004, (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omic Sans MS"/>
                <a:ea typeface="굴림"/>
                <a:hlinkClick r:id="rId3"/>
              </a:rPr>
              <a:t>http://www.inf.ufrgs.br/~revista/docs/rita11/rita_v11_n1_p93a124.pdf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JAI API doc page: 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Comic Sans MS"/>
                <a:ea typeface="굴림"/>
                <a:hlinkClick r:id="rId4"/>
              </a:rPr>
              <a:t>http://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Comic Sans MS"/>
                <a:ea typeface="굴림"/>
                <a:hlinkClick r:id="rId5"/>
              </a:rPr>
              <a:t>java.sun.com/products/java-media/jai/forDevelopers/jai-apidocs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JAI API download page: 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Comic Sans MS"/>
                <a:ea typeface="굴림"/>
                <a:hlinkClick r:id="rId6"/>
              </a:rPr>
              <a:t>https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Comic Sans MS"/>
                <a:ea typeface="굴림"/>
                <a:hlinkClick r:id="rId7"/>
              </a:rPr>
              <a:t>://jai.dev.java.net/binary-builds.html#Stable_builds_1.1.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JAI Tutorial:  http://java.sun.com/developer/releases/jai/#jaidem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Developer Forum: http://forum.java.sun.com/forum.jspa?forumID=540&amp;start=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Sun’s Java JAI project: https://jai.dev.java.net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Sample Using Projects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JAI Success Stories: http://java.sun.com/products/java-media/jai/success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Univ. Washington Intelligent Transportation System: http://java.sun.com/products/java-media/jai/success/uw-its.htm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LMCO Web based Electronic Light Table (WebELT): http://java.sun.com/products/java-media/jai/success/lmco.htm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Note: JAI Logo Icon taken from 6 above - JAI Tutorial “images” directory; warping code on slide 14 taken from 6 above - JAI Tutorial JAIWarpDemo.java source c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9D8-824B-4330-9163-41FC4C67D3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514240" y="266652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ackup Slid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8B49-5A29-4BA1-A1E2-23D273ACBF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41408" b="9376"/>
          <a:stretch/>
        </p:blipFill>
        <p:spPr>
          <a:xfrm>
            <a:off x="1600200" y="1447920"/>
            <a:ext cx="4138560" cy="4800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12240" y="194148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code on slid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D0A-9E1F-45F6-AD12-6CAB66C6D9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59436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amma Scaling Examp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914400"/>
            <a:ext cx="48765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ma Scaling ramps 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mer pixel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t value = slider.getValu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ouble gamma = value / 10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ouble x;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 (int i = 0; i &lt; 256; i++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x = i / 256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x = 255.0 * Math.pow(x, gamm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ableData[0][i] = (byte)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ableData[1][i] = (byte)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ableData[2][i] = (byte)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}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rameterBlock pb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w ParameterB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b.addSource(ima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b.add(new LookupTableJAI(tableDat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arget = JAI.create("lookup", pb, nul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isplay.set(targe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3505320"/>
          <a:ext cx="3686040" cy="26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505320"/>
                    <a:ext cx="368604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" descr=""/>
          <p:cNvPicPr/>
          <p:nvPr/>
        </p:nvPicPr>
        <p:blipFill>
          <a:blip r:embed="rId3"/>
          <a:srcRect l="14065" t="13540" r="40625" b="50002"/>
          <a:stretch/>
        </p:blipFill>
        <p:spPr>
          <a:xfrm>
            <a:off x="152280" y="609480"/>
            <a:ext cx="4419720" cy="26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60FF-6BF7-4BCD-95A0-02F6718C02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rping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6397" t="3214" r="39817" b="4036"/>
          <a:stretch/>
        </p:blipFill>
        <p:spPr>
          <a:xfrm>
            <a:off x="152280" y="1447920"/>
            <a:ext cx="3962520" cy="3757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95800" y="1371600"/>
            <a:ext cx="5019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ping translates image pts thru a 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coefficients set by control pt lo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loat[] srcCoords = new float[20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loat[] dstCoords = new float[20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arp = WarpPolynomial.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createWarp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srcCoor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, dstCoords, 0,2*numPoints,1.0F/wid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.0F/height, (float)width, (float)height,degre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loat[][] tcoeffs = warp.getCoeff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t length = tcoeffs[0].leng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effs = new float[2 * length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 (int i = 0; i &lt; length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effs[i] = tcoeffs[0]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effs[i+length] = tcoeffs[1][i]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rameterBlock pb = new ParameterB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b.addSource(srcIma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b.add(war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b.add(new InterpolationNeares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stImage = JAI.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creat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"warp", p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0CF0-1661-476D-8BBE-721D6E3E37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ject Descri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ject Purpo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view of JAI API Capab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alling JA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ming Techniq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ming Model and Application Development Ste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 Image Processing Code Frag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lusions / Recommend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086600" y="533520"/>
            <a:ext cx="1477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40BC-5AFF-4AF6-B065-7CDBC60F53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urpose of this project is 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over the image processing (IP) capabilities of Sun Microsystems JAI AP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rn the programming techniques necessary to write JAI based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ort on how some other projects have leveraged JA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tronom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dical Imag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anetary Exploration (viewing surface images of Mars, Venus, moons of Jupiter, et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E48-4684-4391-86DC-C80D922280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AI API Capabi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I is an API package that greatly simplifies developing applications requiring the use of IP algorith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s over 80 pre-canned algorithms to save developing from scrat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s a high level API for using these algorith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tends existing Java 2D imaging capabilit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sequently integrates well with Java 2D (AWT) and Swing AP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ing organizations can integrate custom algorith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ly portable – runs on any hardware and O/S Java do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gorithms supported includ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ctor math routines applied to the same pixels from one or more images i.e. add, subtract, or, xor, log, extrema (min/max) and creating a histogra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age transformation routines i.e. convolving, edge detection, and filtering (low / high pass filter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ometric transforms including rotation, scaling, translation and warp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equency operator encoding / decoding (codecs) i.e. DCT/IDCT and DFT/IDF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0CB7-A7D2-4CD3-BD13-33BFD64FCC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AI API Capabilities – con’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tional Supported Capab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laying one image on top of anot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ing the composite of two images using Transpar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ling of images, so only those visible portions need to be proces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ing client/server imaging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y creation of custom color lookup tables (CLUTs) and running an image through a CL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ility to apply different color systems to an image and convert between them i.e. CIE/CMYK/RG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B4E-EBE9-43B6-89E7-176F80CA39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wnload and install the Java Development Toolkit (JDK) or Java Run-Time Environment (JRE) if only running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wnload and install JAI API from Sun’s Java website (see referenc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tup run path to find “java” and classpath to find 3 JAI jar files, plus maximum heap memory size option (-Xmx), but only if need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onally download JAI demonstration tutor program (see referenc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setting paths and runn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Prompt&gt;</a:t>
            </a: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JaiTutor path=.\jre1.6.0_03\b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Prompt&gt;</a:t>
            </a: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java -Xmx32m –classpath .;./classes;jai_core.jar;jai_codec.jar;mlibwrapper_jai.jar; Tuto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 from IDE or put “java” command as above into .bat file or run directly from command 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8495-5028-4F8C-9118-CBDBC2459C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ogramming Techniqu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572292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00400" y="685800"/>
            <a:ext cx="5943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굴림"/>
              </a:rPr>
              <a:t>Programming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Creates a “pipeline” of IP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Deferred execution” causes pipeline to execute only when final result is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362320"/>
            <a:ext cx="411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rogramming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tch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Algo. to execu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Build parameter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Invoke Static JAI “create”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o something with results i.e. pipe to next operation, display images, or sav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4BF1-2F3F-4AAD-96AB-53AE2DCB58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gramming Techniques – cont’d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IP Code Frag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ading an image file from disk (correct codec automatically use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PlanarImage myImage = JAI.create(“fileload”, “C:/images/galaxyPicture.jpeg”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Or alternatively, to load an image from the interne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PlanarImage myImage = JAI.create("url"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new URL("http://viva.uccs.edu/~wchampli/cs525/images/wchampli.png")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ating an image (where angle is a float initially set to 0 degrees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blic void actionPerformed(ActionEvent event)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method called if button pres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ngle += 45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increase rotation angle by 45 degr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rameterBlock pb = new ParameterBlock()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create parm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b.addSource(myImage)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add image to parameter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b.add(width / 2.0F)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x origin parameter is one-half image wid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b.add(height / 2.0F)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y origin parameter is one-half image he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b.add((float) Math.toRadians((double) angle))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angle parame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b.add(new InterpolationNearest())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w to fill in angles paramet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mage = JAI.create("Rotate", pb, null)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execute the operation and get an im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nvas.set(image);}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splay result image (note:could pipe into another operatio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236-2047-40E9-BAFB-40B3B42DAD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clusions/Recommend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lusion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AI makes it easy to develop IP applications and it saves substantial programming effort over re-coding algorith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AI is more portable typical C libraries targeted for specific platfor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date, JAI has been a well kept secret as information is scattered amongst various sources on the internet and it is not yet in widespread u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ikipedia entry just appeared in mid Apri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AI Tutorial not previously build-able due to missing files (until the last few week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n’s JAI project team now appears to be actively working demos, fixing bugs, etc. so JAI use should now become more widesprea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mmendation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formance Improvement Suggestion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nge underlying data storage to use Java I/O buffer classes to save copying between buffer storage typ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ify IP algorithm code to create multiple threads for processing large images to leverage multi-co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an IP algo chaining editor tool to build algo pipelines and execute them (considering as a possible master’s projec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86F-8E0D-4F6F-9871-79FADB0C50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DeeAnn</cp:lastModifiedBy>
  <dcterms:modified xsi:type="dcterms:W3CDTF">2008-05-04T03:25:47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