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7C88-D415-4770-B12A-CEC46C2C4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670C-121C-4B63-B288-BDD8DA32C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EFBA-15E4-4768-BF0E-394469698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61EC-452D-4957-AE6C-082082651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053B0-4C79-4101-B308-CEA0B10A0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C6E17-2BA9-4533-B22E-D646D7949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0A190-6D03-4487-8560-6ED687F9B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ABD99-41C0-42A6-B389-E6DB4BB20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D84CB-3F59-47E7-B0ED-BA9E4794F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A59B6-EEC8-475E-8741-3CC374F21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F79C6-653B-4FB9-A8D7-8AE458572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4978-F6B3-48DA-A470-D396973C8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0E380-2B27-4418-9A7C-CF12A6BC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910E5-E9FD-4FFB-B605-CE759EA9C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FA94E-42A8-4F4C-97C9-7220672FD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3A231-4F29-4C3A-B803-E8EE21C01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A3D39-8207-404B-A534-80CB0B30D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B327-A7DC-4308-A105-8BD0953FA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CADE-CB95-443A-9B9E-E0B10B3A0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36DC-1BA7-46DC-A8C0-59CF22A73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002F-3377-4BF4-8D4F-27991126C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FA26-3D15-4266-A570-10425563D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7B58-74B6-482C-AE7B-15249A59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E5BD-D67B-44E6-9169-24D6EC35F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D5C17-E2E9-47FC-A822-DE773E74846E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1235C-A264-4F88-B2A3-F15B6E10A7A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C4B37-69FC-43CD-BB8A-8B1AAE8ED4D0}" type="datetime">
              <a:rPr b="0" lang="en-US" sz="1000" spc="-1" strike="noStrike">
                <a:solidFill>
                  <a:srgbClr val="ffffff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15FCA-FE8A-4B31-83F7-5AC5203627E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Multimedia Communications and Firewall/N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"/>
          <p:cNvSpPr/>
          <p:nvPr/>
        </p:nvSpPr>
        <p:spPr>
          <a:xfrm>
            <a:off x="2362320" y="4267080"/>
            <a:ext cx="4359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S52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roj Pat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.460.19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dified RTP/RTCP vers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utgoing keep-alive messages (RTP packets with empty payload) open pinhole for incoming RT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utgoing RTCP packets open pinhole for incoming RTCP packets (RTCP is bi-directiona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525 - Saroj Pat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D33F-9992-49CB-A198-1EFA91FE6FD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B0D5B7-9F31-47BF-A100-73C5B6D6748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endo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406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ndber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rder Controller = GK + H.460.18/19 Serv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XP endpoints include H.460.18/19 Cli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lyc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2IU servers and VSX endpoints will support H.460.18/19 in Q2/200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dvi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thFinder solution will support H.460.18/19 (Client/Server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525 - Saroj Pat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1C60-3057-42CD-B093-234A4AB5A65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5EE6A3-4514-4E95-ABDD-5DAA01FCD32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.460.18/19 is the accepted standard for H.323 FW/NAT travers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525 - Saroj Pat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9A5C-394B-4BAC-A1DC-A4330A329DF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DD4377-69F6-4487-B1A4-9EA3692708E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eferences 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ttp://en.wikipedia.org/wiki/H.32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ttp://en.wikipedia.org/wiki/Q.93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ttp://www.chebucto.ns.ca/~rakerman/articles/ig-h323_firewalls.ht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ttp://www.h323forum.org/papers/301005_Firewall_NAT_Traversal_White_Paper.pd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ttp://vide.net/conferences/spr2006/slides/schlatter_h460.pd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525 - Saroj Pat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7CE5-4787-41B0-8C12-070D875DD8F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7570EE-A6F5-42E8-B619-7A54F4CC958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bjectiv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.323 - </a:t>
            </a:r>
            <a:r>
              <a:rPr b="0" lang="en" sz="3200" spc="-1" strike="noStrike">
                <a:solidFill>
                  <a:srgbClr val="ffffff"/>
                </a:solidFill>
                <a:latin typeface="Tahoma"/>
              </a:rPr>
              <a:t>Packet-Based Multimedia Communications System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blems penetrating firewall and establishing connection with endpoint behind firewa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.460.17/18/1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525 - Saroj Pat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E7F2-1E9C-47A7-A679-52FCF08BF0E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730E8E-E07F-45F1-8D1E-F683ABA3E14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304920" y="6854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.323 Family of protocols –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1143000" y="1981080"/>
          <a:ext cx="6858000" cy="41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981080"/>
                    <a:ext cx="685800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525 - Saroj Pat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9EE8-C64E-4298-AB98-3C318472DB2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7245B7-9F18-4EA3-8F37-587D62283C5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.323 Call Setup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1906560" y="1295280"/>
            <a:ext cx="5329440" cy="556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525 - Saroj Pat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96C6-52F5-4457-A643-8F8B409181B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3887EA-0716-462D-94AB-47AF63600D7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oblems Posed by Firewall / N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1565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blem 1 : Q.931 SETUP message blocked by Firewa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8229600" cy="361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525 - Saroj Pat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6882-D7C9-4B3B-A382-4599A36DBC0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9E1A7A-E998-4238-999D-7D9AE273550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oblems Posed by Firewall / N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blem 2 : NAT hides internal endpoint address by replacing it with public address of firewal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525 - Saroj Pat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68FE-06AF-4947-BE5C-DCCFA0E9E25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C6378B-6716-4303-B901-898DA6160F7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olu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ree approved standards –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.460.17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.460.18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.460.19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525 - Saroj Pat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F4C6-F07F-43E4-BC69-2DD667CE56F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C072D5-3C04-4D50-B5A1-A3AFE1670D1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.460.17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S over H.22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single TCP connection between endpoint and a gatekeep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resses of RAS, Q931 and H.245 need not pass through – The messages are tunneled over the single TCP connec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525 - Saroj Pat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4755-FC81-4632-840D-50A7703969D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A9C9FF-821B-4D7E-8B70-2FAC888194C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.460.18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3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tead of tunneling, use of separate pinholes and extra signal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4911840" cy="3584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525 - Saroj Pat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D6F7-F654-48DC-A9C6-4E48E6DFEDE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42FC7D-BB66-45D1-94BB-C60B69B8B98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2T01:55:45Z</dcterms:created>
  <dc:creator>Saroj</dc:creator>
  <dc:description/>
  <dc:language>en-US</dc:language>
  <cp:lastModifiedBy>Saroj</cp:lastModifiedBy>
  <dcterms:modified xsi:type="dcterms:W3CDTF">2008-05-12T04:50:34Z</dcterms:modified>
  <cp:revision>38</cp:revision>
  <dc:subject/>
  <dc:title>Title</dc:title>
</cp:coreProperties>
</file>