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1D32-1C01-437B-A1EF-8C103A45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8786-664B-4311-88F4-E36FEAB1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0C81-CACA-4A31-A31F-ABABB86DC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B1AA-B68B-4896-89E7-F61BA2DDE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4B35-F8D4-4BB3-BA93-0C5B8B1E2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652A-21C4-428A-A51B-196F16EC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A55C-FF86-469B-A906-7E8D170B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C601-34A4-4EA1-85E6-3F57972E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D8FB-969A-4F29-B0A2-C801ACAB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4A7E-206A-4EE4-8DBE-40E577CF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D859-6803-4A69-BBC1-57154CBE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9820-0238-4B43-8477-F4CCD520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9BA0-22DC-4BDF-B95A-1FDEFA26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5E17-629A-4DD7-80BD-0F4A4173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AEB5-74DF-4C5C-A43D-809A0081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DC68-4A7C-41FC-A368-51AA5473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BB27-936A-402C-A71C-639F1EF64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4F7E-1178-40D8-ABC1-CAA705AF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8CA4-90AA-479C-A616-F1781F62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B574-03A0-430F-8CC5-4A540D71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2AD3-1F37-4050-AD0D-F05ED242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BDDB-EBC5-4A92-A5C9-DCEBCC81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CA0A-2D20-4CA9-872A-8CCFC597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821D-29D7-4EC1-AF14-FEB407E5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4A0E-FABA-421B-9D38-3CE5EA26A398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A6F0-2963-4777-BF14-941672F19A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71FB-34CD-4E6E-924B-1ECB0E03CF38}" type="datetime">
              <a:rPr b="0" lang="en-US" sz="1000" spc="-1" strike="noStrike">
                <a:solidFill>
                  <a:srgbClr val="ffffff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B5F8-19C0-4D91-9924-DD2687F445E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Multimedia Communications and Firewall/N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2362320" y="4267080"/>
            <a:ext cx="435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S5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roj Pat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.460.19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ified RTP/RTCP ver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going keep-alive messages (RTP packets with empty payload) open pinhole for incoming RT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going RTCP packets open pinhole for incoming RTCP packets (RTCP is bi-directiona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525 - Saroj Pat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DDDB-D658-4FA0-AA30-90D8D357332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9BB171-6A2B-4862-9F4C-8879E01FAD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endo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40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ndber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rder Controller = GK + H.460.18/19 Ser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XP endpoints include H.460.18/19 Cli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y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2IU servers and VSX endpoints will support H.460.18/19 in Q2/20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dvi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hFinder solution will support H.460.18/19 (Client/Serve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525 - Saroj Pat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30B8-7FA2-4222-A517-0FAC56B573A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552A3D-32E9-4F89-9A8C-246C7E6953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.460.18/19 is the accepted standard for H.323 FW/NAT travers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525 - Saroj Pat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3287-F630-4BCF-B5BF-91254B4D8EE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299C52-9D03-4029-8C25-D97E241046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ferences 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en.wikipedia.org/wiki/H.32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en.wikipedia.org/wiki/Q.93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chebucto.ns.ca/~rakerman/articles/ig-h323_firewalls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h323forum.org/papers/301005_Firewall_NAT_Traversal_White_Paper.pd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vide.net/conferences/spr2006/slides/schlatter_h460.pd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525 - Saroj Pat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221E-74C2-4E4E-89C8-5CA070AA38D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28264D-E190-4B31-BE1B-F09FACB747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bjectiv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.323 - </a:t>
            </a:r>
            <a:r>
              <a:rPr b="0" lang="en" sz="3200" spc="-1" strike="noStrike">
                <a:solidFill>
                  <a:srgbClr val="ffffff"/>
                </a:solidFill>
                <a:latin typeface="Tahoma"/>
              </a:rPr>
              <a:t>Packet-Based Multimedia Communications System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lems penetrating firewall and establishing connection with endpoint behind firew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.460.17/18/1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525 - Saroj Pat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C03D-8E5A-4F17-ACF7-80C9566B4A1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8C82E-7662-4693-80A5-B91283CE5C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.323 Family of protocols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1143000" y="1981080"/>
          <a:ext cx="685800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81080"/>
                    <a:ext cx="685800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525 - Saroj Pat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1323-A0B8-4328-9F35-D3FEB6446B5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AC4B7-3B3A-4788-A7C8-84149EAEDC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.323 Call Setu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06560" y="1295280"/>
            <a:ext cx="5329440" cy="55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525 - Saroj Pat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E665-F945-44AA-BD55-124E9D3B608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20346D-BEA9-459D-A5DE-DE0C5C995F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blems Posed by Firewall / N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1565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blem 1 : Q.931 SETUP message blocked by Firew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8229600" cy="361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525 - Saroj Pat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5BE9-8C98-4F4A-AC63-0897A6787F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B8084-9D14-42B8-B3AA-E512B70061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blems Posed by Firewall / N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lem 2 : NAT hides internal endpoint address by replacing it with public address of firewa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525 - Saroj Pat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81D8-E506-4F50-B6FB-2C99AE33E4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10008-64C5-439B-A533-29C42DF209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lu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e approved standards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.460.17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.460.18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.460.19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525 - Saroj Pat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9030-417F-4112-B641-2CA804E52D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6BFE57-761F-47D1-8C7F-D38C9D77AE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.460.17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S over H.22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ingle TCP connection between endpoint and a gatekee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resses of RAS, Q931 and H.245 need not pass through – The messages are tunneled over the single TCP connec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525 - Saroj Pat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A1FD-C60A-426C-82CD-8B8A2A3DF74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BE9F20-7C12-4602-82D1-7143E61CA4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.460.18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3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ead of tunneling, use of separate pinholes and extra signal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4911840" cy="358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525 - Saroj Pat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2522-098B-470A-ACD5-5B8A317AB2C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8A634-3E84-4127-AAD9-3376B5FC70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1:55:45Z</dcterms:created>
  <dc:creator>Saroj</dc:creator>
  <dc:description/>
  <dc:language>en-US</dc:language>
  <cp:lastModifiedBy>Saroj</cp:lastModifiedBy>
  <dcterms:modified xsi:type="dcterms:W3CDTF">2008-05-12T04:50:34Z</dcterms:modified>
  <cp:revision>38</cp:revision>
  <dc:subject/>
  <dc:title>Title</dc:title>
</cp:coreProperties>
</file>