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99D-6296-46A0-A6B4-7A80AFC0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6F6-307F-4FF3-B1F6-62B4AB21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A1F1-5E62-4E16-A276-2F7D0957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6260-9EBF-44B5-AF01-B5DC82B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50E4-D8C2-436A-A606-FF8510D3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E18D-3E57-481B-A414-4302D3E8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98A4-2BEA-4850-BC27-3AC9D47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775-DC56-41DE-87A1-A1602B1D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C6F-D6D3-4D11-95EE-6A097F72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D48-0E29-459D-B52E-715F0E3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96C6-CF1F-46B4-A91C-7AEB8F6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F55-6E4E-465B-9A32-06C091BF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639-288F-4D22-AA16-FC4AAFA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AE14-2A98-41C4-A690-3C4D18D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8A1C-BE40-4EFF-82CC-3A097BF0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43F-E207-4B65-876F-1D90E2B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2FEE-5C1D-41A3-9B2B-E5BDB050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DB96-87A4-413B-A9DB-F2CE4AD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686-DC3B-4811-9868-1A05411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8FE8-4E98-4ED4-B036-71C04AB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AEFB-444C-4C77-BDB3-403CC90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5EEF-4911-4892-BEE0-B685158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B4A5-7A70-4509-8503-7D1FD32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0907-FEEB-4CE6-B2ED-AC954CF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0EEC-2C10-4672-B9B9-FE99782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E610-48D0-4145-A0AA-D15C5AF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31B-C883-445C-8967-958DD33D1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497-3C1F-4131-A0F8-BAF7419D7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ypermedia/Time-based Structuring Language (HyTim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S 525 Pro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in N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sing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477040" cy="397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429000" y="2581200"/>
            <a:ext cx="5477040" cy="3971880"/>
          </a:xfrm>
          <a:prstGeom prst="rect">
            <a:avLst/>
          </a:prstGeom>
          <a:ln w="0">
            <a:noFill/>
          </a:ln>
        </p:spPr>
      </p:pic>
      <p:sp>
        <p:nvSpPr>
          <p:cNvPr id="15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B95-1571-4125-A617-D4CE39166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yTim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and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H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990-FDDC-4C80-A5A8-E99CBCF20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  “Multimedia Interchange Using SGML/HyTime Part I: Structures,” IEEE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  “Multimedia Interchange Using SGML/HyTime Part II: Principles and Applications,” IEEE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oldfarb, Charles F.  “HyTime: A Standard for Structured Hypermedia Interchange,”  IBM Almaden Research Center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comb, Steven R., Kipp, Neill A., Newcomb, Victoria T. “The HyTime Hypermedia/Time-based Document Structuring Language,” Communications of the ACM, 1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rr, L. A., Barron, D. W., Davis, H. C., and Hall, W. “Why use HyTime?,” University of Nottingham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formation technology – Hypermedia/Time-based Structuring Language (HyTime), Internal Organization for Standardization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ord, John F., “Evaluating HyTime: An Examination and Implementation Experience,” ACM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F12-AE1B-4B1B-A69B-89888A3F4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/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Applica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5062-EE82-480F-B2B6-AC966D0F1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y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a way to represent hypertext, multimedia, hypermedia, and time-based documents in a standar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a markup language that extends Standard Generalized Markup Language (SG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07E-C46C-471A-A155-D8512ECC5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not an applic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yTime is not a document archite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610-E32F-4F9B-B183-1B764ACF5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ore Information about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provides standards for specifying interconnections within or between documents and other information o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also provides standards for scheduling multimedia information in time and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se functionalitie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FA9E-3A11-4BAB-B8DB-205698248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Tim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address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link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ition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760-D584-4886-9777-4D5B69F75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a hypermedia representation standard that is applica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is an internationa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Time can aid in tying repositories of document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16B-1148-49A4-9934-04E34F366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ations/Drawbacks of HyTi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products that support SGML/Hy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built in “default”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 can be probl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790-7392-4587-B36A-C1F2D4749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pplications of H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ense sector – the Department of Defense use for Interactive Electronic Technical Manuals (IET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rporate use – the Pinnacles Initiative and corporate inter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ndard Music Description Language (SMD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D6E1-F99B-480A-BE56-347E1EAC7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 Nam - Hypermedia/Time-based Structuring Language (Hy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4:32:04Z</dcterms:created>
  <dc:creator>FullName</dc:creator>
  <dc:description/>
  <dc:language>en-US</dc:language>
  <cp:lastModifiedBy>EAS</cp:lastModifiedBy>
  <dcterms:modified xsi:type="dcterms:W3CDTF">2008-05-07T21:34:58Z</dcterms:modified>
  <cp:revision>40</cp:revision>
  <dc:subject/>
  <dc:title>Hypermedia/Time-based Structuring Language (HyTime)</dc:title>
</cp:coreProperties>
</file>