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17B7-2E7B-4E95-A9D2-70C997CAA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3762-E724-4925-A212-950939967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5CD2-345A-4ED5-9A13-C1B34F39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979D-CC6C-4C5F-837A-DA2D28F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5DF6F-7F01-4580-BF2C-A1B6B2D1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2D40-C0EC-41A1-81D0-89F9734A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F097-B9CC-475D-9558-67FCC5F1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6EDB-D63F-47D1-B609-D8F7EC5E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7D9A-FE88-46D9-B8C7-F5B390E5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4125-E8D5-43E3-8058-8F732E65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F255-325A-4469-AD9C-168806DA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5F79-1AFB-4691-AE7B-E23BFF4C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7349-7E60-4B1D-AC6B-FD85F1D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B7BFD-36CF-41F6-8066-3B054AE1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AA57-CB70-4B54-B5A6-306FAAE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1C5A-68AB-487B-9EED-B3EFD25A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611B-E809-4B12-984C-BD400D51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7832-5E34-48DD-AB4E-6E4F9DC5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B8D4-9A49-4F45-8655-46683F3A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054C-40FD-432C-B7AB-6F4D18F1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2EEF-C5E7-49A7-87C2-7ED65ACC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7934-7A66-4B42-8F3F-F7895975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7F48-0211-4743-AA41-2EDA54A1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9783-CDF8-4940-BCA5-2919938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CB32B-0EBB-4622-9EB0-4157F6D6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B8FE-4155-4375-89D8-1980C0C8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9596-D507-41C8-8903-6CF772101C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D71D-B3CB-431A-96AE-C21855470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Hypermedia/Time-based Structuring Language (HyTime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S 525 Proje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in Na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sing Hy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477040" cy="397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3429000" y="2581200"/>
            <a:ext cx="5477040" cy="3971880"/>
          </a:xfrm>
          <a:prstGeom prst="rect">
            <a:avLst/>
          </a:prstGeom>
          <a:ln w="0">
            <a:noFill/>
          </a:ln>
        </p:spPr>
      </p:pic>
      <p:sp>
        <p:nvSpPr>
          <p:cNvPr id="15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86FF-EBA8-4FF6-A9DB-4855A61B66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yTim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and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of Hy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0220-96E8-46D3-B317-94F0C299F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ewcomb, Steven R.  “Multimedia Interchange Using SGML/HyTime Part I: Structures,” IEEE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ewcomb, Steven R.  “Multimedia Interchange Using SGML/HyTime Part II: Principles and Applications,” IEEE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Goldfarb, Charles F.  “HyTime: A Standard for Structured Hypermedia Interchange,”  IBM Almaden Research Center,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ewcomb, Steven R., Kipp, Neill A., Newcomb, Victoria T. “The HyTime Hypermedia/Time-based Document Structuring Language,” Communications of the ACM,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rr, L. A., Barron, D. W., Davis, H. C., and Hall, W. “Why use HyTime?,” University of Nottingham, 19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formation technology – Hypermedia/Time-based Structuring Language (HyTime), Internal Organization for Standardization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ord, John F., “Evaluating HyTime: An Examination and Implementation Experience,” ACM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C743-50E6-4BF8-A787-9553178956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con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/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Application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EFC9-9997-468F-8DF1-A13FC2500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y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yTime is a way to represent hypertext, multimedia, hypermedia, and time-based documents in a standar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yTime is a markup language that extends Standard Generalized Markup Language (SG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EBF0-B1A1-4C3B-A631-0446474E4B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s of Hy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Time is not an applicatio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yTime is not a document archite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0162-6373-43FD-B133-55B007EA6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ore Information about Hy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Time provides standards for specifying interconnections within or between documents and other information obje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Time also provides standards for scheduling multimedia information in time and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se functionalities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B8AA-547D-4A09-A35F-FB679EBD3C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Tim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address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ition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EED2-9D27-41F9-BBDB-4F0F78599F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Hy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Time is a hypermedia representation standard that is application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Time is an international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Time can aid in tying repositories of document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86AA-45E9-49C0-B707-002EB4B81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ations/Drawbacks of HyTi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products that support SGML/Hy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built in “default”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ring can be probl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A397-5710-4B44-B343-7CBDB3E01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Applications of Hy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fense sector – the Department of Defense use for Interactive Electronic Technical Manuals (IETM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rporate use – the Pinnacles Initiative and corporate interna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ndard Music Description Language (SMD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F6D2-C378-4B8F-A7D8-E8C20933B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4:32:04Z</dcterms:created>
  <dc:creator>FullName</dc:creator>
  <dc:description/>
  <dc:language>en-US</dc:language>
  <cp:lastModifiedBy>EAS</cp:lastModifiedBy>
  <dcterms:modified xsi:type="dcterms:W3CDTF">2008-05-07T21:34:58Z</dcterms:modified>
  <cp:revision>40</cp:revision>
  <dc:subject/>
  <dc:title>Hypermedia/Time-based Structuring Language (HyTime)</dc:title>
</cp:coreProperties>
</file>