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496-4C5B-4F6C-A4FA-13E00C94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6B4-D3C2-411E-A17F-506A5D9A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D6D-498D-4590-8919-9BB8F211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A05-84DB-4A45-A3AA-D992E80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1476-8A13-4F77-B06F-DE832DF2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7964-2B9F-4001-A659-D929EF26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5177-08E4-4DE4-8888-5744246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B877-74FF-4CE7-8234-CAF19CA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DFB2-0AD2-4EC7-8590-BA52A53F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6432-CF65-4AD0-AEC0-5ECBDD48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C4AB-6BBA-47F8-A73A-F2E1709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216-DF9F-4E81-BAA3-71B8D4E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43C6-5E31-4ECB-903E-BF26E0F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6791-9DB0-4595-8913-884887B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C740-4081-41BE-999D-D31C226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F764-1EB1-4B74-B199-F40DF49E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0D8-C7AB-4684-BBA7-8BDFB02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B17-1E72-41B1-9F7B-89A9186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502-6A9E-4B54-89A0-5DA6AE4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765-F728-450D-82DC-A5EC190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A4C-59AC-45AB-87E0-E16891D4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42C-1298-4B62-A346-41F7DCD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BF6-1AC5-4E54-B1F8-8E13AF2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AF8-40DE-411B-9A21-376C9AB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076D-2703-48AD-8784-7975CB092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FEF-8F94-4684-AC89-1CAC288752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defensereview.com/modules.php?name=News&amp;file=article&amp;sid=903" TargetMode="External"/><Relationship Id="rId6" Type="http://schemas.openxmlformats.org/officeDocument/2006/relationships/hyperlink" Target="http://www.defensereview.com/modules.php?name=News&amp;file=article&amp;sid=903" TargetMode="External"/><Relationship Id="rId7" Type="http://schemas.openxmlformats.org/officeDocument/2006/relationships/hyperlink" Target="http://www.defensereview.com/modules.php?name=News&amp;file=article&amp;sid=903" TargetMode="External"/><Relationship Id="rId8" Type="http://schemas.openxmlformats.org/officeDocument/2006/relationships/hyperlink" Target="http://www.defensereview.com/modules.php?name=News&amp;file=article&amp;sid=903" TargetMode="External"/><Relationship Id="rId9" Type="http://schemas.openxmlformats.org/officeDocument/2006/relationships/hyperlink" Target="http://www.defensereview.com/modules.php?name=News&amp;file=article&amp;sid=903" TargetMode="External"/><Relationship Id="rId10" Type="http://schemas.openxmlformats.org/officeDocument/2006/relationships/hyperlink" Target="http://www.defensereview.com/modules.php?name=News&amp;file=article&amp;sid=903" TargetMode="External"/><Relationship Id="rId11" Type="http://schemas.openxmlformats.org/officeDocument/2006/relationships/hyperlink" Target="http://www.defensereview.com/modules.php?name=News&amp;file=article&amp;sid=903" TargetMode="External"/><Relationship Id="rId12" Type="http://schemas.openxmlformats.org/officeDocument/2006/relationships/image" Target="../media/image4.png"/><Relationship Id="rId13" Type="http://schemas.openxmlformats.org/officeDocument/2006/relationships/hyperlink" Target="http://www.ece.tufts.edu/research/wisenet/Projects/EE194-2005-           Projects/1Joe&amp;Wing&apos;s Presentation/Presentation01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http://www.shotspotter.com/" TargetMode="External"/><Relationship Id="rId16" Type="http://schemas.openxmlformats.org/officeDocument/2006/relationships/hyperlink" Target="http://www.shotspotter.com/" TargetMode="External"/><Relationship Id="rId17" Type="http://schemas.openxmlformats.org/officeDocument/2006/relationships/hyperlink" Target="http://www.shotspotter.com/" TargetMode="External"/><Relationship Id="rId18" Type="http://schemas.openxmlformats.org/officeDocument/2006/relationships/image" Target="../media/image4.png"/><Relationship Id="rId19" Type="http://schemas.openxmlformats.org/officeDocument/2006/relationships/hyperlink" Target="http://www.defenseindustrydaily.com/antisniper-systems-finding-their-range-01437/" TargetMode="External"/><Relationship Id="rId20" Type="http://schemas.openxmlformats.org/officeDocument/2006/relationships/image" Target="../media/image4.png"/><Relationship Id="rId21" Type="http://schemas.openxmlformats.org/officeDocument/2006/relationships/hyperlink" Target="http://www.defense-update.com/products/s/sads.htm" TargetMode="External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niper Tracking With Wireless Sensor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, Technology Advancement and Current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70360" y="636120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30A-21AE-4939-9EC4-52A2B82DCB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Sniper Detection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219320"/>
          <a:ext cx="7238880" cy="487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2388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84F-509B-44A9-8867-8EF654F813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Spot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mer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mall Arms Detection System SA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Weapon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-Sniper integrated with DARPA Crosshai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Robot Enhanced Detection Outpost With Lasers - RED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F6B-4EA9-4F45-B7B6-B7C726AC8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and Impr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can we keep doing it this way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1’ Events Prompted Accelerated Development and Delivery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iper Threats Have Changed Dra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nd Toward Fully Automated Systems with Operator Control to Engage Th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inator” Type Systems Possible But Not Probable Due to ‘Rules of Engag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66B-0410-48E5-87A7-A004404A6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mer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14293" descr="Image 1 of 6 from Vehicle-mounted Acoustic Sniper Detection System"/>
          <p:cNvPicPr/>
          <p:nvPr/>
        </p:nvPicPr>
        <p:blipFill>
          <a:blip r:embed="rId2"/>
          <a:stretch/>
        </p:blipFill>
        <p:spPr>
          <a:xfrm>
            <a:off x="1219320" y="2286000"/>
            <a:ext cx="592452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94C-3C72-4E66-BA3F-97652985C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The SADS display shows directions (bearing and elevation) of small arms firing sources, identified by their characteristic acoustic signature"/>
          <p:cNvPicPr/>
          <p:nvPr/>
        </p:nvPicPr>
        <p:blipFill>
          <a:blip r:embed="rId2"/>
          <a:stretch/>
        </p:blipFill>
        <p:spPr>
          <a:xfrm>
            <a:off x="1600200" y="213372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B15-F323-4EDB-BC6B-B9A0E337B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pon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EAA-81BD-46BC-90C7-EC48C90DE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] The 29 Palms Experiment: Tracking vehicles with a UAV-delivered sensor network.tinyos.millennium.berkeley.edu/29Palms.ht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 Sniper Localization - G. Simon, A. Ledezczi, and M. Maroti. Sensor Network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Countersniper System.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. Sen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Baltimore, USA, November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3] W. M. Meriall, F. Newberg, K. Sohrabi, W. Kaiser, and G. Pottie. Collaborative Networking Requirements for Unattended Ground Sensor Systems.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. IEEE Aerospace Confer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ch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4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www.defensereview.com/modules.php?name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=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News&amp;file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=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article&amp;sid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1"/>
              </a:rPr>
              <a:t>=9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5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3"/>
              </a:rPr>
              <a:t>http://www.ece.tufts.edu/research/wisenet/Projects/EE194-2005-        Projects/1Joe&amp;Wing's%20Presentation/Presentation01.ppt#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6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http://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6"/>
              </a:rPr>
              <a:t>www.shotspotter.com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7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9"/>
              </a:rPr>
              <a:t>http://www.defenseindustrydaily.com/antisniper-systems-finding-their-range-01437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8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1"/>
              </a:rPr>
              <a:t>http://www.defense-update.com/products/s/sad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0AE-FA6F-4F37-9AAD-45CA3398C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Space – Challenge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In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ive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niper Detec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et and WS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283-4912-4573-ABC8-B51051575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lued Emerg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s Lives From Terrorist A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cina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rofile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1’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ing a Deadly Th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BBD-C514-49CE-99A1-6550B8C13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Space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Hoc, Multihop, Unpartitioned Network of Largely Homogeneous, Tiny, Resource-constrained, Mostly Immobile Sensor N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Discussing and Structuring Coordinated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Duplicate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Flexi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0C8-BDE8-43A9-B3AC-986C25985D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ipers Are a Deadly Th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field and Urban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ystems of Detection L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 Reaches Target Long Before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actical Method to Localize Sni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WSN Systems Still Needed Research and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6B3-ADA8-4DEB-BF59-31F4E7869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and Impr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te Sniper Loc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, Size, Resources a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844-4999-44B5-8977-FD8F0E9374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/Improvement - cont’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Ent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987-08FF-4099-AEFB-52135D27AD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fic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 Localization and D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l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/Static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Sens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B77-8489-4D28-8505-683308DCAA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mplem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– Infrared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– Micro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ckwave – Pressure Sen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s – Laser Ref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zzle – Blast and Fl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Assisted Satellite Surveil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Gu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B70-FFBE-479F-AF25-1038A30C16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3:23:57Z</dcterms:created>
  <dc:creator>Machine1</dc:creator>
  <dc:description/>
  <dc:language>en-US</dc:language>
  <cp:lastModifiedBy>Machine1</cp:lastModifiedBy>
  <dcterms:modified xsi:type="dcterms:W3CDTF">2008-05-11T04:44:06Z</dcterms:modified>
  <cp:revision>7</cp:revision>
  <dc:subject/>
  <dc:title>Sniper Tracking With Wireless Sensor Net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