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903-1FF3-4657-A540-CEA6B6A9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4D6-E3E4-4224-8D80-774E7C05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B41-FD2B-4D20-B67F-A7EBE7CC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CAA0-53DF-42C0-998C-EF92B11A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A7EB-A172-4C1B-B40E-AF38BE48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80D5-716B-4CDB-B2EC-270C3696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BC79-366B-45C8-A64B-E6534F93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2EC6-8BF7-40CD-A24E-60A63ACA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C285-1FF9-4D39-B479-8DAD305B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BFFE-91B4-4DC0-85C2-11E24625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402C-B3C2-49C7-99F1-D8E307A2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48A-C5EE-4113-85EC-8927A04C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C9F7-AB58-449C-9E5E-4A1962B9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3701-3149-4843-88A9-AE91B9B2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E923-E49D-4388-A4EF-8054AEBE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1600-E176-44E8-AA09-1AE5B105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BA98-636E-43AA-A40C-0EDF842B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DBF-66E7-4504-B5DF-A5243368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B4B-3CF4-4D31-8B4F-E69A3B0D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839-3ADC-4C86-9E97-6BF8E7DB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DAF7-0CC1-418B-B22A-B838E3E5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D4A-B302-486A-BD18-95464A2D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6AE-BCA6-4C61-8BB9-1DE4FFB8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A87-7B48-4ABD-A0B0-F4A44148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8453-F05C-422B-8489-5EFCFCD94E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F51B-A41E-4C7E-B0E8-1D897684C2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://www.defensereview.com/modules.php?name=News&amp;file=article&amp;sid=903" TargetMode="External"/><Relationship Id="rId6" Type="http://schemas.openxmlformats.org/officeDocument/2006/relationships/hyperlink" Target="http://www.defensereview.com/modules.php?name=News&amp;file=article&amp;sid=903" TargetMode="External"/><Relationship Id="rId7" Type="http://schemas.openxmlformats.org/officeDocument/2006/relationships/hyperlink" Target="http://www.defensereview.com/modules.php?name=News&amp;file=article&amp;sid=903" TargetMode="External"/><Relationship Id="rId8" Type="http://schemas.openxmlformats.org/officeDocument/2006/relationships/hyperlink" Target="http://www.defensereview.com/modules.php?name=News&amp;file=article&amp;sid=903" TargetMode="External"/><Relationship Id="rId9" Type="http://schemas.openxmlformats.org/officeDocument/2006/relationships/hyperlink" Target="http://www.defensereview.com/modules.php?name=News&amp;file=article&amp;sid=903" TargetMode="External"/><Relationship Id="rId10" Type="http://schemas.openxmlformats.org/officeDocument/2006/relationships/hyperlink" Target="http://www.defensereview.com/modules.php?name=News&amp;file=article&amp;sid=903" TargetMode="External"/><Relationship Id="rId11" Type="http://schemas.openxmlformats.org/officeDocument/2006/relationships/hyperlink" Target="http://www.defensereview.com/modules.php?name=News&amp;file=article&amp;sid=903" TargetMode="External"/><Relationship Id="rId12" Type="http://schemas.openxmlformats.org/officeDocument/2006/relationships/image" Target="../media/image4.png"/><Relationship Id="rId13" Type="http://schemas.openxmlformats.org/officeDocument/2006/relationships/hyperlink" Target="http://www.ece.tufts.edu/research/wisenet/Projects/EE194-2005-           Projects/1Joe&amp;Wing&apos;s Presentation/Presentation01.ppt" TargetMode="External"/><Relationship Id="rId14" Type="http://schemas.openxmlformats.org/officeDocument/2006/relationships/image" Target="../media/image4.png"/><Relationship Id="rId15" Type="http://schemas.openxmlformats.org/officeDocument/2006/relationships/hyperlink" Target="http://www.shotspotter.com/" TargetMode="External"/><Relationship Id="rId16" Type="http://schemas.openxmlformats.org/officeDocument/2006/relationships/hyperlink" Target="http://www.shotspotter.com/" TargetMode="External"/><Relationship Id="rId17" Type="http://schemas.openxmlformats.org/officeDocument/2006/relationships/hyperlink" Target="http://www.shotspotter.com/" TargetMode="External"/><Relationship Id="rId18" Type="http://schemas.openxmlformats.org/officeDocument/2006/relationships/image" Target="../media/image4.png"/><Relationship Id="rId19" Type="http://schemas.openxmlformats.org/officeDocument/2006/relationships/hyperlink" Target="http://www.defenseindustrydaily.com/antisniper-systems-finding-their-range-01437/" TargetMode="External"/><Relationship Id="rId20" Type="http://schemas.openxmlformats.org/officeDocument/2006/relationships/image" Target="../media/image4.png"/><Relationship Id="rId21" Type="http://schemas.openxmlformats.org/officeDocument/2006/relationships/hyperlink" Target="http://www.defense-update.com/products/s/sads.htm" TargetMode="External"/><Relationship Id="rId2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niper Tracking With Wireless Sensor Net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llenges, Technology Advancement and Current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70360" y="6361200"/>
            <a:ext cx="33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FCE0-74E2-4EB7-9887-287432FA25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Sniper Detection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14400" y="1219320"/>
          <a:ext cx="7238880" cy="4876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2388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FED-D0DF-41DB-91FB-995BC2BA02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Implemen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tSpot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mer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mall Arms Detection System SA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WeaponW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C-Sniper integrated with DARPA Crosshai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Robot Enhanced Detection Outpost With Lasers - REDO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7379-9470-49AF-B26A-AD7C6EAD76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 and Improv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 can we keep doing it this way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11’ Events Prompted Accelerated Development and Delivery of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iper Threats Have Changed Dras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nd Toward Fully Automated Systems with Operator Control to Engage Th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inator” Type Systems Possible But Not Probable Due to ‘Rules of Engageme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33C-71A9-40FC-A594-E5AEF1B597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Implementat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’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mer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14293" descr="Image 1 of 6 from Vehicle-mounted Acoustic Sniper Detection System"/>
          <p:cNvPicPr/>
          <p:nvPr/>
        </p:nvPicPr>
        <p:blipFill>
          <a:blip r:embed="rId2"/>
          <a:stretch/>
        </p:blipFill>
        <p:spPr>
          <a:xfrm>
            <a:off x="1219320" y="2286000"/>
            <a:ext cx="592452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8B5-1A56-4D77-8E25-9E5B2C26EF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Implementat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’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The SADS display shows directions (bearing and elevation) of small arms firing sources, identified by their characteristic acoustic signature"/>
          <p:cNvPicPr/>
          <p:nvPr/>
        </p:nvPicPr>
        <p:blipFill>
          <a:blip r:embed="rId2"/>
          <a:stretch/>
        </p:blipFill>
        <p:spPr>
          <a:xfrm>
            <a:off x="1600200" y="2133720"/>
            <a:ext cx="556272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FEC-B88A-4B5A-91ED-089052F761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Implementat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’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ponW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380988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6F87-02AE-4DDC-9523-70001EC860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1] The 29 Palms Experiment: Tracking vehicles with a UAV-delivered sensor network.tinyos.millennium.berkeley.edu/29Palms.ht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 Sniper Localization - G. Simon, A. Ledezczi, and M. Maroti. Sensor Network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Countersniper System. I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c. Sen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Baltimore, USA, November 20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3] W. M. Meriall, F. Newberg, K. Sohrabi, W. Kaiser, and G. Pottie. Collaborative Networking Requirements for Unattended Ground Sensor Systems. I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c. IEEE Aerospace Confere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March 200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4]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www.defensereview.com/modules.php?name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=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8"/>
              </a:rPr>
              <a:t>News&amp;file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9"/>
              </a:rPr>
              <a:t>=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0"/>
              </a:rPr>
              <a:t>article&amp;sid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1"/>
              </a:rPr>
              <a:t>=9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5]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3"/>
              </a:rPr>
              <a:t>http://www.ece.tufts.edu/research/wisenet/Projects/EE194-2005-        Projects/1Joe&amp;Wing's%20Presentation/Presentation01.ppt#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6]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5"/>
              </a:rPr>
              <a:t>http://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6"/>
              </a:rPr>
              <a:t>www.shotspotter.com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7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7]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9"/>
              </a:rPr>
              <a:t>http://www.defenseindustrydaily.com/antisniper-systems-finding-their-range-01437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8]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21"/>
              </a:rPr>
              <a:t>http://www.defense-update.com/products/s/sads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997-96E2-4140-AB27-C932A3C9B2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Space – Challenges and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ground Inform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ive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Sniper Detec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et and WS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A31-C39E-4600-BA48-6AFBA910B8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ing Top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alued Emerging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s Lives From Terrorist Activ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cinating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Profile 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11’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ing a Deadly Th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9C57-407B-42ED-99DA-B6A3C4C894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Space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 Hoc, Multihop, Unpartitioned Network of Largely Homogeneous, Tiny, Resource-constrained, Mostly Immobile Sensor N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Discussing and Structuring Coordinated Resear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Duplicate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Flexible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9F5-4468-4E9F-A5D1-FAC472771B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ipers Are a Deadly Th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lefield and Urban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Systems of Detection L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let Reaches Target Long Before 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ractical Method to Localize Sni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WSN Systems Still Needed Research and 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9CBB-F6D4-4AC6-B53E-90149A3086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 and Impr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urate Sniper Loc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, Size, Resources and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gene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M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Top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D469-3947-4F46-9DC1-A28834F6D9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earch/Improvement - cont’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ware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on Challe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-time 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Ent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3AF-BB81-4906-BE32-1C32171247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fic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or Localization and Den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al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namic/Static Senso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ing Sens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DF7-0D99-46C7-864F-79BBC0DCCE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Implemen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 – Infrared Came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– Microph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ckwave – Pressure Sen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cs – Laser Ref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zzle – Blast and Fl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Assisted Satellite Surveil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t Gue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dova        Sniper Tracking with Wireless Sensor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67E-D412-4695-8249-E322AA8CDB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03:23:57Z</dcterms:created>
  <dc:creator>Machine1</dc:creator>
  <dc:description/>
  <dc:language>en-US</dc:language>
  <cp:lastModifiedBy>Machine1</cp:lastModifiedBy>
  <dcterms:modified xsi:type="dcterms:W3CDTF">2008-05-11T04:44:06Z</dcterms:modified>
  <cp:revision>7</cp:revision>
  <dc:subject/>
  <dc:title>Sniper Tracking With Wireless Sensor Networ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