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366-5793-447B-8D73-81706AAB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935-6D91-4180-8467-755D1708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DE7-8EDF-4A06-9D02-38694B6C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278-251A-44A3-AF60-B11C9FD8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08EF-4DDC-4BDF-9346-F8B5C023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E54-48CF-4D7F-A138-F38735FF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4D7E-E5BF-4A58-B9D1-8B642737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1872-AA78-43D3-AE87-28C51FF8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FD96-FED1-429D-8656-4441E49A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A197-7715-490F-B33E-F3DC60D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4BF8-B82C-4DF0-8623-C09F705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9AB-0746-4BE3-9A74-7AF6CE4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E7EF-029C-4691-BB0D-A9D97D0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8E35-11DE-40FB-A3DE-BCED1A3D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961F-A301-4A0B-80C7-EFD991E4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DFDB-C84B-4D86-91CA-1EC1A7FE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9169-99A0-460E-825E-17A52171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944-A02C-4051-9532-A693667D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B6A-FB45-4B80-A55C-11A5806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F15-E1B5-40BA-B106-C1F6540F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2DE-D1E4-4FB9-B536-ED1E92A1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9EA-B5FF-4FCD-911C-6D7C7A7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C31-5D82-40F2-BB88-8ADB3D1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1B2-ABD3-4171-BD63-D1F354A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0DE1-CFF7-4F79-BD91-3625BA30E4C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118-B7F3-4E75-A4DB-0F6BA007DF4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ireless.java.sun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udy of Tools &amp; Utilities in Mobile Applic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Kunal Bel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B69E-AB25-4B4E-8AE3-7DABDC3B08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8680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241-D5CD-4F1D-B78F-A699ADBB9B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789280" cy="5257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6668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262-F8F6-4A65-B4E5-A62ABDE4DDB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819520" cy="5257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26668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933-C5DB-4713-9F80-279D5DFD57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imp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895480" cy="5334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28954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907-8853-40F6-BC40-C28C5F202D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ireless.java.sun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netbeans.org/community/releases/41/relnotes-mobility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eclipseme.org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dimac.net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javasmslib.sourceforge.net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mpowerplayer.com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objectxp.com/en/products/jsms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ttp://www.infosyncworld.com/news/n/3490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ttp://www.softwired-inc.com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ttp://www.pointbase.com/products/micro.asp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6C0-E985-4FAA-84AE-36ED414D6E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 of the Tal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bout Mobile Applica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pplication Platfor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DE’s mostly used for the application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vailable Java Tools for different Mobile Applica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imple Mobile Application I carried out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FF7-7C1F-4EE8-ABEB-22C21A7923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bout Mobile Appl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bile Applications :: Applications developed for small devices like pagers, mobile phones and TV set-top box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ill be focusing on java-based applications for mobile phon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536-A130-4F52-89ED-F9C792711E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a ME(J2ME) Plat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a collection of Java APIs for the development of applications for small devices such as cell phones, PDA’s and set-top box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portability of applic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92A-4037-4160-AE60-E6F1810B38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DE’s used for Mobile Applic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tbeans Mobility Pac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Offers visual design of application flow with drag-and-drop creation of application U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Just need to add application logic to an automatically generated Java co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lipse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Provides with set of tools for creating, testing and packaging MIDle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BDC-6E5F-4D6F-808F-53A18BF627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JMail ::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Used to send and retrieve e-mail from the web site without a mail program or a mail server such as Eudora, Exchange or Outlook.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Can be used by developers to send e-mail from their ASP code or Windows program.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Also has encryption and advanced mass-mailing features.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JMailServer ::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 Used to build the web based email service. 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Easy Plug and Mail installation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eaeaea"/>
                </a:solidFill>
                <a:latin typeface="Arial"/>
              </a:rPr>
              <a:t>- An extensive administrative GUI, to an ability to offer the customers to set up an alias from their private email account to their system, when in need of a web interface. 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284-B562-44EF-80DC-044AB98A81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va SMS Library :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 multi purpose library that sends sms, images, mms and ringtones over TCP/IP, modem or direct cable connection to a GSM pho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powerplayer 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Is a MIDP (Mobile Information Device Profile) runtime written in pure Java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Is as an appletviewer for MIDlet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Used for the mobile gaming applica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858-A9DB-4D2C-8BF5-5F8C1A06FE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143000"/>
            <a:ext cx="8226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jSMS ::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A Java API sending and receiving SMS, MMS and 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ingtone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wide range of communication protocols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Nokia’s SmartMessaging Specificatio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eqwireless WebViewer :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A Web browser for J2ME MIDP device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HTML along with GIF and JPEG imag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It’s size is 48K as a JAR file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- Supports the following features: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ML, including forms and image maps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GIF, JPEG, PNG, and BMP images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TP, FTP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TP cookies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HTTPS (if supported by the device)</a:t>
            </a:r>
            <a:br>
              <a:rPr sz="2200"/>
            </a:b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* Bookmarks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B42-82A5-42E0-9F5C-CB8CD21E33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Java Tools for Mobile Appli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990720"/>
            <a:ext cx="8226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Bus//Mobile - JMS solution for mobile de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Connects J2ME applications on mobile devi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aight-through to the J2EE application serv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The communication models are end-to-end JM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ssage queuing, publish/subscribe, and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quest/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intBase Micro :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A very small (45KB) RDBMS based on the J2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 J2SE architectur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Operates on the JDBC API and the SQ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Provides a pure Java database for app’s running on a range of Internet appliances and smart devic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bele/cs5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915-8593-4902-86B2-69B90C20C1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/07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8:03:44Z</dcterms:created>
  <dc:creator>Oracle</dc:creator>
  <dc:description/>
  <dc:language>en-US</dc:language>
  <cp:lastModifiedBy>Oracle</cp:lastModifiedBy>
  <dcterms:modified xsi:type="dcterms:W3CDTF">2008-05-07T21:43:55Z</dcterms:modified>
  <cp:revision>36</cp:revision>
  <dc:subject/>
  <dc:title>Study of Tools &amp; Utilities in Mobile Application</dc:title>
</cp:coreProperties>
</file>