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8CB8-F552-42DD-83AE-EE090791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9E22-9164-4E83-90AC-EBACD41A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525C-AA15-4F72-B948-518B6CDBB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E2FF-1CFE-42E9-8D36-75DF19BD8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0012-75C5-4A7E-A489-3AC2D77C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96BE-D6B2-4368-AF4E-16149726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73F2-DCB3-44BD-9D90-82C6A7DF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2D36-D79A-48FB-A7D2-2CCBB913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082D-88CB-4A43-BC85-61FC4CAA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7279-8BA3-4356-BD37-D4B4E975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FC53-5522-4ED3-BEFD-31D72D86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317A-40AC-469E-9880-C948CB98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D4BF-E7B5-437B-8D44-FDDC8417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6FA9-5F59-42CF-823E-DE713488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AB6C-3642-41DB-829A-0C386CE7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113B-D5E2-4256-952C-CE781C2F7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A8F1-63AC-45E8-A7EF-4A7A30AE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374B-056A-4E8E-9E13-BB6606A6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FF31-736F-4BC1-922A-C05ED54D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CD84-AB45-4394-9FF5-E81D16CD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7487-78A0-4964-A335-079119FA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0B8D-E320-4A8D-9432-35B69E59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76C5-E003-4723-B640-423A9954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C06D-965E-4156-9402-D16D1BB5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B5BC-3B7B-447C-828E-7E39A31B47DD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E5F3-9B5F-434E-A70E-767C85917CA4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ireless.java.sun.com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tudy of Tools &amp; Utilities in Mobile Applicat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Kunal Bel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kbele/cs5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881F-3C86-4672-8D2B-DF7BE66818C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5/07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Simple Appli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686800" cy="52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bele/cs5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2955-5981-4C52-934F-132D487CCC8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7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Simple Appli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2789280" cy="52578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257800" y="1295280"/>
            <a:ext cx="266688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bele/cs5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3F0B-8E66-4647-AC02-201C594A11D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7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Simple Appli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819520" cy="52578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266688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bele/cs5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0D09-0D30-4B96-A516-9F2EF6C0BCC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7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Simple Appli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2895480" cy="53341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5257800" y="1219320"/>
            <a:ext cx="289548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bele/cs5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241C-CB19-42DD-AB7B-5CF6E19C443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7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226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://wireless.java.sun.co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http://www.netbeans.org/community/releases/41/relnotes-mobility.htm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http://eclipseme.org/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http://www.dimac.net/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http://javasmslib.sourceforge.net/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http://www.mpowerplayer.com/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http://www.objectxp.com/en/products/jsms/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http://www.infosyncworld.com/news/n/3490.htm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ttp://www.softwired-inc.com/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ttp://www.pointbase.com/products/micro.aspx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bele/cs5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7F5A-2EC9-4E69-A172-2C75D310C72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7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utline of the Tal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bout Mobile Applicatio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pplication Platform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IDE’s mostly used for the application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vailable Java Tools for different Mobile Applicatio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 Simple Mobile Application I carried out.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bele/cs5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CA60-C927-4BD3-A0B7-E36EFA98B2D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7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bout Mobile Appli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obile Applications :: Applications developed for small devices like pagers, mobile phones and TV set-top boxe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ill be focusing on java-based applications for mobile phone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bele/cs5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F424-61CC-4EBA-8501-B9595F7563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7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ava ME(J2ME) Platfo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vides a collection of Java APIs for the development of applications for small devices such as cell phones, PDA’s and set-top box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pen Sour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vides portability of applic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bele/cs5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4CDB-5508-418C-B8FD-FB978056DB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7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DE’s used for Mobile Applicati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tbeans Mobility Pac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Offers visual design of application flow with drag-and-drop creation of application U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Just need to add application logic to an automatically generated Java cod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clipse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Provides with set of tools for creating, testing and packaging MIDle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bele/cs5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DEAD-8B9E-4C47-A773-47EC32E7C2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7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Java Tools for Mobile Appli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066680"/>
            <a:ext cx="8226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JMail :: 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- Used to send and retrieve e-mail from the web site without a mail program or a mail server such as Eudora, Exchange or Outlook. 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-Can be used by developers to send e-mail from their ASP code or Windows program.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- Also has encryption and advanced mass-mailing features. 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JMailServer :: 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-  Used to build the web based email service.  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- Easy Plug and Mail installation 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- An extensive administrative GUI, to an ability to offer the customers to set up an alias from their private email account to their system, when in need of a web interface. 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bele/cs5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E9D6-6005-4BD6-B3A4-E7473319C20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7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Java Tools for Mobile Appli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219320"/>
            <a:ext cx="8226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ava SMS Library :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A multi purpose library that sends sms, images, mms and ringtones over TCP/IP, modem or direct cable connection to a GSM phon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powerplayer :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Is a MIDP (Mobile Information Device Profile) runtime written in pure Java.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Is as an appletviewer for MIDlet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Used for the mobile gaming applicatio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bele/cs5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C485-4583-4284-AC00-27AF574767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7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Java Tools for Mobile Appli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143000"/>
            <a:ext cx="8226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jSMS ::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- A Java API sending and receiving SMS, MMS and 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ringtones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- Supports wide range of communication protocols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- Supports Nokia’s SmartMessaging Specification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Reqwireless WebViewer ::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- A Web browser for J2ME MIDP devices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- Supports HTML along with GIF and JPEG images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- It’s size is 48K as a JAR file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- Supports the following features:</a:t>
            </a:r>
            <a:br>
              <a:rPr sz="2200"/>
            </a:b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* HTML, including forms and image maps</a:t>
            </a:r>
            <a:br>
              <a:rPr sz="2200"/>
            </a:b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* GIF, JPEG, PNG, and BMP images</a:t>
            </a:r>
            <a:br>
              <a:rPr sz="2200"/>
            </a:b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* HTTP, FTP</a:t>
            </a:r>
            <a:br>
              <a:rPr sz="2200"/>
            </a:b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* HTTP cookies</a:t>
            </a:r>
            <a:br>
              <a:rPr sz="2200"/>
            </a:b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* HTTPS (if supported by the device)</a:t>
            </a:r>
            <a:br>
              <a:rPr sz="2200"/>
            </a:b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* Bookmarks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bele/cs5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87A4-CAA4-46ED-9F8D-0E1314B77F9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7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Java Tools for Mobile Appli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0880" y="990720"/>
            <a:ext cx="82267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Bus//Mobile - JMS solution for mobile devic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- Connects J2ME applications on mobile devic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raight-through to the J2EE application serv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- The communication models are end-to-end JM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essage queuing, publish/subscribe, and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quest/respons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ointBase Micro :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- A very small (45KB) RDBMS based on the J2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d J2SE architectures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- Operates on the JDBC API and the SQ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- Provides a pure Java database for app’s running on a range of Internet appliances and smart devices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bele/cs5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D0FE-8957-47E6-9A52-7C00B99F674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7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8:03:44Z</dcterms:created>
  <dc:creator>Oracle</dc:creator>
  <dc:description/>
  <dc:language>en-US</dc:language>
  <cp:lastModifiedBy>Oracle</cp:lastModifiedBy>
  <dcterms:modified xsi:type="dcterms:W3CDTF">2008-05-07T21:43:55Z</dcterms:modified>
  <cp:revision>36</cp:revision>
  <dc:subject/>
  <dc:title>Study of Tools &amp; Utilities in Mobile Application</dc:title>
</cp:coreProperties>
</file>