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0F8-C75A-4C30-B0AF-999D8EC1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5BD-C146-4576-A741-578EBA2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D9E-9DA3-48C9-8263-C4D23BFA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6A1-0960-410A-97C1-E6CB6CE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533-5165-4859-B425-8BBEEED3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745B-20D4-404F-ADE6-284B5D9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CF5E-EDE7-404B-A09C-76681A4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1A9-BA02-47AD-B1EF-28BC0767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74CC-7DDF-4D56-9CA9-77638EE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2B9-8B59-4F8F-92DB-C3E3E69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3203-8994-4ADF-BD3D-F498EA2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995-7134-4CB5-9300-5101843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D512-AA4E-4BB7-AA53-31C30B0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9CF-8FFF-4B57-BE69-36B55D9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9EB-CDEF-403D-AFF5-54AF118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5477-6B0B-4855-80FF-BF298A6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DB7-363C-4669-A306-431AA56F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65DB8-88AC-47BB-AB55-9194D7D7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DBB85-2BAC-4D18-B396-02015ADD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D1172-18B9-45C8-8A79-37A07BD1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8F0D5-1BC7-4416-AC29-F1E42154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47C6A-FFE4-40C0-B7A9-61C5223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28D-38E8-4EB9-A80E-5B60D84C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12FB5-C24D-4074-8169-63171141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9EDC2-34D3-4CC4-A63B-E67BCDE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1FC97-D556-425A-A3DA-5BC0FAB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A9602-C737-44CB-AD89-07A44C6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15628-97DA-4F62-90E7-91C5E36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A47F4-E656-425C-AF79-69D2D2AF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69D21-3BEF-4A27-92D6-B8B697B3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CF4D-4EDC-4AD4-8690-A88D7855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F972-2499-4ABF-B7F8-AA86755D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7547-432C-409F-A41C-9AF3DD61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E6A-18B3-40ED-A19F-A453D5E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05C4-DC77-41A5-96AD-A77417F5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50CC-5865-4928-BF0B-5766236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9F10-FA00-4A16-8C9A-B290332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A96F-2A13-47BE-8F0B-33048AD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FABE-EF2A-4C5A-A49B-07DE043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76F9-1953-4A3B-BD4A-073404F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CE92-66AB-42F0-9B48-07DC1D5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AB41-DEF1-4268-B0FE-078B59C9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C4E4-E7E8-4835-AAC5-C53B06CD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A36-FCB0-4F6D-B2CC-98A50DCF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F7F-0CA2-464B-94B3-24D82DD8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FBA-C31B-45D8-9E5D-40B33EA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17E-645B-4134-AB4A-FB64F5A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BE8-CC00-4FA0-847D-D0FE819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494-34C3-4924-97B2-3C4E575238E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C34-8AF9-4175-86D2-90D602FEDD3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650-4C50-4F3A-9DFF-F08B1A86EC3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3CB3-4139-437B-8050-75FBC3FE5F7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etting to Know TiVo: The Home Media Engine (HME SDK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Eric M. Upchu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S 5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Hosting Enviro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s factory pattern to serve up appl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ach available application has a factory class that provides instances of the app to a TiVo receiv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New instances are created when a connection is established from a TiVo receiv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gle hosting environment (one JVM) can serve multiple application typ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lications are accessed via an HTTP URL request from the recei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xample: http://myPC:7788/MyTiVoApp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osting environment maps the URL to an application factory by name (e.g. MyTiVoAppFactory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stom hosting environments can be created for extensibility to server dom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Hosting Enviro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2732040" y="2249640"/>
            <a:ext cx="3679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imulato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HME SDK includes a TiVo simulator for test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Greatly facilitates rapid application developm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s like the TiVo receiv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ows you to see the view hierarchy and memory usage of applic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debugging option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verlays “safe” television area bounding box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shows the area that is safe on all televisions, including those that oversca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t a substitute for testing on a TiVo receiv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esponse speed is vastly differ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etwork latency may be differ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Vo HME is a powerful SDK for developing applications for display on TiV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nanas UI toolkit eases construction of professional looking ap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ouple of shortcoming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 HD capable alpha version has been released, but I could not get it to work.  Stuck with SD (640x480) for now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es not allow streaming of video content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 &amp; Resour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HME Software Developer Kit Developer's Guide Release 1.4.  http://tivohme.sourceforge.net/docs/hmesdk/hme-devguideTOC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Bananas UI Toolkit Developer’s Guide Release 1.3.  http://tivohme.sourceforge.net/docs/bananas/bananas-devguideTOC.html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Home Media Engine (HME) SDK Info.  http://bitrazor.com/content/tivo/hme/index.php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.  Wikipedia.  http://en.wikipedia.org/wiki/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ash demo: Getting Started with Eclipse and the TiVo HME SDK.  http://bitrazor.com/content/tivo/hme/tivo_hme_eclipse_demo1.php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Developer How-Tos.  http://bitrazor.com/content/tivo/hme/howtos/index.php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ckup Slid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In the event the demo doesn’t 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y HME Application – Intro Scre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33520" y="2249640"/>
            <a:ext cx="4622760" cy="4324320"/>
          </a:xfrm>
          <a:prstGeom prst="rect">
            <a:avLst/>
          </a:prstGeom>
          <a:ln w="0">
            <a:noFill/>
          </a:ln>
        </p:spPr>
      </p:pic>
      <p:sp>
        <p:nvSpPr>
          <p:cNvPr id="247" name="Content Placeholder 2"/>
          <p:cNvSpPr/>
          <p:nvPr/>
        </p:nvSpPr>
        <p:spPr>
          <a:xfrm>
            <a:off x="5257800" y="2249640"/>
            <a:ext cx="3429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urrently one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tend to multiple XML defined slideshows, list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Uses common TiVo look and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User selects enter or right arrow button to start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y HME Application – Slideshow Scree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58720" y="2249640"/>
            <a:ext cx="4622760" cy="43243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257800" y="2249640"/>
            <a:ext cx="3429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otos randomly change every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N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otos fade in/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sic tracks randomly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ser selects left arrow button to return to previous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Vo is a popular set-top DVR that can be connected to a home net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ough the network connection, the TiVo can access applications through a special transport protocol (the HME protoco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HME SDK facilitates development of applications that utilize the HME protoco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hoto viewer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usic player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SS feed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treaming radio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Game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tc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tiv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ed in developing TiVo apps prior to CS5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so seemed a perfect fit for the cla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atively new to TiVo, and wanted to play around with 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run several third-party applic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rious what the capabilities of the SDK 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uld not find exactly what I was looking f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photo slideshow with mus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HME Protoco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ME applications use a client/server architec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rver is a PC or possibly a server on the Interne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lient is the TiVo receiv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tocol uses a single bi-directional TCP/IP sock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nguage independ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pplications just have to communicate with TiVo via the protocol, and so could be developed in any languag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s chunked data encoding (1-65K byte chunk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ows arbitrary data size by spanning chunk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nables reader of a stream to skip to next chunk if an error occu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Archite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11160" y="2590920"/>
            <a:ext cx="92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D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complete API and developer kit for creating HME applications in Jav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aps the HME protocol into an event-driven architecture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ore or less MVC, similar to Java Swing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Vo boxes find HME applications using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Multicast DNS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mDNS/Zeroconf) an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DNS Service Discovery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DNS-SD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i="1" lang="en-US" sz="2400" spc="-1" strike="noStrike">
                <a:solidFill>
                  <a:srgbClr val="438086"/>
                </a:solidFill>
                <a:latin typeface="Georgia"/>
              </a:rPr>
              <a:t>Bonjour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, developed by Apple Comput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o network setup requir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on’t need to know IP addresses, host names, or por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DK Class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plications inherit from th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 is composed of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ew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ontainin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iew instances contain a single resource, and provide a coordinate system and transparenc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esources are (mostly) visual elements: fonts, colors, images, text, and animations.  Also sounds, music (streamed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iews are laid out to draw a screen on the TiVo receiver’s displa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556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Application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application is composed of a view hierar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oot view covers entire displa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Views can have child views, which cover some portion of the screen relative to the parent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may be invisible or zero size to accommodate non-visual elements, such as sou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can have streaming image or music (MP3)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nts notify the application as the stream is rea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imation resources provide visual effects (e.g. fade-in/ou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seful for hiding network latenc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and resources handle events sent by TiV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nanas UI Tool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Vo toolkit for building TiVo user interfa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tends the basic HME SDK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n application framework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pplications are composed of a stack of screen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vides focus management between widge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 standard widget s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utt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ex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is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Keyboar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 standardized look and fe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imilar to the base TiVo UI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34:28Z</dcterms:created>
  <dc:creator>Eric M. Upchurch</dc:creator>
  <dc:description/>
  <dc:language>en-US</dc:language>
  <cp:lastModifiedBy>Eric M. Upchurch</cp:lastModifiedBy>
  <dcterms:modified xsi:type="dcterms:W3CDTF">2008-05-06T04:17:30Z</dcterms:modified>
  <cp:revision>66</cp:revision>
  <dc:subject/>
  <dc:title>Getting to Know TiVo: The Home Media Engine</dc:title>
</cp:coreProperties>
</file>