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A8B-5B0B-429A-ADCD-D27AD3D4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8DA7-2E9A-4D8D-BAD2-4E635546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A53-E741-4AD1-8E9C-DC380B28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2216-36F9-4A77-A7E8-2C5AC8B4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91F2-1C23-4ADC-A154-29DB2CF1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DE38-037E-40AF-BED3-040BCABB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5124-218E-4930-8F71-564D90FC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9339-BF95-4376-8CBB-40B830B4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1274-88F2-4CE0-B5FD-1160F365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6545-95EE-4CFC-92F2-471E5336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24EF-4792-4338-A122-18AFAE07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B23-A0CB-4FA4-93C9-5CA6347F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F60D-CB5B-4C27-B40F-A80135A9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FC1D-ED09-4368-9307-9EE0E083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D79D-110F-4CBF-B666-03F0DF49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BFD2-C21F-4F07-8662-A578E2AA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3B99-2387-4371-B0ED-2DF79981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89062-1670-44F7-83C6-D8B39432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77169-EADF-4533-AE00-B3ED07E1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86D63-42CB-4968-AAD6-ECB509F2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27FAC-071F-49FD-9111-CD67CA10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64025-9F2F-433A-9A7C-A9404DFD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68B-9F75-41AE-AEBF-6D5DD845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62DF1-A11E-4F47-8DE4-324E3DDB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A0393-A03F-4CB1-98DB-DD3E2E69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DCEFC-CBD2-40C8-ACC4-F4EFA284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FF623-69C9-4778-9760-1C150845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C188E-AFC4-4C24-8171-FEC8901C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0B4B5-0D3C-406E-B6E8-45A1CFA9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83B80-6AFE-4106-AC30-3258DC95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C4957-EA89-4D57-B5CC-39D9121A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2F6DC-E8BD-4EF6-9998-CE6DC98C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8710B-3F6C-4FA3-B5E5-438D25F9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CF8-9731-4C2E-88C2-DB0CAC0B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0A78D-C689-42AD-9C92-89E9451F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46B31-B5EE-451B-918D-499C7E03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6D0BD-5B0C-48EA-BA50-6B6D5956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1DE87-B644-4A60-9D20-531D1A0A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CF0A7-F926-49CD-A7CC-28857A17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6D81D-3E78-4B1D-B305-E9505833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12E65-6D7C-49E5-88EC-DAC61A2A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EF8AD-61D3-4C3E-808B-7CC7C5D6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8B818-727D-42A7-A69F-4C7B1994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F46-15D4-4644-8E13-68E6CA93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002-E1AE-4872-AC93-EDF58CF7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B1C-2253-4F97-A07C-858F930E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D2D-45C4-43E0-B44E-F1486345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852-36DC-4B95-8257-8023559A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7BF0-94DB-4919-990B-A8968723C9F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F9B0-E221-48A3-BF67-39DD420E75E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55CC-7150-4970-A2AD-A877A94523F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D7D8-CF9B-421C-B65A-3060F7F9F6F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etting to Know TiVo: The Home Media Engine (HME SDK)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Eric M. Upchurc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CS 52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ME Hosting Environ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s factory pattern to serve up applic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ach available application has a factory class that provides instances of the app to a TiVo receiver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New instances are created when a connection is established from a TiVo receiver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ngle hosting environment (one JVM) can serve multiple application typ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pplications are accessed via an HTTP URL request from the receiv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xample: http://myPC:7788/MyTiVoApp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Hosting environment maps the URL to an application factory by name (e.g. MyTiVoAppFactory)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ustom hosting environments can be created for extensibility to server dom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ME Hosting Environ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6" name="Content Placeholder 3" descr=""/>
          <p:cNvPicPr/>
          <p:nvPr/>
        </p:nvPicPr>
        <p:blipFill>
          <a:blip r:embed="rId1"/>
          <a:stretch/>
        </p:blipFill>
        <p:spPr>
          <a:xfrm>
            <a:off x="2732040" y="2249640"/>
            <a:ext cx="36799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ME Simulato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HME SDK includes a TiVo simulator for testin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Greatly facilitates rapid application developmen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orks like the TiVo receive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llows you to see the view hierarchy and memory usage of applica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rovides debugging option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verlays “safe” television area bounding box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his shows the area that is safe on all televisions, including those that oversca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ot a substitute for testing on a TiVo receive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Response speed is vastly differen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Network latency may be differen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clus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iVo HME is a powerful SDK for developing applications for display on TiV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nanas UI toolkit eases construction of professional looking applic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couple of shortcoming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n HD capable alpha version has been released, but I could not get it to work.  Stuck with SD (640x480) for now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oes not allow streaming of video content!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ferences &amp; Resourc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iVo HME Software Developer Kit Developer's Guide Release 1.4.  http://tivohme.sourceforge.net/docs/hmesdk/hme-devguideTOC.htm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iVo Bananas UI Toolkit Developer’s Guide Release 1.3.  http://tivohme.sourceforge.net/docs/bananas/bananas-devguideTOC.html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iVo Home Media Engine (HME) SDK Info.  http://bitrazor.com/content/tivo/hme/index.php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iVo.  Wikipedia.  http://en.wikipedia.org/wiki/TiVo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lash demo: Getting Started with Eclipse and the TiVo HME SDK.  http://bitrazor.com/content/tivo/hme/tivo_hme_eclipse_demo1.php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iVo Developer How-Tos.  http://bitrazor.com/content/tivo/hme/howtos/index.php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ackup Slide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In the event the demo doesn’t wor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y HME Application – Intro Scre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533520" y="2249640"/>
            <a:ext cx="4622760" cy="4324320"/>
          </a:xfrm>
          <a:prstGeom prst="rect">
            <a:avLst/>
          </a:prstGeom>
          <a:ln w="0">
            <a:noFill/>
          </a:ln>
        </p:spPr>
      </p:pic>
      <p:sp>
        <p:nvSpPr>
          <p:cNvPr id="247" name="Content Placeholder 2"/>
          <p:cNvSpPr/>
          <p:nvPr/>
        </p:nvSpPr>
        <p:spPr>
          <a:xfrm>
            <a:off x="5257800" y="2249640"/>
            <a:ext cx="34290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urrently one slide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xtend to multiple XML defined slideshows, liste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Uses common TiVo look and 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User selects enter or right arrow button to start slide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y HME Application – Slideshow Scree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58720" y="2249640"/>
            <a:ext cx="4622760" cy="4324320"/>
          </a:xfrm>
          <a:prstGeom prst="rect">
            <a:avLst/>
          </a:prstGeom>
          <a:ln w="0">
            <a:noFill/>
          </a:ln>
        </p:spPr>
      </p:pic>
      <p:sp>
        <p:nvSpPr>
          <p:cNvPr id="250" name="Content Placeholder 2"/>
          <p:cNvSpPr/>
          <p:nvPr/>
        </p:nvSpPr>
        <p:spPr>
          <a:xfrm>
            <a:off x="5257800" y="2249640"/>
            <a:ext cx="34290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hotos randomly change every </a:t>
            </a:r>
            <a:r>
              <a:rPr b="0" i="1" lang="en-US" sz="2600" spc="-1" strike="noStrike">
                <a:solidFill>
                  <a:srgbClr val="438086"/>
                </a:solidFill>
                <a:latin typeface="Georgia"/>
              </a:rPr>
              <a:t>N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sec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hotos fade in/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usic tracks randomly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User selects left arrow button to return to previous scr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troduc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iVo is a popular set-top DVR that can be connected to a home networ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rough the network connection, the TiVo can access applications through a special transport protocol (the HME protocol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HME SDK facilitates development of applications that utilize the HME protoco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Photo viewer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Music player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RSS feed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Streaming radio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Game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tc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tiv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ested in developing TiVo apps prior to CS52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so seemed a perfect fit for the clas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latively new to TiVo, and wanted to play around with 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ve run several third-party applic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rious what the capabilities of the SDK a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uld not find exactly what I was looking f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 photo slideshow with music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HME Protoco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ME applications use a client/server architectur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erver is a PC or possibly a server on the Interne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lient is the TiVo receiv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rotocol uses a single bi-directional TCP/IP socke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anguage independen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pplications just have to communicate with TiVo via the protocol, and so could be developed in any language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Uses chunked data encoding (1-65K byte chunk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llows arbitrary data size by spanning chunk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nables reader of a stream to skip to next chunk if an error occur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ME Architec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-11160" y="2590920"/>
            <a:ext cx="9205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ME SD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 complete API and developer kit for creating HME applications in Jav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raps the HME protocol into an event-driven architecture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More or less MVC, similar to Java Swing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iVo boxes find HME applications using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Multicast DNS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mDNS/Zeroconf) and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DNS Service Discovery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DNS-SD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i="1" lang="en-US" sz="2400" spc="-1" strike="noStrike">
                <a:solidFill>
                  <a:srgbClr val="438086"/>
                </a:solidFill>
                <a:latin typeface="Georgia"/>
              </a:rPr>
              <a:t>Bonjour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”, developed by Apple Comput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No network setup require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Don’t need to know IP addresses, host names, or port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ME SDK Class Struc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pplications inherit from the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pplicatio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UI is composed of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View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containing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View instances contain a single resource, and provide a coordinate system and transparency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Resources are (mostly) visual elements: fonts, colors, images, text, and animations.  Also sounds, music (streamed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Views are laid out to draw a screen on the TiVo receiver’s display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1981080" y="4572000"/>
            <a:ext cx="5562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ME Application Struc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 application is composed of a view hierar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Root view covers entire display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Views can have child views, which cover some portion of the screen relative to the parent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iews may be invisible or zero size to accommodate non-visual elements, such as soun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iews can have streaming image or music (MP3) resourc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vents notify the application as the stream is read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imation resources provide visual effects (e.g. fade-in/ou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Useful for hiding network latency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iews and resources handle events sent by TiV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ananas UI Toolki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iVo toolkit for building TiVo user interfac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xtends the basic HME SDK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rovides an application framework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pplications are composed of a stack of screen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rovides focus management between widget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rovides a standard widget se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Butto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ex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Lis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Keyboar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rovides a standardized look and fe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imilar to the base TiVo UI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4:34:28Z</dcterms:created>
  <dc:creator>Eric M. Upchurch</dc:creator>
  <dc:description/>
  <dc:language>en-US</dc:language>
  <cp:lastModifiedBy>Eric M. Upchurch</cp:lastModifiedBy>
  <dcterms:modified xsi:type="dcterms:W3CDTF">2008-05-06T04:17:30Z</dcterms:modified>
  <cp:revision>66</cp:revision>
  <dc:subject/>
  <dc:title>Getting to Know TiVo: The Home Media Engine</dc:title>
</cp:coreProperties>
</file>