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xbow.com/" TargetMode="External"/><Relationship Id="rId2" Type="http://schemas.openxmlformats.org/officeDocument/2006/relationships/hyperlink" Target="http://www.thinkartificial.org/artificial-intelligence/whole-body-computer-interfaces/" TargetMode="External"/><Relationship Id="rId3" Type="http://schemas.openxmlformats.org/officeDocument/2006/relationships/hyperlink" Target="http://www.moven.com/" TargetMode="External"/><Relationship Id="rId4" Type="http://schemas.openxmlformats.org/officeDocument/2006/relationships/hyperlink" Target="http://www.vicon.com/" TargetMode="External"/><Relationship Id="rId5" Type="http://schemas.openxmlformats.org/officeDocument/2006/relationships/hyperlink" Target="http://www.motion-capture-system.com/resources/hardware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nsor-based Human Motion Track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Drew Walton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CS525 Projec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Dr. Chow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UCC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2: MIT Body Sui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367080"/>
            <a:ext cx="84772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eavy backpac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n't target single area to trac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uit may be difficult for some to put 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re is potential for accumulated errors to result in inaccurate display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43440" y="1600200"/>
            <a:ext cx="2714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3: Moven Body Sui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024080"/>
            <a:ext cx="847728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ry accura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ses only inertial sensors, immune to noi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ireless transmission of data to base PC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ody suit can be worn whole, or select upper or lower bod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es with display softwa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62720" y="1562040"/>
            <a:ext cx="22096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3: Moven Body Sui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4772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till is a suit: some people may not be able to put 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st is very high: $50,000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4: Vicon vide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847728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most accura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ses 8 special video cameras all around the person being track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 suit required! Patient wears small sensor dots for camera to pick u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splay software is very ni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ven has a language equivalent to Labanot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2523960" cy="2495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00840" y="1371600"/>
            <a:ext cx="154296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4: Vicon vide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700440"/>
            <a:ext cx="847728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ice! As much as $194,000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 lot of equip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meras and mounting gea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ceiv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 lot for a patient to set u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772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mparis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ccuracy: All have but crossbow, and MIT has cumulative err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lkiness: Vicon is best, but Moven suit is very goo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asy to wear: Vicon is dots placed using glue or velcro. Moven suit looks very good thoug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asy to use: Moven seems easies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st: Crossbow is cheapest, but it doesn't really work. MIT is next, but isn't a product ye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ftware: Vicon is best, Moven is good. MIT is from unknown sour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ferenc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xbow.com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(Crossbow Industries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hinkartificial.org/artificial-intelligence/whole-body-computer-interfaces/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(MIT Motion capture suit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moven.com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(Moven motion capture suit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vicon.com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(Vicon video motion capture system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motion-capture-system.com/resources/hardware.html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(Listing of many companies and their motion capturing technologies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vervie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cribe the reason for evaluating different types of monitoring technolog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fine requirements for consideration as a good choice for monitoring body move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troduce four technologies that are capable of performing the required funct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pare the selected technolog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ason for this projec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teresting proble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mote monitoring of rehabilitative exercises!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urios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hat technologies are available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ow are they being used for this application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s there a problem to solve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r am I too late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he Present Situ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umerous technologies exist to monitor the movement of the human bod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onic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gnetic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ccelerometers and gyro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de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mbination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quirements: minimu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ck all types of mo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ending, twisting, circular, jump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ck through realistic velocities of mo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ccomplished by adequate sample rat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ck through all ranges of mo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 motions should be out-of-bound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acking must be accura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ccuracy must be fine enough to capture subtle mov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quirements: Nice to hav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3920" y="1787040"/>
            <a:ext cx="847728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n-bulk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ust not interfere with the exercis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asy to wea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all patients will ave same range of motion, strength or dexterit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asy to u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all patients will be technica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asonable pri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ctors will want to own man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n't want them to “disappear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ugg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ftware to display the move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1: Crossbow “Mote”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9000" y="3664080"/>
            <a:ext cx="84772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ses a combination of sonic and radio frequency transmiss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imilar to counting the time between lightning and thund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omewhat large circuit boards act as transmitters or receiv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urrently best at tracking an entire pers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ultiple transmitter, single receiver approach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81400" y="1371600"/>
            <a:ext cx="3348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1: Crossbow “Mote”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9000" y="2439720"/>
            <a:ext cx="8477280" cy="3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very accurat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uffers from multi-path issu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oo large to wear comfortabl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69360" indent="-2113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n't use at all on small body part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able to make rapid samp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69360" indent="-2113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oo slow to track quicker movement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 software available to display the body mov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ne hand-held, or serial port needed for each receiv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y #2: MIT Body Sui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3771720"/>
            <a:ext cx="8477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ses ultrasonic transmissions, accelerometers and gyro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ry accura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ses 8 transmitters, 18 receivers all mounted on a body su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ust carry all equipment in a backpac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splay software is available from somewhe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14079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03400" y="133344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ew Walton</dc:creator>
  <dc:description>Introducing developments and alternatives, recommending one or more strategies</dc:description>
  <dc:language>en-US</dc:language>
  <cp:lastModifiedBy/>
  <cp:revision>0</cp:revision>
  <dc:subject/>
  <dc:title>Recommendation of a Strategy</dc:title>
</cp:coreProperties>
</file>