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689917-160B-4FCC-8BE5-A1EA3128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42703E-1684-4171-99F4-A684F328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A88B0C-EA44-4842-B669-B2E289CF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0F99DC-7592-42E3-838C-ED3FD5CE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7F65C5-E5E7-4F48-A83B-3774941C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852646-3CEE-465D-A687-39947257A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E74E3B-99CD-4238-A6CE-08EDA93B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88F243-7F0B-404D-BAD1-FAF79A6D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E7E25D-3DF2-49E2-BCC0-61BE047D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D2B180-64CF-49B6-997E-CAFFC3F9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A56438-1E66-4A9B-89F0-E2FC6B56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5A9220-7788-4B72-B3D4-4FF14EB5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66B616-2BBB-49EB-B1DF-61B5DBDF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DBFF3C-543A-40DD-8B5B-B9928E97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FB22F9-3F44-4C61-9E96-FE9AACFD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144E01-B960-41D3-B31D-B373B9CD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CDE806-D285-404F-84DD-DE7FF050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74326A-9E9F-4264-B9D8-29CBF25C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AFA97F-3551-4DCB-ADB8-0FB0237F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8CA4AF-3984-460D-AD27-8928ADF0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7C0E08-CD1F-40BA-B156-A7447B76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986C-5F9C-489C-89C6-B8E1E6B6F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56E1-2820-46BD-9C39-8E7C5CD45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1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485F-71B6-4BF7-9D4A-89E18A1CA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436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64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436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064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DCBF-8F24-479A-ADBD-51ED97A96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2E1-F312-463D-A987-CD4A065FD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27DD-4F0C-4AC7-AB44-AFFD1209F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7E77-6055-49F5-9D00-D974CBD3E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AFCF-F88A-4DB0-A83C-58452B7E4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0E78-B41C-420C-9CEC-6322F32B9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87F8-897A-48C5-BC77-01513E901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1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ACA4-9733-40A6-8047-EC8628CD1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434F-AA3F-4CF8-89FB-22F7CA19F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64445" r="0" b="0"/>
          <a:stretch/>
        </p:blipFill>
        <p:spPr>
          <a:xfrm>
            <a:off x="3733920" y="5416560"/>
            <a:ext cx="541008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1143000" y="13716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B44-DC51-41B9-B70B-89713FDC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488880" y="990720"/>
            <a:ext cx="804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64445" r="39437" b="0"/>
          <a:stretch/>
        </p:blipFill>
        <p:spPr>
          <a:xfrm>
            <a:off x="0" y="5416560"/>
            <a:ext cx="5410080" cy="14414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UCCS-MS-LG"/>
          <p:cNvPicPr/>
          <p:nvPr/>
        </p:nvPicPr>
        <p:blipFill>
          <a:blip r:embed="rId4"/>
          <a:stretch/>
        </p:blipFill>
        <p:spPr>
          <a:xfrm>
            <a:off x="76320" y="33480"/>
            <a:ext cx="9144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 2000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CS 525 Research Project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kur Chattopadhy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versity Of Colorado At Colorado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49D-4680-4479-AB8A-520A6205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JPEG2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t based scheme (DWT) outperforms DCT &amp; other coding scheme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mponents have variabl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sub-ban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compression successfully avoids ‘blocking artifact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under transmission and deco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progressive transmission of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matched to the HVS characteristics because of inherent multi resolutio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application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ble 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71FE-BDAB-4EA2-876F-0AB62F8E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What Are Blocking Artifacts At High Compress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na1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72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ena2"/>
          <p:cNvPicPr/>
          <p:nvPr/>
        </p:nvPicPr>
        <p:blipFill>
          <a:blip r:embed="rId2"/>
          <a:stretch/>
        </p:blipFill>
        <p:spPr>
          <a:xfrm>
            <a:off x="4876920" y="1676520"/>
            <a:ext cx="396216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E00-BA6E-49F7-B597-904C44688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Analyzing JPEG2K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“massive compressions”, it wins hand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uniform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mmodates both lossy and lossless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I encoding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ed image reconstruction (progressive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s can appear out-of-focus and less detailed after being compressed as the wavelet transform uniformly compresses the entire image (as opposed to DCT block encoding in JP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0560" y="91440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s of JPEG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182560" y="9144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nesses of JPEG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419720" y="914400"/>
            <a:ext cx="0" cy="571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9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58AF-167A-45EF-8AF2-FE126938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LuraWave SmartCompress 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duct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raT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Free download (demo version) at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www.luratech.c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ifferent forms of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implements JPEG 2000 wavelet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- Fast compression and 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can be run from the command line or from other programs enabling the program to act as a view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stom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raWave.jp2 images are full fledged JPEG2000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can be viewed with any JPEG2000 complia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lossy &amp; lossless compression at a selectable, user-defined compression rate, image (file) size or visu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Image Formats: TIFF, BMP, PPM, PGM,JPEG, .JP2 and LWF (LuraWave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plug-ins: MS compatible, Netscape and ActiveX available; also PhotoShop, QuickTim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3EA-6227-4C80-9111-E2E60F21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2"/>
          <p:cNvSpPr/>
          <p:nvPr/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JPEG 2000 Test 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0" y="6858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optimized compression (Base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/Decompression supporting user-specified regions of higher quality within the image (RO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image 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uggested tool: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mpres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Wave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4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357-B1A6-4DC8-980A-11210B70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1" descr="hibiscus"/>
          <p:cNvPicPr/>
          <p:nvPr/>
        </p:nvPicPr>
        <p:blipFill>
          <a:blip r:embed="rId1"/>
          <a:stretch/>
        </p:blipFill>
        <p:spPr>
          <a:xfrm>
            <a:off x="152280" y="838080"/>
            <a:ext cx="41911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2"/>
          <p:cNvSpPr/>
          <p:nvPr/>
        </p:nvSpPr>
        <p:spPr>
          <a:xfrm>
            <a:off x="162000" y="358128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:  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3" descr="lossless"/>
          <p:cNvPicPr/>
          <p:nvPr/>
        </p:nvPicPr>
        <p:blipFill>
          <a:blip r:embed="rId2"/>
          <a:stretch/>
        </p:blipFill>
        <p:spPr>
          <a:xfrm>
            <a:off x="4572000" y="838080"/>
            <a:ext cx="441972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4"/>
          <p:cNvSpPr/>
          <p:nvPr/>
        </p:nvSpPr>
        <p:spPr>
          <a:xfrm>
            <a:off x="7620480" y="52578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15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4800960" y="914400"/>
            <a:ext cx="411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of JPEG to Lo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 takes up more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211-6859-472E-9B3E-26AB7AF26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jp2_1to168"/>
          <p:cNvPicPr/>
          <p:nvPr/>
        </p:nvPicPr>
        <p:blipFill>
          <a:blip r:embed="rId1"/>
          <a:stretch/>
        </p:blipFill>
        <p:spPr>
          <a:xfrm>
            <a:off x="152280" y="76212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jpg_1to168"/>
          <p:cNvPicPr/>
          <p:nvPr/>
        </p:nvPicPr>
        <p:blipFill>
          <a:blip r:embed="rId2"/>
          <a:stretch/>
        </p:blipFill>
        <p:spPr>
          <a:xfrm>
            <a:off x="4724280" y="76212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611640" y="5638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7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336280" y="5638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7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876920" y="838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: original file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 KB JPE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168 LOSS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174-360D-4AB3-8471-595556B88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7"/>
          <p:cNvSpPr/>
          <p:nvPr/>
        </p:nvSpPr>
        <p:spPr>
          <a:xfrm>
            <a:off x="914400" y="2286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ummary – JPEG2K Vs JPEG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143000"/>
          <a:ext cx="5486400" cy="4224240"/>
        </p:xfrm>
        <a:graphic>
          <a:graphicData uri="http://schemas.openxmlformats.org/drawingml/2006/table">
            <a:tbl>
              <a:tblPr/>
              <a:tblGrid>
                <a:gridCol w="1743120"/>
                <a:gridCol w="191448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2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less Compres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y Compres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Cod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Complex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 Resili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Slide Number Placeholder 4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E9D-73D6-4965-BA94-F0DF0F96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latiron"/>
          <p:cNvPicPr/>
          <p:nvPr/>
        </p:nvPicPr>
        <p:blipFill>
          <a:blip r:embed="rId1"/>
          <a:stretch/>
        </p:blipFill>
        <p:spPr>
          <a:xfrm>
            <a:off x="115920" y="838080"/>
            <a:ext cx="27795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24440" y="571500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69 KB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jp2_1to133"/>
          <p:cNvPicPr/>
          <p:nvPr/>
        </p:nvPicPr>
        <p:blipFill>
          <a:blip r:embed="rId2"/>
          <a:stretch/>
        </p:blipFill>
        <p:spPr>
          <a:xfrm>
            <a:off x="3165480" y="838080"/>
            <a:ext cx="27781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latiron"/>
          <p:cNvPicPr/>
          <p:nvPr/>
        </p:nvPicPr>
        <p:blipFill>
          <a:blip r:embed="rId3"/>
          <a:stretch/>
        </p:blipFill>
        <p:spPr>
          <a:xfrm>
            <a:off x="6248520" y="914400"/>
            <a:ext cx="277812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4122000" y="57150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9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941520" y="57150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9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Vs JPEG In Pic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632-DC0E-4E0E-A4A1-AF50A063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/IEC JTC 1/SC 29/WG 1 N 1814, “A study of JPEG 2000 still image coding versus other standards,” July 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/IEC JTC 1/SC 29/WG 1 N 2412, “The JPEG-2000 Still Image Compression,” September 1,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chard Clark, “An introduction to JPEG 2000 and watermarking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elysium.ltd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. Colin Johnson, “JPEG2000 wavelet compression spec approved,” December 29, 1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eetimes.com/story/OEG19991228S00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amara.com/IEEEwave/IEEEwavelet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Amara Gr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perso.orange.fr/polyvalens/clemens/wavelets/wavelet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Clemens Val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bearcave.com/misl/misl_tech/wavelets/index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Ian Ka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users.rowan.edu/~polikar/WAVELETS/WTtutorial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Robi Polik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7CD-7B7D-432D-97DD-981AFE10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22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JPEG 20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 Description (The Overall Techni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PEG2000 Vs JPEG (Analys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s Used For Testing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Tests Condu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: Why and where should we use JPEG2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6D10-7E53-4E92-92E3-98E5EBF6F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447920" y="91440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Questions???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99B2-D220-4C5B-8358-5608E102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o what is JPEG2K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compression standard for the next millenn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DWT (Discrete Wavelet Transform) instead of D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ded to compliment, not replace, the current JPEG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sses areas where JPEG (or previous compression techniques) have failed to give best quality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CC5-F1B8-43E7-99BD-A4EF380A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in Criteri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essive recovery of an image by resolution or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 Of Interest (ROI) coding (i.e. specific regions can have different resolu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to any region without fully decoding image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format allows opacity information and image sequences (anim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error resil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8D80-4EB3-405E-B588-4EFAE470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tandard Codec Process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lowchart1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BDB-79E9-4359-94F4-D6F4CC8B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Codec 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rce Image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GB, Grayscale ‘Sheets’ (Varying size; maximum no. 2^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erence G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quare Samples; Maximum Dimension 2^32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l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each ‘sheet’ component into 9 smaller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c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component Trans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rreversible Component Transform (ICT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 los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Reversible Color Transform (RCT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 los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loss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acomponent Trans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D DWT (2 sub bands); 2D DWT (4 sub bands); variable component resolutio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F4F-246E-46C0-8A69-1ADF7C63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Subband"/>
          <p:cNvPicPr/>
          <p:nvPr/>
        </p:nvPicPr>
        <p:blipFill>
          <a:blip r:embed="rId1"/>
          <a:stretch/>
        </p:blipFill>
        <p:spPr>
          <a:xfrm>
            <a:off x="0" y="1600200"/>
            <a:ext cx="472428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oding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9"/>
          <p:cNvSpPr/>
          <p:nvPr/>
        </p:nvSpPr>
        <p:spPr>
          <a:xfrm>
            <a:off x="1197000" y="152280"/>
            <a:ext cx="757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a Component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9A6-D1EE-43A0-9823-4B88ECE07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Codec 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zation/Dequantization: same as 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er-1 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-Plane Coding (coefficients sent into code-blocks and then packaged into “planes” with symbo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er-2 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blocks are placed into ‘data-packets’; bit-errors can occur but at individual packe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I En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area o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Strea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iz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integer byt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 Form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opacity, ownership, origin, even ani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72D-6C49-4803-A3DC-EA875D9D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not JPE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omings of JPEG: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y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CT blocks (fixed length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across the block boundaries lead to noticeable and annoying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ing arti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 particularly at low b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vision/support for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re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fil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3216-CDFC-4A27-A97D-D1F2FA48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20:35:02Z</dcterms:created>
  <dc:creator>achattop</dc:creator>
  <dc:description/>
  <dc:language>en-US</dc:language>
  <cp:lastModifiedBy>achattop</cp:lastModifiedBy>
  <dcterms:modified xsi:type="dcterms:W3CDTF">2008-05-07T23:46:00Z</dcterms:modified>
  <cp:revision>117</cp:revision>
  <dc:subject/>
  <dc:title>JPEG 2000 CS 525 Research Project Spring 2008</dc:title>
</cp:coreProperties>
</file>