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2"/>
          </p:nvPr>
        </p:nvSpPr>
        <p:spPr>
          <a:xfrm>
            <a:off x="396684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3"/>
          </p:nvPr>
        </p:nvSpPr>
        <p:spPr>
          <a:xfrm>
            <a:off x="-36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4"/>
          </p:nvPr>
        </p:nvSpPr>
        <p:spPr>
          <a:xfrm>
            <a:off x="396684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443930C-A2D5-4ADF-AE0C-0EA26D316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ABA6DB3-4A3E-4568-989E-601E1FEF5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B96AA87-1B64-427D-AA7C-AFEEF3E42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0AB8EF9-D2A0-4046-AE5A-988AD91C5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39D9C7F-3D55-4562-89C1-73CC6D166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8042DF4-06B5-49E3-A9D8-F30DAD5D3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355030A-0F3E-4642-A104-83C74D310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9BA7604-7964-4979-90B8-A3AE40F89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A6715A5-B18F-488D-BE2E-68B77A72A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C8A9061-6A7E-4ABF-8746-C0AA6F292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B2A396C-1919-4553-A558-084AE4D6F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054C482-0560-49BC-8495-A77D80309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D97CF93-D7D8-4052-B8C8-78FA930B9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54BF179-DDDB-4A20-A378-28A58B251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E842CA4-6F7A-40DC-B5A7-748EDD84D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0AD848E-474D-4741-8258-F1BFE0C45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D581F49-4E29-4BBB-9059-AA0DF927B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EF302F8-DB69-4579-8095-DE25E34FB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24A4253-5AE9-4B21-9205-9FDA1999F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D67347C-0D06-43E8-B0CD-B502951C1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1B2B280-4A2B-4347-B1C0-879C2EAC6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1D83-1454-4A81-8868-5DE03B934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395856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12A8-EE27-4199-9AAD-A7A1E159E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116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116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135E-B3F5-4B9C-B465-7C8CE93B9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43680" y="13716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06480" y="13716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39585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43680" y="39585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06480" y="39585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3E38-3AC5-463B-ADA5-0592A700B2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D083-1CBB-43B0-9DA8-4686AB68F4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E737-A856-4D19-8DD5-0C832356D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116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CF8FA-7ECC-4567-8D9A-D012D2DD8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315D4-8831-48B2-AB21-6E4AB5794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4C91-D147-4242-80EF-B814035C2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2D3C-7538-4A52-A321-57F032D14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116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4C4E-4772-4A1F-9224-2014DBE0C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116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95856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023E-9D18-43D8-9807-574F361F5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64445" r="0" b="0"/>
          <a:stretch/>
        </p:blipFill>
        <p:spPr>
          <a:xfrm>
            <a:off x="3733920" y="5416560"/>
            <a:ext cx="541008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1143000" y="13716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DF02-9B7F-419C-9795-0D4A26096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488880" y="990720"/>
            <a:ext cx="8045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3"/>
          <a:srcRect l="0" t="64445" r="39437" b="0"/>
          <a:stretch/>
        </p:blipFill>
        <p:spPr>
          <a:xfrm>
            <a:off x="0" y="5416560"/>
            <a:ext cx="5410080" cy="14414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3" descr="UCCS-MS-LG"/>
          <p:cNvPicPr/>
          <p:nvPr/>
        </p:nvPicPr>
        <p:blipFill>
          <a:blip r:embed="rId4"/>
          <a:stretch/>
        </p:blipFill>
        <p:spPr>
          <a:xfrm>
            <a:off x="76320" y="33480"/>
            <a:ext cx="9144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JPEG 2000</a:t>
            </a:r>
            <a:br>
              <a:rPr sz="4300"/>
            </a:br>
            <a:r>
              <a:rPr b="0" i="1" lang="en-US" sz="4300" spc="-1" strike="noStrike">
                <a:solidFill>
                  <a:srgbClr val="000000"/>
                </a:solidFill>
                <a:latin typeface="Arial"/>
              </a:rPr>
              <a:t>CS 525 Research Project</a:t>
            </a:r>
            <a:br>
              <a:rPr sz="4300"/>
            </a:br>
            <a:r>
              <a:rPr b="0" i="1" lang="en-US" sz="43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32000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ed By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kur Chattopadhy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versity Of Colorado At Colorado Sp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C09D-D17B-4925-A954-014FEAA06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JPEG2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t based scheme (DWT) outperforms DCT &amp; other coding schemes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components have variabl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sub-band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igher compression successfully avoids ‘blocking artifact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obust under transmission and decodin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s progressive transmission of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matched to the HVS characteristics because of inherent multi resolution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applications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cal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lerable 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9742-2177-4C18-8D4C-07FB5D5DF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What Are Blocking Artifacts At High Compression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Lena1"/>
          <p:cNvPicPr/>
          <p:nvPr/>
        </p:nvPicPr>
        <p:blipFill>
          <a:blip r:embed="rId1"/>
          <a:stretch/>
        </p:blipFill>
        <p:spPr>
          <a:xfrm>
            <a:off x="304920" y="1676520"/>
            <a:ext cx="4114800" cy="472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Lena2"/>
          <p:cNvPicPr/>
          <p:nvPr/>
        </p:nvPicPr>
        <p:blipFill>
          <a:blip r:embed="rId2"/>
          <a:stretch/>
        </p:blipFill>
        <p:spPr>
          <a:xfrm>
            <a:off x="4876920" y="1676520"/>
            <a:ext cx="3962160" cy="472428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4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7E79-3C14-4888-9468-FDEDC34EA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Analyzing JPEG2K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14479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“massive compressions”, it wins hands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uniform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ommodates both lossy and lossless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I encoding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aled image reconstruction (progressive disp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572000" y="144792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ges can appear out-of-focus and less detailed after being compressed as the wavelet transform uniformly compresses the entire image (as opposed to DCT block encoding in JP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10560" y="91440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engths of JPEG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182560" y="91440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nesses of JPEG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419720" y="914400"/>
            <a:ext cx="0" cy="571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9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FCDE-7A56-4AFF-B202-D61D18B0A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LuraWave SmartCompress Too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product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uraTe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Free download (demo version) at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www.luratech.c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ifferent forms of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ly implements JPEG 2000 wavelet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: - Fast compression and de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can be run from the command line or from other programs enabling the program to act as a view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ustom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raWave.jp2 images are full fledged JPEG2000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and can be viewed with any JPEG2000 compliant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lossy &amp; lossless compression at a selectable, user-defined compression rate, image (file) size or visual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ed Image Formats: TIFF, BMP, PPM, PGM,JPEG, .JP2 and LWF (LuraWaveForm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ser plug-ins: MS compatible, Netscape and ActiveX available; also PhotoShop, QuickTim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4BD7-76BC-4AC8-A3D7-C297EF0ED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2"/>
          <p:cNvSpPr/>
          <p:nvPr/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JPEG 2000 Test Too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0" y="68580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optimized compression (Basel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on/Decompression supporting user-specified regions of higher quality within the image (RO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with image password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suggested tool: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Compress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WaveL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4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441972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5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5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32F4-1EB1-4A26-A6C6-8DEED0407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Test Resul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1" descr="hibiscus"/>
          <p:cNvPicPr/>
          <p:nvPr/>
        </p:nvPicPr>
        <p:blipFill>
          <a:blip r:embed="rId1"/>
          <a:stretch/>
        </p:blipFill>
        <p:spPr>
          <a:xfrm>
            <a:off x="152280" y="838080"/>
            <a:ext cx="419112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2"/>
          <p:cNvSpPr/>
          <p:nvPr/>
        </p:nvSpPr>
        <p:spPr>
          <a:xfrm>
            <a:off x="162000" y="3581280"/>
            <a:ext cx="21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inal:  JP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00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3" descr="lossless"/>
          <p:cNvPicPr/>
          <p:nvPr/>
        </p:nvPicPr>
        <p:blipFill>
          <a:blip r:embed="rId2"/>
          <a:stretch/>
        </p:blipFill>
        <p:spPr>
          <a:xfrm>
            <a:off x="4572000" y="838080"/>
            <a:ext cx="4419720" cy="5715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4"/>
          <p:cNvSpPr/>
          <p:nvPr/>
        </p:nvSpPr>
        <p:spPr>
          <a:xfrm>
            <a:off x="7620480" y="5257800"/>
            <a:ext cx="13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sl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15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5"/>
          <p:cNvSpPr/>
          <p:nvPr/>
        </p:nvSpPr>
        <p:spPr>
          <a:xfrm>
            <a:off x="4800960" y="914400"/>
            <a:ext cx="411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rsion of JPEG to Loss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JP2 takes up more 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7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7EBD-4B2C-46D4-9913-2C33F8163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3" descr="jp2_1to168"/>
          <p:cNvPicPr/>
          <p:nvPr/>
        </p:nvPicPr>
        <p:blipFill>
          <a:blip r:embed="rId1"/>
          <a:stretch/>
        </p:blipFill>
        <p:spPr>
          <a:xfrm>
            <a:off x="152280" y="762120"/>
            <a:ext cx="4343400" cy="5715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jpg_1to168"/>
          <p:cNvPicPr/>
          <p:nvPr/>
        </p:nvPicPr>
        <p:blipFill>
          <a:blip r:embed="rId2"/>
          <a:stretch/>
        </p:blipFill>
        <p:spPr>
          <a:xfrm>
            <a:off x="4724280" y="762120"/>
            <a:ext cx="4267440" cy="5715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5"/>
          <p:cNvSpPr/>
          <p:nvPr/>
        </p:nvSpPr>
        <p:spPr>
          <a:xfrm>
            <a:off x="611640" y="5638680"/>
            <a:ext cx="10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j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3.7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5336280" y="5638680"/>
            <a:ext cx="10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3.7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4876920" y="838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all: original file 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00 KB JPEG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:168 LOSSY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7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BA53-1200-478D-9A54-4F9021AC2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7"/>
          <p:cNvSpPr/>
          <p:nvPr/>
        </p:nvSpPr>
        <p:spPr>
          <a:xfrm>
            <a:off x="914400" y="22860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ummary – JPEG2K Vs JPEG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52480" y="1143000"/>
          <a:ext cx="5486400" cy="4224240"/>
        </p:xfrm>
        <a:graphic>
          <a:graphicData uri="http://schemas.openxmlformats.org/drawingml/2006/table">
            <a:tbl>
              <a:tblPr/>
              <a:tblGrid>
                <a:gridCol w="1743120"/>
                <a:gridCol w="1914480"/>
                <a:gridCol w="1828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2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PE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less Compres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y Compres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+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i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I Cod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Complex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+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ror Resili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Slide Number Placeholder 4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D1D2-9C25-4162-A86B-E2D00CF3B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flatiron"/>
          <p:cNvPicPr/>
          <p:nvPr/>
        </p:nvPicPr>
        <p:blipFill>
          <a:blip r:embed="rId1"/>
          <a:stretch/>
        </p:blipFill>
        <p:spPr>
          <a:xfrm>
            <a:off x="115920" y="838080"/>
            <a:ext cx="2779560" cy="5715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24440" y="571500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69 KB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jp2_1to133"/>
          <p:cNvPicPr/>
          <p:nvPr/>
        </p:nvPicPr>
        <p:blipFill>
          <a:blip r:embed="rId2"/>
          <a:stretch/>
        </p:blipFill>
        <p:spPr>
          <a:xfrm>
            <a:off x="3165480" y="838080"/>
            <a:ext cx="2778120" cy="5715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flatiron"/>
          <p:cNvPicPr/>
          <p:nvPr/>
        </p:nvPicPr>
        <p:blipFill>
          <a:blip r:embed="rId3"/>
          <a:stretch/>
        </p:blipFill>
        <p:spPr>
          <a:xfrm>
            <a:off x="6248520" y="914400"/>
            <a:ext cx="2778120" cy="5638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4122000" y="5715000"/>
            <a:ext cx="121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j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29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941520" y="5715000"/>
            <a:ext cx="121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29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JPEG2K Vs JPEG In Pic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8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BDD1-909C-4C14-9636-0503D717D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/IEC JTC 1/SC 29/WG 1 N 1814, “A study of JPEG 2000 still image coding versus other standards,” July 2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/IEC JTC 1/SC 29/WG 1 N 2412, “The JPEG-2000 Still Image Compression,” September 1, 20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chard Clark, “An introduction to JPEG 2000 and watermarking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elysium.ltd.u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. Colin Johnson, “JPEG2000 wavelet compression spec approved,” December 29, 19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www.eetimes.com/story/OEG19991228S00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www.amara.com/IEEEwave/IEEEwavelet.htm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lications &amp; Other Material By Amara Gra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perso.orange.fr/polyvalens/clemens/wavelets/wavelets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lications &amp; Other Material By Clemens Val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www.bearcave.com/misl/misl_tech/wavelets/index.htm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lications &amp; Other Material By Ian Ka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users.rowan.edu/~polikar/WAVELETS/WTtutorial.htm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lications &amp; Other Material By Robi Polik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1847-6306-404E-BA95-22AD18C8B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22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JPEG 200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y Description (The Overall Techniqu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PEG2000 Vs JPEG (Analys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ols Used For Testing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From The Tests Condu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 : Why and where should we use JPEG2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4FC1-5435-4500-985F-B8D950FEC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1447920" y="914400"/>
            <a:ext cx="769608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Questions???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135" name="Slide Number Placeholder 2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40D6-96E5-4DDA-8D73-94B36C375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So what is JPEG2K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 compression standard for the next millenni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s DWT (Discrete Wavelet Transform) instead of D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nded to compliment, not replace, the current JPEG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resses areas where JPEG (or previous compression techniques) have failed to give best quality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64B5-DD8B-439D-BF0C-0B94CCD7D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Main Criteri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essive recovery of an image by resolution or fide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on Of Interest (ROI) coding (i.e. specific regions can have different resolu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dom access to any region without fully decoding image st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e format allows opacity information and image sequences (anim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od error resil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0D72-1C5E-471D-9307-29457F999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Standard Codec Process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lowchart1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Slide Number Placeholder 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EF89-4988-4AA9-9B87-72DED358B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JPEG2K Codec Compon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urce Image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RGB, Grayscale ‘Sheets’ (Varying size; maximum no. 2^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ference Gr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quare Samples; Maximum Dimension 2^32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ling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each ‘sheet’ component into 9 smaller rect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dec Stru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component Trans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rreversible Component Transform (ICT)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l los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Reversible Color Transform (RCT)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ger los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 loss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racomponent Trans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1D DWT (2 sub bands); 2D DWT (4 sub bands); variable component resolution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FDF2-D524-4937-9B27-967DC58F4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7" descr="Subband"/>
          <p:cNvPicPr/>
          <p:nvPr/>
        </p:nvPicPr>
        <p:blipFill>
          <a:blip r:embed="rId1"/>
          <a:stretch/>
        </p:blipFill>
        <p:spPr>
          <a:xfrm>
            <a:off x="0" y="1600200"/>
            <a:ext cx="4724280" cy="495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coding"/>
          <p:cNvPicPr/>
          <p:nvPr/>
        </p:nvPicPr>
        <p:blipFill>
          <a:blip r:embed="rId2"/>
          <a:stretch/>
        </p:blipFill>
        <p:spPr>
          <a:xfrm>
            <a:off x="4800600" y="1676520"/>
            <a:ext cx="4343400" cy="48765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9"/>
          <p:cNvSpPr/>
          <p:nvPr/>
        </p:nvSpPr>
        <p:spPr>
          <a:xfrm>
            <a:off x="1197000" y="152280"/>
            <a:ext cx="7574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a Component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b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D243-1316-4B72-8689-6BA876CBE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JPEG2K Codec Compon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antization/Dequantization: same as JP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er-1 Coding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-Plane Coding (coefficients sent into code-blocks and then packaged into “planes” with symbol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er-2 Coding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blocks are placed into ‘data-packets’; bit-errors can occur but at individual packe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I Encoding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area of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de Stream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iz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in integer byt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le Format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opacity, ownership, origin, even ani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C748-6F77-481A-81FB-F9992465A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not JPE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comings of JPEG: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y by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DCT blocks (fixed length s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across the block boundaries lead to noticeable and annoying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king artifa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 particularly at low bit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vision/support for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resol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 error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fil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5280"/>
            <a:ext cx="1752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A1F7-B05F-4CFA-BE2A-8FC6B06AB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20:35:02Z</dcterms:created>
  <dc:creator>achattop</dc:creator>
  <dc:description/>
  <dc:language>en-US</dc:language>
  <cp:lastModifiedBy>achattop</cp:lastModifiedBy>
  <dcterms:modified xsi:type="dcterms:W3CDTF">2008-05-07T23:46:00Z</dcterms:modified>
  <cp:revision>117</cp:revision>
  <dc:subject/>
  <dc:title>JPEG 2000 CS 525 Research Project Spring 2008</dc:title>
</cp:coreProperties>
</file>