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E06B-D4EC-43F5-A08C-6F6C65DE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F9D1-C56C-48C0-93D1-2111C051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3018-96DF-41F7-92BC-736E9038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C766-5596-492C-B5A7-8E2AB946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8C35-64AF-42DD-99E8-3B24CF97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DD99-81B0-455C-A300-17B29A4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E15-A934-416F-9148-B380CEC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1720-235C-4357-B73E-7DD12624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995F-496B-470B-A54A-482BDBA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211A-8719-4556-B59D-173AACDB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9D37-2C03-40E9-BF71-E7AACE4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FA65-1EB3-4070-9C92-2080F90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19FC-E744-43E2-A62F-5AC85D1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0816-7CDA-464B-A18A-1A8973A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FE4A-2B0E-4035-A149-0BC8AC8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4458-5839-46D6-ADFF-B4BB6F72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1566-D904-465B-AA32-38C3A212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A7C0-A3A0-4D0A-B320-D1FBB0F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7683-EA0D-4F05-8C54-FEE2D12B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96E1-C793-4AB6-A928-FECCD30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6C61-9536-48A4-BD7A-6C43C06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0C57-6C16-4101-A0A6-4748FCA6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AADB-D05A-4695-8066-4634653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7412-4D77-4009-A366-06B88B7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6E9-3B48-4EEC-BB23-3A2A4FF7E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0B2C-306C-4E30-89B1-37A215CE0A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ice Over IP and Securit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ao L. P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FD36-9B05-413F-9390-9DFDBBB215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VoIP is still maturing, companies are concerned about quality, latency and interoperability, many overlook security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implemented properly, VoIP could lead to serious privacy violation and unwanted solicitation over IP teleph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E413-C111-4DCB-887A-C08D889EAD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VoIP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phone service using the internet which transforms analog signals into digital signals for transmission over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0806-7513-4F1F-9E94-068376F21F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47960" y="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oIP call Flow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5105520" y="457200"/>
            <a:ext cx="259056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og to Dig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2133720"/>
            <a:ext cx="22860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53080" y="1371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2895480"/>
            <a:ext cx="259092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 P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4038480"/>
            <a:ext cx="259092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P P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429000" y="2666880"/>
            <a:ext cx="1828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623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838080" y="5181480"/>
            <a:ext cx="2584440" cy="1676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80880" y="590400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1600" y="5904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4952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5562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6E20-FFCD-4BAC-8A71-DC66AF66C4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IP Compon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IP network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s VoIP technology, ensures smooth transmission and prioritize packets according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call processor or controll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etup calls, authorize users, calling plans and other basic telephone features (holding, transferring,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media or signaling gateway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all initiation, detection, analog to digital conver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subscriber termina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rovide real time communication, can be desk phone or soft ph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4155-85BB-4D07-A6BC-384E7D26D1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.32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323  (includes H.325 &amp; H.245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s a standardized infrastructure consists of four major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eal tim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d between circuit-switch network and IP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keeper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all management  functions, address resolution and bandwidth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oint Control Unit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rencing multiple conn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6BC9-D632-4A95-BD95-D961EB4CDE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.323 Archite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H.323 architecture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473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40A6-609C-4B3F-B4F1-BF7075E030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ssion Initiation Protoco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 another project on 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E1D8-57DA-4186-B82A-A7C783152C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curity Issu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 network be separated from data network: using logical address and subnet division, virtual LAN z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L, IP filtering and VLAN be implemented where there need to be a link between data segment and IP se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stateful firewalls: remembers traffic information in the header when filtering packets (for dynamic ports application).  IP Soft phone be placed behind stateful firewa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Psec tunneling mode : encryption at header and data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1CEB-4D62-48A2-8CF5-7CADD94EF9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curity Issues (cont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ec AH is incompatible with NAT : address behind NAT are masked -&gt; Encapsulating IPsec packet in a new UDP pac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RTP: offers encryption, authentication and periodic refreshment of session ke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strict ACL at gateway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NAT behind firewalls: issues with incoming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Level Gateway on firewalls -&gt; associate with overh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boxes-&gt; have the same risks as a traditional bo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6720-59ED-49D2-B399-17C60975B0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9:49:23Z</dcterms:created>
  <dc:creator>Jason</dc:creator>
  <dc:description/>
  <dc:language>en-US</dc:language>
  <cp:lastModifiedBy>chow</cp:lastModifiedBy>
  <dcterms:modified xsi:type="dcterms:W3CDTF">2006-05-03T22:30:48Z</dcterms:modified>
  <cp:revision>43</cp:revision>
  <dc:subject/>
  <dc:title>Voice Over IP and Security</dc:title>
</cp:coreProperties>
</file>