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5E53-1CD1-41AD-8BD6-55329E92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03FF-4912-4DB5-8236-61E328C8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BF25-4427-4570-B443-0F4CDE6C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1EAC-BEDE-4CD8-B931-77E431BB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E630-4671-4582-8443-7FA5696D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E2AA-76EF-4DCB-A111-82C6C81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A238-8292-41DF-87A7-A9D81CA2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4EA5-B9DE-4EF7-A0F4-755F1E78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9B1D-7251-4EB2-AB1C-839A063F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D9EF-F0C2-428F-A2CA-ADAA86F0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F0D2-DB92-4314-BB46-AA8C53DF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BAE2-4452-4324-88BE-FDCAA720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A9D9-63A8-4423-980C-3D17B440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5CBB-84C6-4E1C-A6CE-6048F6E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E7DE-25B0-497F-B543-C2206E00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9FB9-6DB4-4EDB-BE49-64324DC3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9BF7-E4C7-4335-B9DE-F5AC5901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465A-13F2-4FD8-930B-0A5F8B92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967B-AD50-4481-A990-E5D5C8D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9F5D-2088-4DA1-9408-349890E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87EB-2C45-4A8B-BA66-D89A352A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4436-4B47-4112-8B59-53520D4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3E3B-1E94-4745-ADFF-57F3ECEB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E2E3-6294-464C-BCD1-E5C43EE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C1D-D7E1-4DAD-8665-ABD77A5D81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D883-96BD-48C9-802D-3E17F7A94D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Voice Over IP and Securit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ao L. P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5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77C7-056F-4758-891F-156DCE4EEE0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VoIP is still maturing, companies are concerned about quality, latency and interoperability, many overlook security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implemented properly, VoIP could lead to serious privacy violation and unwanted solicitation over IP teleph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6F42-9F4E-48F3-8761-BAC7A7C5CB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VoIP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phone service using the internet which transforms analog signals into digital signals for transmission over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5D0E-CADF-496C-8BDA-428BBE2495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47960" y="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oIP call Flow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809880" cy="2538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5105520" y="457200"/>
            <a:ext cx="259056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og to Digi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2133720"/>
            <a:ext cx="228600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53080" y="1371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2895480"/>
            <a:ext cx="259092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TP Pac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4038480"/>
            <a:ext cx="2590920" cy="9144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DP Pac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429000" y="2666880"/>
            <a:ext cx="1828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36232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838080" y="5181480"/>
            <a:ext cx="2584440" cy="1676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80880" y="590400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1600" y="5904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38280" y="4952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5562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52DA-2010-4146-8CFF-609E81911B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oIP Compon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IP network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pports VoIP technology, ensures smooth transmission and prioritize packets according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call processor or controll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etup calls, authorize users, calling plans and other basic telephone features (holding, transferring,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media or signaling gateway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all initiation, detection, analog to digital conver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subscriber terminal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rovide real time communication, can be desk phone or soft ph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26EC-932A-40D6-8023-3E44928EE2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.32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323  (includes H.325 &amp; H.245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es a standardized infrastructure consists of four major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real time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d between circuit-switch network and IP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keeper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call management  functions, address resolution and bandwidth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oint Control Unit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rencing multiple conn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B61A-5EAE-4133-B14C-AFFCC38A17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.323 Architec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H.323 architecture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473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89E4-D977-4617-BEF7-44853F5BB9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ssion Initiation Protoco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 another project on Wedn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262C-012F-4453-99BD-FD090B85CC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curity Issu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P network be separated from data network: using logical address and subnet division, virtual LAN z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L, IP filtering and VLAN be implemented where there need to be a link between data segment and IP se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stateful firewalls: remembers traffic information in the header when filtering packets (for dynamic ports application).  IP Soft phone be placed behind stateful firewa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IPsec tunneling mode : encryption at header and data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47FC-4FEB-48E8-B417-A364C37A6A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curity Issues (cont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sec AH is incompatible with NAT : address behind NAT are masked -&gt; Encapsulating IPsec packet in a new UDP pac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RTP: offers encryption, authentication and periodic refreshment of session ke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strict ACL at gateway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NAT behind firewalls: issues with incoming c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Level Gateway on firewalls -&gt; associate with overh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boxes-&gt; have the same risks as a traditional bo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lpham VOIP/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AE96-76FD-4494-B673-BFE0A19963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5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9:49:23Z</dcterms:created>
  <dc:creator>Jason</dc:creator>
  <dc:description/>
  <dc:language>en-US</dc:language>
  <cp:lastModifiedBy>chow</cp:lastModifiedBy>
  <dcterms:modified xsi:type="dcterms:W3CDTF">2006-05-03T22:30:48Z</dcterms:modified>
  <cp:revision>43</cp:revision>
  <dc:subject/>
  <dc:title>Voice Over IP and Security</dc:title>
</cp:coreProperties>
</file>