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9.png" ContentType="image/png"/>
  <Override PartName="/ppt/media/image11.jpeg" ContentType="image/jpeg"/>
  <Override PartName="/ppt/media/image7.wmf" ContentType="image/x-wmf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88188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70884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272960" y="6807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707760" y="4312800"/>
            <a:ext cx="56703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0" y="8624520"/>
            <a:ext cx="30700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4014360" y="8624520"/>
            <a:ext cx="30704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A0DC-771D-4359-91CE-3B050569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7332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7760" y="4312800"/>
            <a:ext cx="56703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ings are bigger in America – but this is craz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C4F-A89A-4457-8246-8172FDC3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413-B0B8-4157-A59D-AE5CEC7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FC4-2F48-4B58-A40C-BF9D5334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242-E117-48BA-A4A9-94102D7F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DD5E-4E46-4B46-A54E-EA69154A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F5EA-D231-44F2-98C9-5EE62EA4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509C-783B-4018-BCFF-FE857616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98B0-9F52-4581-B797-FDB4DAC5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E412-5698-4353-8724-79A4839B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F31A-24D8-42D4-969C-5E3B1C2C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4A42-93E9-4114-B3C6-68F270FA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D2B-A21D-4A42-BDEA-95007183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C1EF-126B-49EE-83E7-D1005B20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6777-DD14-49CE-A87A-8B884CA9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313A-DD0C-4D41-A890-911EA01E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FBA7-019A-449B-8E2D-AC32EFC4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6567-8AAE-4201-A35B-4E9B9363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019-964D-4F49-B4A7-46C1D1F8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3AB-087D-4F7B-8FBD-DB8293C4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E06-2B46-46F6-A00C-FC1CA0A4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137-BACF-4457-9D4D-E40D8D14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017-0366-41E9-A5CD-974FCB6B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104-DF1B-4473-A400-F153D3A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D58-13DE-47D8-9F7E-7AC2874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32EB-4B4C-47C2-9D06-0F89B24EDCF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9EAE-9626-48F4-956E-FD4C3CE2A64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s.binghamton.edu/fridrich/Research/copymove.pdf" TargetMode="External"/><Relationship Id="rId2" Type="http://schemas.openxmlformats.org/officeDocument/2006/relationships/hyperlink" Target="http://shay.ecn.purdue.edu/~linet/papers/SPIE-2000.pdf" TargetMode="External"/><Relationship Id="rId3" Type="http://schemas.openxmlformats.org/officeDocument/2006/relationships/hyperlink" Target="http://www.hongik.edu/~sjpark/udt/Semi-Fragile%20Watermarking%20for%20Telltale%20Tamper%20Proofing%20and%20A.doc" TargetMode="External"/><Relationship Id="rId4" Type="http://schemas.openxmlformats.org/officeDocument/2006/relationships/hyperlink" Target="http://www.ws.binghamton.edu/fridrich/Research/acm99.doc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goanna.cs.rmit.edu.au/~ronvs/papers/ICIP94.PDF" TargetMode="External"/><Relationship Id="rId2" Type="http://schemas.openxmlformats.org/officeDocument/2006/relationships/hyperlink" Target="http://www.rl.af.mil/programs/shid/downloads/icip98_434.pdf" TargetMode="External"/><Relationship Id="rId3" Type="http://schemas.openxmlformats.org/officeDocument/2006/relationships/hyperlink" Target="http://www.ws.binghamton.edu/fridrich/Research/ispacs.doc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patras.gr/ieee/skodras/pubs/ans-c35.pdf" TargetMode="External"/><Relationship Id="rId2" Type="http://schemas.openxmlformats.org/officeDocument/2006/relationships/hyperlink" Target="http://www.dfrws.org/2004/bios/day3/D3-lyth_Secure_Digital_Camera.pdf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ultimedia Security And Forens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Authentication of Digital Image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21956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arah Summer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Sarah Wah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07880" y="2944800"/>
            <a:ext cx="465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S525 Semester Proje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ring 200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igital Watermark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asic concept of digital watermarking an image is that a low level signal is placed directly into the image dat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y manipulation of the image will impact the watermark and subsequent retrieval of the watermark and examination of its condition will indicate if tampering has occurr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Fragile Watermark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4479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agile watermarks are designed to detect every possible change in pixel values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ariety of Techniques but in most cases, the watermark is embedded in the least significant bit (LSB) of the ima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vantages: Pick up all image manipulations – malicious and non-malic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advantages: Too 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Semi-Fragile Watermark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99072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y are robust, to a certain extent, and are less sensitive to pixel modification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vide  image into blocks and utilize bits from each block to calculate a spread spectrum noise like signal which is combined with DCT coefficients and inserted as a watermark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vide image into blocks, construct watermark in DCT domain from pseudo-random zero-mean unit variance Gaussian numbers, take the inverse DCT and insert into the im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vantage: less sensitive than fragile watermar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Self-Embedd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mpered images result in lost information. The previous techniques will only detect and localize areas of interest when authentication is carried ou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lf-embedding allows tamper detection and recovery of missing inform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 concept is that the image is embedded in itself in an encrypted form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vantage: Potential for original data to be retriev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advantage: Tampering with the image can remove blocks of the original image making retrieval of content impossi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igital Cameras with Watermarking Capabili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termarking based on secret key, block ID and content. The image is divided into blocks and each block watermarked using a frequency based spread spectrum technique incorporating the secret key, block ID and block cont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age of photographers iris is combined with the camera ID, the hash of the original image and other details specific to the camer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igital Fingerprints/Signatur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sed on the concept of public key encryp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hed version of image is encrypted using a private ke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crypted file provides a unique signature/fingerprint of the image which can be used to authenticate by decryption with public ke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inly used in transmission of imag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5331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igital Cameras with Fingerprinting Capabilitie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pson Image Authentication System (IA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AS software in the camera instantly seals the captured images with an invisible digital fingerprin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ification of image is achieved by any PC with Image Authentication System software installed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252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uthentication Techniq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ctive Authent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ly on the presence of a watermark or fingerpri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quire knowledge original im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gorithm/key used to embed the watermark or fingerpri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assive Authent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requirement of knowledge of original ima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es not rely of presence of watermark or fingerpri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assive Authentication Techniqu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263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tecting Copy-Mov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tecting Traces of Re-sampl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tecting Light Inconsisten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py-Move Det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267000" cy="2171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294000" cy="2173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065960" y="33559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riginal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64520" y="33559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ampered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33520" y="3886200"/>
            <a:ext cx="3276360" cy="2672640"/>
            <a:chOff x="533520" y="3886200"/>
            <a:chExt cx="3276360" cy="267264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33520" y="3886200"/>
              <a:ext cx="3276360" cy="21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221480" y="609912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Exact Match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086440" y="3886200"/>
            <a:ext cx="3295440" cy="2672640"/>
            <a:chOff x="5086440" y="3886200"/>
            <a:chExt cx="3295440" cy="2672640"/>
          </a:xfrm>
        </p:grpSpPr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5086440" y="3886200"/>
              <a:ext cx="329544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945040" y="609912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Robust Match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otivation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Seeing is believing … or is i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341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py-Move Det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08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208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08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2385720" cy="2385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08760" y="519912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riginal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32160" y="2338560"/>
            <a:ext cx="2761200" cy="3320280"/>
            <a:chOff x="3332160" y="2338560"/>
            <a:chExt cx="2761200" cy="3320280"/>
          </a:xfrm>
        </p:grpSpPr>
        <p:pic>
          <p:nvPicPr>
            <p:cNvPr id="286" name="" descr=""/>
            <p:cNvPicPr/>
            <p:nvPr/>
          </p:nvPicPr>
          <p:blipFill>
            <a:blip r:embed="rId2"/>
            <a:stretch/>
          </p:blipFill>
          <p:spPr>
            <a:xfrm>
              <a:off x="3332160" y="2338560"/>
              <a:ext cx="2385720" cy="23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490920" y="519912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Tampered Image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95880" y="2362320"/>
            <a:ext cx="2451600" cy="3296520"/>
            <a:chOff x="6095880" y="2362320"/>
            <a:chExt cx="2451600" cy="3296520"/>
          </a:xfrm>
        </p:grpSpPr>
        <p:pic>
          <p:nvPicPr>
            <p:cNvPr id="289" name="" descr=""/>
            <p:cNvPicPr/>
            <p:nvPr/>
          </p:nvPicPr>
          <p:blipFill>
            <a:blip r:embed="rId3"/>
            <a:stretch/>
          </p:blipFill>
          <p:spPr>
            <a:xfrm>
              <a:off x="6095880" y="2362320"/>
              <a:ext cx="23907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251400" y="5199120"/>
              <a:ext cx="22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PCA Detection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-sampling Det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2303640" cy="1719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705640" y="1481040"/>
            <a:ext cx="2303280" cy="1719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0"/>
            <a:ext cx="187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87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1874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10200" y="32796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riginal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8560" y="327960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ampered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5794200"/>
            <a:ext cx="41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eriodic pattern in Fouri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form of altered reg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18960" y="5794200"/>
            <a:ext cx="32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urier Transform of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naltered reg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nconsistencies in Light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184560" cy="4008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462200" cy="2986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3360" y="55627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enuine Im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41960" y="458316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ampered Ima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Future Resear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ment of a better self embedding techniqu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ment of an all inclusive passive authentication techniqu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gital image forgeries can be used to deceive the public and the authorit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are here to st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til non destructible/ non removal digital watermarks are perfected, passive authentication will remain necessa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rrently no single passive authentication technique can detect all types of digital forger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-76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22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eaeaea"/>
                </a:solidFill>
                <a:latin typeface="Arial"/>
              </a:rPr>
              <a:t>Hany Farid, Creating and Detecting Doctored and Virtual Images: Implications to The Child Pornography Prevention Act,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echnical Report, TR2004-518, Dartmouth College, Computer Scien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Detection of Copy-Move Forgery in Digital Images, Jessica Fridrich, David Soukal and Jan Lukas, Proceedings of Digital Forensic Research Workshop, August 2003, 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ww.ws.binghamton.edu/fridrich/Research/copymove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Detection of image alterations using semi-fragile watermarks, E.T. Lin, C. I. Podilchuk, and E.J. Delp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shay.ecn.purdue.edu/~linet/papers/SPIE-2000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mi-fragile watermarking for Telltale Tamper Proofing and Authenticating, H. H. Ko and S. J. Park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http://www.hongik.edu/~sjpark/udt/Semi-Fragile%20Watermarking%20for%20Telltale%20Tamper%20Proofing%20and%20A.do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thods for Tamper Detection in Digital Images, Jiri Fridrich, Proc. ACM Workshop on Multimedia and Security, Orlando, FL, October 30-31, 1999, pp. 19-23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http://www.ws.binghamton.edu/fridrich/Research/acm99.do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Information Authentication for a Slippery New Age, S. Walton, Dr. Dobbs Journal, Vol. 20, No. 4, pp 18-26, Apr 1995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lind Detection of Photomontage using Higher Order Statistics, T. Ng, S. Chang and Q. Sun, http://www.ee.columbia.edu/~qibin/papers/qibin2004_iscas_1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ferences (continued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Digital Watermark, R. van Schyndel, A. Tirkel and C. Osborne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, Proceedings of the IEEE International Conference on Image Processing, vol. 2, pp. 86-90, Austin, Texas, November 1994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goanna.cs.rmit.edu.au/~ronvs/papers/ICIP94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Watermark for Image Integrity and Ownership Verification, P. Wong, IS&amp;T’s 1998 Image Processing, Image Quality, Image Capture, Systems Conference, Portland, Oregon, May 1998, pp. 374 – 379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n Invisible Watermarking Technique for Image Verification, M. Yeung and F. Mintzer, Proc. ICIP’97, Santa Barbara, California 1997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Image watermarking for tamper detection, Jiri Fridrich,</a:t>
            </a:r>
            <a:r>
              <a:rPr b="0" i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roc. ICIP '98, Chicago, Oct 1998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rl.af.mil/programs/shid/downloads/icip98_434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thods for Detecting Changes in Digital Images, J. Fridrich, Proc. of The 6th IEEE International Workshop on Intelligent Signal Processing and Communication Systems (ISPACS'98), Melbourne, Australia, 4-6 November 1998, pp. 173–177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http://www.ws.binghamton.edu/fridrich/Research/ispacs.do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Robust Content Based Digital Signature for Image Authentication, M. Schneider and S. Chang, Proceedings of the International Conference on  Image Processing, 1996, Volume 3, Issue , 16-19 Sep 1996 Page(s):227 - 23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ferences (continued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New Fingerprinting Method for Digital Images, V. Fotopoulos and A. N. Skodras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www.upatras.gr/ieee/skodras/pubs/ans-c35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ehdi Kharrazi, Husrev T. Sencar and Nasir Memon, Blind Source Camera Identification, International Conference on Image Processing, 2004, ICIP’04, Volume 1, 24-27 Oct. 2004, pp. 709 -712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Rotation, Scale and Translation Invariant Digital Image Watermarking,  J.J.K. O’Ruanaidh and T. Pun, Proceedings of the ICIP, VOl. 1, pp 536-539, Santa Barbara, California, Oct 199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cure Digital Camera, Paul Blythe and Jessica Fridrich,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dfrws.org/2004/bios/day3/D3-lyth_Secure_Digital_Camera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lin C. Popescu and Hany Farid, Exposing Digital Forgeries in Color Filter Array Interpolated Images, IEEE Transactions on Signal Processing, Vol. 53, Issue 10, Part 2, October 2005, pp 3948-3959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Epson's Image Authentication for digicams, http://www.dpreview.com/new/9904/99040501epson.asp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en is Seeing Believing, W. J. Mitchell, Scientific American, pp. 44 -49, February 1994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ferences (continued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Exposing digital forgeries by detecting inconsistencies in lighting by M. K. Johnson and H. Farid, ACM Multimedia and Security Workshop, New York, NY, 2005, http://www.cs.dartmouth.edu/~farid/publications/acm05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Exposing Digital Forgeries by Detecting Traces of Re-sampling, A. C. Popescu and H. Farid, IEEE Transactions on Signal Processing, 53(2):758-767, 2005, http://www.cs.dartmouth.edu/~farid/publications/sp05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Exposing digital forgeries by detecting duplicated image regions, A. C. Popescu and H. Farid, Technical Report 2004-515, Dartmouth College, http://www.ists.dartmouth.edu/library/tr-2004-515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Tutorial on Principal Components Analaysis, Lindsay I. Smith http://csnet.otago.ac.nz/cosc453/student_tutorials/principal_components.pdf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utomatic Estimation of the Projected Light Source Direction, P. Nillius and j. –O. Eklundh, Proceddings of the IEEE Computer Science Conference on Computer Vision and Pattern Recognition, 2001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rotection of Digital Images Using Self Embedding, J. Fridrich and M. Goljan, </a:t>
            </a:r>
            <a:r>
              <a:rPr b="0" i="1" lang="en-US" sz="1600" spc="-1" strike="noStrike">
                <a:solidFill>
                  <a:srgbClr val="eaeaea"/>
                </a:solidFill>
                <a:latin typeface="Arial"/>
              </a:rPr>
              <a:t>Symposium on Content Security and Data Hiding in Digital Media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, New Jersey Institute of Technology, May 14, 1999, http://www.ws.binghamton.edu/fridrich/Research/nj_may14.do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Model for Image Splicing, T. Ng and S. Chang, ICIP '04.  International Conference on Image Processing,. Volume 2,  24-27 Oct. 2004 Page(s):1169 - 1172 Vol.2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asy to be deceiv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065240"/>
            <a:ext cx="3505320" cy="2354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781680" y="914400"/>
            <a:ext cx="2127240" cy="3238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133720" y="3657600"/>
            <a:ext cx="44956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image tampering metho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ess methods available for protecting imag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ess image authentication techniqu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directions for future wor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ategories of Image Tampering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three main categories of image tampering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hanc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osi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y/Mo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nhanc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nging the color of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nging the weather cond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urring out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343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mposit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89680" y="1789200"/>
            <a:ext cx="359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1905120"/>
            <a:ext cx="40384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bining two or more images to create a new im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68440" y="1830240"/>
            <a:ext cx="392724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py-Mov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ying regions of the original image and pasting into other area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yellow area has been copied and moved to conceal the tru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276880" y="1523880"/>
            <a:ext cx="3409920" cy="2251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409920" cy="2249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rot="1210800">
            <a:off x="6858000" y="5181480"/>
            <a:ext cx="700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210800">
            <a:off x="5957640" y="4713120"/>
            <a:ext cx="685800" cy="4572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What can be done to protect digital image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79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termark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gile waterma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mi-fragile waterma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f-embedding waterma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gital cameras with watermarking capab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792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gital Fingerprinting/Sign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gital cameras with fingerprinting capab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9:18:27Z</dcterms:created>
  <dc:creator> </dc:creator>
  <dc:description/>
  <dc:language>en-US</dc:language>
  <cp:lastModifiedBy> </cp:lastModifiedBy>
  <dcterms:modified xsi:type="dcterms:W3CDTF">2006-05-01T21:36:47Z</dcterms:modified>
  <cp:revision>43</cp:revision>
  <dc:subject/>
  <dc:title>Multimedia Security And Forens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