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8.wmf" ContentType="image/x-wmf"/>
  <Override PartName="/ppt/media/image9.png" ContentType="image/png"/>
  <Override PartName="/ppt/media/image11.jpeg" ContentType="image/jpeg"/>
  <Override PartName="/ppt/media/image7.wmf" ContentType="image/x-wmf"/>
  <Override PartName="/ppt/media/image20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7088188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70884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700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7"/>
          </p:nvPr>
        </p:nvSpPr>
        <p:spPr>
          <a:xfrm>
            <a:off x="4014360" y="-360"/>
            <a:ext cx="307044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272960" y="680760"/>
            <a:ext cx="4539960" cy="340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707760" y="4312800"/>
            <a:ext cx="567036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8"/>
          </p:nvPr>
        </p:nvSpPr>
        <p:spPr>
          <a:xfrm>
            <a:off x="0" y="8624520"/>
            <a:ext cx="30700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9"/>
          </p:nvPr>
        </p:nvSpPr>
        <p:spPr>
          <a:xfrm>
            <a:off x="4014360" y="8624520"/>
            <a:ext cx="307044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BED0E-CE79-4FFC-9603-0C3681D75E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273320" y="681120"/>
            <a:ext cx="4539960" cy="34052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707760" y="4312800"/>
            <a:ext cx="567036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know things are bigger in America – but this is craz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27BC-1E33-4C28-B0A4-A4F015207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F3BC-87EE-456C-ABDD-04BF20A36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17CB-7A56-4771-9057-09503EC54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0F14-2678-4EF0-84E0-381765FF4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975FB-4191-4874-8523-75E64C0AC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A37C2-D19B-4FEF-B16E-8AB2F895F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F6648-4E14-4640-BE9A-0627A7E7C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2285A-0F36-4BFF-9DD8-5D64C624D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895CD-877F-455A-9E6D-E7D7ABF08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1AE5A-E95A-474D-842B-42820C07C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CDC9D-5423-49A9-8438-C43AAC6DF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DBAD-6967-4668-B30C-54B8FE49A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87ADE-CDAB-44FC-A598-BE40B9B99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5D355-DC75-4CDC-81AF-92AE2C44A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B88EC-9E1C-4FD5-A6A8-3E7208ED0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3555F-8551-4B3A-A516-1B06BE414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E75CC-4664-4D22-9029-F21A7358C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8F18-6D3D-4452-A87F-D3392DF17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5C25-3D34-406C-90EA-5A1E77D31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3446-0D64-4449-A20C-C000F0EDA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E46E-7ED8-4B1C-A160-40FBD43AA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6B3C-8CC0-4A86-8C6B-78122B24A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0961-B3F8-4C8E-B925-CA6174362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7E05-60CD-48A7-ACA5-4C8579CC2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43B2F-9493-4784-8B99-8B960808434F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C8424-5D59-409B-B069-B8BB6889561A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7.wmf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ws.binghamton.edu/fridrich/Research/copymove.pdf" TargetMode="External"/><Relationship Id="rId2" Type="http://schemas.openxmlformats.org/officeDocument/2006/relationships/hyperlink" Target="http://shay.ecn.purdue.edu/~linet/papers/SPIE-2000.pdf" TargetMode="External"/><Relationship Id="rId3" Type="http://schemas.openxmlformats.org/officeDocument/2006/relationships/hyperlink" Target="http://www.hongik.edu/~sjpark/udt/Semi-Fragile%20Watermarking%20for%20Telltale%20Tamper%20Proofing%20and%20A.doc" TargetMode="External"/><Relationship Id="rId4" Type="http://schemas.openxmlformats.org/officeDocument/2006/relationships/hyperlink" Target="http://www.ws.binghamton.edu/fridrich/Research/acm99.doc" TargetMode="External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goanna.cs.rmit.edu.au/~ronvs/papers/ICIP94.PDF" TargetMode="External"/><Relationship Id="rId2" Type="http://schemas.openxmlformats.org/officeDocument/2006/relationships/hyperlink" Target="http://www.rl.af.mil/programs/shid/downloads/icip98_434.pdf" TargetMode="External"/><Relationship Id="rId3" Type="http://schemas.openxmlformats.org/officeDocument/2006/relationships/hyperlink" Target="http://www.ws.binghamton.edu/fridrich/Research/ispacs.doc" TargetMode="External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upatras.gr/ieee/skodras/pubs/ans-c35.pdf" TargetMode="External"/><Relationship Id="rId2" Type="http://schemas.openxmlformats.org/officeDocument/2006/relationships/hyperlink" Target="http://www.dfrws.org/2004/bios/day3/D3-lyth_Secure_Digital_Camera.pdf" TargetMode="Externa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8377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Multimedia Security And Forensic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0" y="1752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"/>
              </a:rPr>
              <a:t>Authentication of Digital Images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219560"/>
            <a:ext cx="4190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Sarah Summer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Sarah Wahl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207880" y="2944800"/>
            <a:ext cx="4652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S525 Semester Projec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pring 2006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Digital Watermarking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 basic concept of digital watermarking an image is that a low level signal is placed directly into the image data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ny manipulation of the image will impact the watermark and subsequent retrieval of the watermark and examination of its condition will indicate if tampering has occurre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Fragile Watermark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5400" y="144792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ragile watermarks are designed to detect every possible change in pixel values 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Variety of Techniques but in most cases, the watermark is embedded in the least significant bit (LSB) of the imag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dvantages: Pick up all image manipulations – malicious and non-malic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sadvantages: Too sensitiv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Semi-Fragile Watermark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5400" y="990720"/>
            <a:ext cx="8226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y are robust, to a certain extent, and are less sensitive to pixel modifications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chniques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vide  image into blocks and utilize bits from each block to calculate a spread spectrum noise like signal which is combined with DCT coefficients and inserted as a watermark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vide image into blocks, construct watermark in DCT domain from pseudo-random zero-mean unit variance Gaussian numbers, take the inverse DCT and insert into the image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dvantage: less sensitive than fragile watermark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Self-Embedding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ampered images result in lost information. The previous techniques will only detect and localize areas of interest when authentication is carried out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elf-embedding allows tamper detection and recovery of missing information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 concept is that the image is embedded in itself in an encrypted form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dvantage: Potential for original data to be retrieved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advantage: Tampering with the image can remove blocks of the original image making retrieval of content impossibl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Digital Cameras with Watermarking Capabilitie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atermarking based on secret key, block ID and content. The image is divided into blocks and each block watermarked using a frequency based spread spectrum technique incorporating the secret key, block ID and block content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mage of photographers iris is combined with the camera ID, the hash of the original image and other details specific to the camera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Digital Fingerprints/Signature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ased on the concept of public key encrypti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Hashed version of image is encrypted using a private key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ncrypted file provides a unique signature/fingerprint of the image which can be used to authenticate by decryption with public key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inly used in transmission of image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5400" y="53316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Digital Cameras with Fingerprinting Capabilities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pson Image Authentication System (IA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 IAS software in the camera instantly seals the captured images with an invisible digital fingerprint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Verification of image is achieved by any PC with Image Authentication System software installed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28600" y="272520"/>
            <a:ext cx="845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Authentication Techniqu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Active Authentic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ly on the presence of a watermark or fingerprint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quire knowledge original imag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lgorithm/key used to embed the watermark or fingerprint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Passive Authentic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No requirement of knowledge of original image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oes not rely of presence of watermark or fingerprint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Passive Authentication Technique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6840" y="2209680"/>
            <a:ext cx="822636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Detecting Copy-Move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Detecting Traces of Re-sampling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Detecting Light Inconsisten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Copy-Move Detection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5105520" y="1219320"/>
            <a:ext cx="3267000" cy="217152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533520" y="1219320"/>
            <a:ext cx="3294000" cy="217332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1065960" y="3355920"/>
            <a:ext cx="230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Original Imag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564520" y="3355920"/>
            <a:ext cx="260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Tampered Imag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533520" y="3886200"/>
            <a:ext cx="3276360" cy="2672640"/>
            <a:chOff x="533520" y="3886200"/>
            <a:chExt cx="3276360" cy="2672640"/>
          </a:xfrm>
        </p:grpSpPr>
        <p:pic>
          <p:nvPicPr>
            <p:cNvPr id="274" name="" descr=""/>
            <p:cNvPicPr/>
            <p:nvPr/>
          </p:nvPicPr>
          <p:blipFill>
            <a:blip r:embed="rId3"/>
            <a:stretch/>
          </p:blipFill>
          <p:spPr>
            <a:xfrm>
              <a:off x="533520" y="3886200"/>
              <a:ext cx="3276360" cy="214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1221480" y="6099120"/>
              <a:ext cx="195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aeaea"/>
                  </a:solidFill>
                  <a:latin typeface="Arial"/>
                </a:rPr>
                <a:t>Exact Match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5086440" y="3886200"/>
            <a:ext cx="3295440" cy="2672640"/>
            <a:chOff x="5086440" y="3886200"/>
            <a:chExt cx="3295440" cy="2672640"/>
          </a:xfrm>
        </p:grpSpPr>
        <p:pic>
          <p:nvPicPr>
            <p:cNvPr id="277" name="" descr=""/>
            <p:cNvPicPr/>
            <p:nvPr/>
          </p:nvPicPr>
          <p:blipFill>
            <a:blip r:embed="rId4"/>
            <a:stretch/>
          </p:blipFill>
          <p:spPr>
            <a:xfrm>
              <a:off x="5086440" y="3886200"/>
              <a:ext cx="3295440" cy="217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"/>
            <p:cNvSpPr/>
            <p:nvPr/>
          </p:nvSpPr>
          <p:spPr>
            <a:xfrm>
              <a:off x="5945040" y="6099120"/>
              <a:ext cx="21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aeaea"/>
                  </a:solidFill>
                  <a:latin typeface="Arial"/>
                </a:rPr>
                <a:t>Robust Match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Motivation</a:t>
            </a:r>
            <a:br>
              <a:rPr sz="4000"/>
            </a:b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Seeing is believing … or is it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-36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1981080" y="1600200"/>
            <a:ext cx="5334120" cy="47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Copy-Move Detection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0"/>
            <a:ext cx="2085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0" y="0"/>
            <a:ext cx="2085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0" y="0"/>
            <a:ext cx="2085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533520" y="2362320"/>
            <a:ext cx="2385720" cy="238572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608760" y="5199120"/>
            <a:ext cx="230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Original Imag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3332160" y="2338560"/>
            <a:ext cx="2761200" cy="3320280"/>
            <a:chOff x="3332160" y="2338560"/>
            <a:chExt cx="2761200" cy="3320280"/>
          </a:xfrm>
        </p:grpSpPr>
        <p:pic>
          <p:nvPicPr>
            <p:cNvPr id="286" name="" descr=""/>
            <p:cNvPicPr/>
            <p:nvPr/>
          </p:nvPicPr>
          <p:blipFill>
            <a:blip r:embed="rId2"/>
            <a:stretch/>
          </p:blipFill>
          <p:spPr>
            <a:xfrm>
              <a:off x="3332160" y="2338560"/>
              <a:ext cx="2385720" cy="238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"/>
            <p:cNvSpPr/>
            <p:nvPr/>
          </p:nvSpPr>
          <p:spPr>
            <a:xfrm>
              <a:off x="3490920" y="5199120"/>
              <a:ext cx="260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aeaea"/>
                  </a:solidFill>
                  <a:latin typeface="Arial"/>
                </a:rPr>
                <a:t>Tampered Image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6095880" y="2362320"/>
            <a:ext cx="2451600" cy="3296520"/>
            <a:chOff x="6095880" y="2362320"/>
            <a:chExt cx="2451600" cy="3296520"/>
          </a:xfrm>
        </p:grpSpPr>
        <p:pic>
          <p:nvPicPr>
            <p:cNvPr id="289" name="" descr=""/>
            <p:cNvPicPr/>
            <p:nvPr/>
          </p:nvPicPr>
          <p:blipFill>
            <a:blip r:embed="rId3"/>
            <a:stretch/>
          </p:blipFill>
          <p:spPr>
            <a:xfrm>
              <a:off x="6095880" y="2362320"/>
              <a:ext cx="2390760" cy="239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"/>
            <p:cNvSpPr/>
            <p:nvPr/>
          </p:nvSpPr>
          <p:spPr>
            <a:xfrm>
              <a:off x="6251400" y="5199120"/>
              <a:ext cx="229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aeaea"/>
                  </a:solidFill>
                  <a:latin typeface="Arial"/>
                </a:rPr>
                <a:t>PCA Detection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Re-sampling Detection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1523880" y="1523880"/>
            <a:ext cx="2303640" cy="171936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5705640" y="1481040"/>
            <a:ext cx="2303280" cy="171936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0" y="0"/>
            <a:ext cx="1874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0" y="0"/>
            <a:ext cx="1874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0" y="0"/>
            <a:ext cx="1874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3"/>
          <a:stretch/>
        </p:blipFill>
        <p:spPr>
          <a:xfrm>
            <a:off x="6019920" y="38862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4"/>
          <a:stretch/>
        </p:blipFill>
        <p:spPr>
          <a:xfrm>
            <a:off x="1752480" y="388620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1510200" y="3279600"/>
            <a:ext cx="230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Original Imag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488560" y="3279600"/>
            <a:ext cx="260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Tampered Imag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952880" y="5794200"/>
            <a:ext cx="4163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Periodic pattern in Fouri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Transform of altered reg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218960" y="5794200"/>
            <a:ext cx="328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Fourier Transform of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unaltered reg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Inconsistencies in Lighting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3184560" cy="400860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2"/>
          <a:stretch/>
        </p:blipFill>
        <p:spPr>
          <a:xfrm>
            <a:off x="4419720" y="1523880"/>
            <a:ext cx="4462200" cy="298620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/>
          <p:nvPr/>
        </p:nvSpPr>
        <p:spPr>
          <a:xfrm>
            <a:off x="1143360" y="5562720"/>
            <a:ext cx="236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Genuine Imag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241960" y="4583160"/>
            <a:ext cx="220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Tampered Imag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Future Research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velopment of a better self embedding techniqu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velopment of an all inclusive passive authentication techniqu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Conclusion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gital image forgeries can be used to deceive the public and the authoritie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y are here to stay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Until non destructible/ non removal digital watermarks are perfected, passive authentication will remain necessary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urrently no single passive authentication technique can detect all types of digital forgerie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5400" y="-7668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226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600" spc="-1" strike="noStrike">
                <a:solidFill>
                  <a:srgbClr val="eaeaea"/>
                </a:solidFill>
                <a:latin typeface="Arial"/>
              </a:rPr>
              <a:t>Hany Farid, Creating and Detecting Doctored and Virtual Images: Implications to The Child Pornography Prevention Act,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Technical Report, TR2004-518, Dartmouth College, Computer Science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Detection of Copy-Move Forgery in Digital Images, Jessica Fridrich, David Soukal and Jan Lukas, Proceedings of Digital Forensic Research Workshop, August 2003,  </a:t>
            </a:r>
            <a:r>
              <a:rPr b="0" lang="en-US" sz="1600" spc="-1" strike="noStrike" u="sng">
                <a:solidFill>
                  <a:srgbClr val="65b2ff"/>
                </a:solidFill>
                <a:uFillTx/>
                <a:latin typeface="Arial"/>
                <a:hlinkClick r:id="rId1"/>
              </a:rPr>
              <a:t>www.ws.binghamton.edu/fridrich/Research/copymove.pdf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Detection of image alterations using semi-fragile watermarks, E.T. Lin, C. I. Podilchuk, and E.J. Delp, </a:t>
            </a:r>
            <a:r>
              <a:rPr b="0" lang="en-US" sz="1600" spc="-1" strike="noStrike" u="sng">
                <a:solidFill>
                  <a:srgbClr val="65b2ff"/>
                </a:solidFill>
                <a:uFillTx/>
                <a:latin typeface="Arial"/>
                <a:hlinkClick r:id="rId2"/>
              </a:rPr>
              <a:t>http://shay.ecn.purdue.edu/~linet/papers/SPIE-2000.pdf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Semi-fragile watermarking for Telltale Tamper Proofing and Authenticating, H. H. Ko and S. J. Park, </a:t>
            </a:r>
            <a:r>
              <a:rPr b="0" lang="en-US" sz="1600" spc="-1" strike="noStrike" u="sng">
                <a:solidFill>
                  <a:srgbClr val="65b2ff"/>
                </a:solidFill>
                <a:uFillTx/>
                <a:latin typeface="Arial"/>
                <a:hlinkClick r:id="rId3"/>
              </a:rPr>
              <a:t>http://www.hongik.edu/~sjpark/udt/Semi-Fragile%20Watermarking%20for%20Telltale%20Tamper%20Proofing%20and%20A.doc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Methods for Tamper Detection in Digital Images, Jiri Fridrich, Proc. ACM Workshop on Multimedia and Security, Orlando, FL, October 30-31, 1999, pp. 19-23, </a:t>
            </a:r>
            <a:r>
              <a:rPr b="0" lang="en-US" sz="1600" spc="-1" strike="noStrike" u="sng">
                <a:solidFill>
                  <a:srgbClr val="65b2ff"/>
                </a:solidFill>
                <a:uFillTx/>
                <a:latin typeface="Arial"/>
                <a:hlinkClick r:id="rId4"/>
              </a:rPr>
              <a:t>http://www.ws.binghamton.edu/fridrich/Research/acm99.doc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Information Authentication for a Slippery New Age, S. Walton, Dr. Dobbs Journal, Vol. 20, No. 4, pp 18-26, Apr 1995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Blind Detection of Photomontage using Higher Order Statistics, T. Ng, S. Chang and Q. Sun, http://www.ee.columbia.edu/~qibin/papers/qibin2004_iscas_1.pdf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References (continued)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A Digital Watermark, R. van Schyndel, A. Tirkel and C. Osborne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, Proceedings of the IEEE International Conference on Image Processing, vol. 2, pp. 86-90, Austin, Texas, November 1994 </a:t>
            </a:r>
            <a:r>
              <a:rPr b="0" lang="en-US" sz="1600" spc="-1" strike="noStrike" u="sng">
                <a:solidFill>
                  <a:srgbClr val="65b2ff"/>
                </a:solidFill>
                <a:uFillTx/>
                <a:latin typeface="Arial"/>
                <a:hlinkClick r:id="rId1"/>
              </a:rPr>
              <a:t>http://goanna.cs.rmit.edu.au/~ronvs/papers/ICIP94.PDF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A Watermark for Image Integrity and Ownership Verification, P. Wong, IS&amp;T’s 1998 Image Processing, Image Quality, Image Capture, Systems Conference, Portland, Oregon, May 1998, pp. 374 – 379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An Invisible Watermarking Technique for Image Verification, M. Yeung and F. Mintzer, Proc. ICIP’97, Santa Barbara, California 1997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Image watermarking for tamper detection, Jiri Fridrich,</a:t>
            </a:r>
            <a:r>
              <a:rPr b="0" i="1" lang="en-US" sz="1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Proc. ICIP '98, Chicago, Oct 1998, </a:t>
            </a:r>
            <a:r>
              <a:rPr b="0" lang="en-US" sz="1600" spc="-1" strike="noStrike" u="sng">
                <a:solidFill>
                  <a:srgbClr val="65b2ff"/>
                </a:solidFill>
                <a:uFillTx/>
                <a:latin typeface="Arial"/>
                <a:hlinkClick r:id="rId2"/>
              </a:rPr>
              <a:t>http://www.rl.af.mil/programs/shid/downloads/icip98_434.pdf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Methods for Detecting Changes in Digital Images, J. Fridrich, Proc. of The 6th IEEE International Workshop on Intelligent Signal Processing and Communication Systems (ISPACS'98), Melbourne, Australia, 4-6 November 1998, pp. 173–177, </a:t>
            </a:r>
            <a:r>
              <a:rPr b="0" lang="en-US" sz="1600" spc="-1" strike="noStrike" u="sng">
                <a:solidFill>
                  <a:srgbClr val="65b2ff"/>
                </a:solidFill>
                <a:uFillTx/>
                <a:latin typeface="Arial"/>
                <a:hlinkClick r:id="rId3"/>
              </a:rPr>
              <a:t>http://www.ws.binghamton.edu/fridrich/Research/ispacs.doc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A Robust Content Based Digital Signature for Image Authentication, M. Schneider and S. Chang, Proceedings of the International Conference on  Image Processing, 1996, Volume 3, Issue , 16-19 Sep 1996 Page(s):227 - 230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References (continued)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A New Fingerprinting Method for Digital Images, V. Fotopoulos and A. N. Skodras, </a:t>
            </a:r>
            <a:r>
              <a:rPr b="0" lang="en-US" sz="1600" spc="-1" strike="noStrike" u="sng">
                <a:solidFill>
                  <a:srgbClr val="65b2ff"/>
                </a:solidFill>
                <a:uFillTx/>
                <a:latin typeface="Arial"/>
                <a:hlinkClick r:id="rId1"/>
              </a:rPr>
              <a:t>http://www.upatras.gr/ieee/skodras/pubs/ans-c35.pdf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Mehdi Kharrazi, Husrev T. Sencar and Nasir Memon, Blind Source Camera Identification, International Conference on Image Processing, 2004, ICIP’04, Volume 1, 24-27 Oct. 2004, pp. 709 -712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Rotation, Scale and Translation Invariant Digital Image Watermarking,  J.J.K. O’Ruanaidh and T. Pun, Proceedings of the ICIP, VOl. 1, pp 536-539, Santa Barbara, California, Oct 1997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Secure Digital Camera, Paul Blythe and Jessica Fridrich, </a:t>
            </a:r>
            <a:r>
              <a:rPr b="0" lang="en-US" sz="1600" spc="-1" strike="noStrike" u="sng">
                <a:solidFill>
                  <a:srgbClr val="65b2ff"/>
                </a:solidFill>
                <a:uFillTx/>
                <a:latin typeface="Arial"/>
                <a:hlinkClick r:id="rId2"/>
              </a:rPr>
              <a:t>http://www.dfrws.org/2004/bios/day3/D3-lyth_Secure_Digital_Camera.pdf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Alin C. Popescu and Hany Farid, Exposing Digital Forgeries in Color Filter Array Interpolated Images, IEEE Transactions on Signal Processing, Vol. 53, Issue 10, Part 2, October 2005, pp 3948-3959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Epson's Image Authentication for digicams, http://www.dpreview.com/new/9904/99040501epson.asp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When is Seeing Believing, W. J. Mitchell, Scientific American, pp. 44 -49, February 1994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References (continued)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Exposing digital forgeries by detecting inconsistencies in lighting by M. K. Johnson and H. Farid, ACM Multimedia and Security Workshop, New York, NY, 2005, http://www.cs.dartmouth.edu/~farid/publications/acm05.pdf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Exposing Digital Forgeries by Detecting Traces of Re-sampling, A. C. Popescu and H. Farid, IEEE Transactions on Signal Processing, 53(2):758-767, 2005, http://www.cs.dartmouth.edu/~farid/publications/sp05.pdf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Exposing digital forgeries by detecting duplicated image regions, A. C. Popescu and H. Farid, Technical Report 2004-515, Dartmouth College, http://www.ists.dartmouth.edu/library/tr-2004-515.pdf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A Tutorial on Principal Components Analaysis, Lindsay I. Smith http://csnet.otago.ac.nz/cosc453/student_tutorials/principal_components.pdf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Automatic Estimation of the Projected Light Source Direction, P. Nillius and j. –O. Eklundh, Proceddings of the IEEE Computer Science Conference on Computer Vision and Pattern Recognition, 2001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Protection of Digital Images Using Self Embedding, J. Fridrich and M. Goljan, </a:t>
            </a:r>
            <a:r>
              <a:rPr b="0" i="1" lang="en-US" sz="1600" spc="-1" strike="noStrike">
                <a:solidFill>
                  <a:srgbClr val="eaeaea"/>
                </a:solidFill>
                <a:latin typeface="Arial"/>
              </a:rPr>
              <a:t>Symposium on Content Security and Data Hiding in Digital Media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, New Jersey Institute of Technology, May 14, 1999, http://www.ws.binghamton.edu/fridrich/Research/nj_may14.doc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A Model for Image Splicing, T. Ng and S. Chang, ICIP '04.  International Conference on Image Processing,. Volume 2,  24-27 Oct. 2004 Page(s):1169 - 1172 Vol.2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Easy to be deceived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457200" y="1065240"/>
            <a:ext cx="3505320" cy="235440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6781680" y="914400"/>
            <a:ext cx="2127240" cy="32385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2133720" y="3657600"/>
            <a:ext cx="4495680" cy="29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Goal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dentify image tampering method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sess methods available for protecting image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sess image authentication technique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dentify directions for future work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Categories of Image Tampering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re are three main categories of image tampering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nhanc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mposit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py/Mov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Enhancing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hanging the color of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hanging the weather condition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lurring out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334120" y="1600200"/>
            <a:ext cx="334332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Compositing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64508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089680" y="1789200"/>
            <a:ext cx="35971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648320" y="1905120"/>
            <a:ext cx="403848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mbining two or more images to create a new imag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68440" y="1830240"/>
            <a:ext cx="3927240" cy="39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Copy-Move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pying regions of the original image and pasting into other areas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 yellow area has been copied and moved to conceal the truck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5276880" y="1523880"/>
            <a:ext cx="3409920" cy="225108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5257800" y="4038480"/>
            <a:ext cx="3409920" cy="224964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 rot="1210800">
            <a:off x="6858000" y="5181480"/>
            <a:ext cx="700200" cy="457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rot="1210800">
            <a:off x="5957640" y="4713120"/>
            <a:ext cx="685800" cy="45720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What can be done to protect digital images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9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792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atermark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ragile watermark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mi-fragile watermark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lf-embedding watermark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gital cameras with watermarking capabiliti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indent="792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gital Fingerprinting/Signatur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gital cameras with fingerprinting capabiliti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1T19:18:27Z</dcterms:created>
  <dc:creator> </dc:creator>
  <dc:description/>
  <dc:language>en-US</dc:language>
  <cp:lastModifiedBy> </cp:lastModifiedBy>
  <dcterms:modified xsi:type="dcterms:W3CDTF">2006-05-01T21:36:47Z</dcterms:modified>
  <cp:revision>43</cp:revision>
  <dc:subject/>
  <dc:title>Multimedia Security And Forensic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