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6600" y="164592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96600" y="413280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600" y="16459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6960" y="16459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600" y="41328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6960" y="41328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6600" y="16459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06840" y="16459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7080" y="16459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96600" y="41328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06840" y="41328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7080" y="41328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96600" y="16459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6600" y="16459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6600" y="16459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6960" y="16459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72920" y="198360"/>
            <a:ext cx="86072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6459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6960" y="16459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6600" y="41328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645920"/>
            <a:ext cx="4200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6960" y="16459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6960" y="413280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6459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6960" y="1645920"/>
            <a:ext cx="42001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96600" y="4132800"/>
            <a:ext cx="86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494000"/>
            <a:ext cx="9676080" cy="566712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96600" y="16459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432D09-27DA-44E6-BC03-9CC8E5C54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ricket.csail.mit.edu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ricket.csail.mit.edu/" TargetMode="External"/><Relationship Id="rId2" Type="http://schemas.openxmlformats.org/officeDocument/2006/relationships/hyperlink" Target="http://www.cs.berkeley.edu/%7Ekamin/localization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5920" y="350640"/>
            <a:ext cx="627372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2040"/>
                <a:tab algn="l" pos="7236000"/>
                <a:tab algn="l" pos="795672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Decoding Human Movement </a:t>
            </a:r>
            <a:br>
              <a:rPr sz="3600"/>
            </a:b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Using Wireless Sensor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3081960"/>
            <a:ext cx="8609040" cy="28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Bas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525 Semester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ricket Beacon Reading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6960" y="1645920"/>
            <a:ext cx="860904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up to 10 meters distance from beacon, 10 bits per distance reading (in cm), 50 bits total plus ID for beacon (can be encoded to 4 bi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50 microseconds per bit * 54 bits = 2700 microseconds, or 2.7 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encode by change, similar to Jpeg / VLI encoding, but wh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he movement, there might be a small 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73280" y="4694400"/>
            <a:ext cx="9144000" cy="13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ricket In Ac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861400" cy="27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s online at Cricket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ricket.csail.mit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ing a moving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-configuring robots (Roomba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722240"/>
            <a:ext cx="8632800" cy="48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goal of this project, we need highly accurate, quick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cket is good, but there is room for improvement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use a hybrid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cket sensors plus cameras/mar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 sens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focus on smaller movements or individual body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 of this platform may remove some of the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eferenc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798200"/>
            <a:ext cx="944892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ricket.csail.mit.ed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cs.berkeley.edu/%7Ekamin/localiz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fei Wang, “Human movement tracking using a wearable wireless sensor network,” Masters Thesis, Iowa State University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cket v2 User Manual, Cricket Project, MIT Computer Science and Artificial Intelligence Lab, January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i Balakishnan, Roshan Baliga, Dorothy Curtis, Michel Goraczko, Allen Miu, Bodhi Priyantha, Adam Smith, Ken Steele, Seth Teller, Kevin Wang, “ Lessons from Developing and Deploying the Cricket Indoor Location System,” MIT Computer Science and Artificial Intelligence Laboratory (CSAIL), Novemb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875520"/>
            <a:ext cx="8609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2040"/>
                <a:tab algn="l" pos="7236000"/>
                <a:tab algn="l" pos="795672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Introduction &amp; Backgroun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72920" y="1722600"/>
            <a:ext cx="860868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to measure human bod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ment and, ultimately,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formal langu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ing this m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new idea, but new tech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logies may allow better/more accurat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eless sensors are small enough to be wearable; can they be useful in this resear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esentation focuses on ideas for an experiment in using cricket motes to measure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72200" y="1994040"/>
            <a:ext cx="3657600" cy="189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imilar Technologi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3280" y="1798560"/>
            <a:ext cx="68040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ra/Marker systems – LotR/Go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rs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(cameras track mov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rtial 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-of-s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ounding environment can cause interference &amp;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!  Proprietary Systems can run $30-40 thousand or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001000" y="2057400"/>
            <a:ext cx="18111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ricket Indoor Location System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74520"/>
            <a:ext cx="5943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 1-3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Mica2 platform, but adds ultra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cons broadcast an RF indentifier signal, and at the same time emit an ultrasonic “chir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e listeners measure the time lapse between the two, and compute distance to that bea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 propagates at speed of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und propagates at speed of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23120" y="4836960"/>
            <a:ext cx="3657600" cy="224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23120" y="2057400"/>
            <a:ext cx="36576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ricket Limitati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2920" y="1798560"/>
            <a:ext cx="88614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to 15 beacons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config is too slow – up to 1.34 sec per broadcast/chi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6 beacons, we need to be about 100x fas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limited range from beacons, large movements may not be capturable (think about a ballet le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these limitations, additional sensors such as flex sensors or inertial sensors, may need to be integrated into the system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Additional Sensor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6960" y="1646280"/>
            <a:ext cx="497520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Sensors can detect up to 90-degree  b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with Mica2Dot, which can broadcast measurements at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a2Dot sensors also include 2-dimension accelerometer and tilt sen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10400" y="2286000"/>
            <a:ext cx="4019400" cy="36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3800520" cy="1571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629400" y="4708440"/>
            <a:ext cx="2743200" cy="21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2920" y="204840"/>
            <a:ext cx="86086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xperimental Design &amp; Integr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8614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this has NOT been tested or simula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4 beacons, preferably more – up to 15! - distributed around test area.  These should be spread out both above and below the subject, depending on the movement being moni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listener attached to each key joint being monitored – i.e. Wrist, elbow, shou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 sensors / Mica2Dots if appropriate (i.e., for an arm motion involving bend at the elb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2920" y="204840"/>
            <a:ext cx="860868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xperimental Design &amp; Integration (continued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2920" y="1722240"/>
            <a:ext cx="88614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cons should be synchronized to avoid collision.  This will increase the number of useful broadcasts per sec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ers (and Dot motes, if applicable) should also be sync'ed to broadcast their readings at intervals; this should be fairly trivial, as the RF broadcast is much faster than the ultrasound chi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~10 readings per second per beacon, plus time for each listener to report results twice per sec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2920" y="516960"/>
            <a:ext cx="860868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ricket Config Scree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6080" y="1494000"/>
            <a:ext cx="9601200" cy="473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el Baswell</cp:lastModifiedBy>
  <dcterms:modified xsi:type="dcterms:W3CDTF">2006-05-01T23:52:52Z</dcterms:modified>
  <cp:revision>3</cp:revision>
  <dc:subject/>
  <dc:title>Decoding Human Movement  Using Wireless Sensors</dc:title>
</cp:coreProperties>
</file>