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807-A591-442E-A8DF-5A68BC04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 letter abbreviation SIP can refer to the following: *In computing, the IETF standard Session Initiation Protoco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/wiki/S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vate Branch eXchange (also called PBX or Private Business eXchange) is a telephone switching center that is owned by a private business, as opposed to one owned by a common carrier or by a telephone company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/wiki/P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Exchange Office, or FXO, is a telephone interface which receives battery power and ring signals. A standard telephone is such a devic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/wiki/FX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CE2-454A-4199-B5B0-E09625A3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499-31EB-4733-8561-B0BEF26E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BFF-0566-4509-BB8E-23533A02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93E-0070-40FA-B17B-81A41FD7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F42C-1D67-497B-AFB4-143BF281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B3BB-129E-482F-8E49-F73CD598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A89A-07DB-4A88-B489-8C7EFCC9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EFD2-56A3-4922-BA82-60125888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89D5-9251-45DE-925E-A0390E47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D31-5779-4D7C-93A9-3DE0911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C50-2FF0-48DC-8BBC-D853A70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AFA-9CFB-4871-AEBA-337D6136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C095-D88A-416F-B7EF-C2580B2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1471-287A-4A4A-9A9D-E13545B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92EB-02DE-41A9-9420-3CB4F4C3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C1DB-5903-47A6-8FFF-3A01B5F2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96EC-0248-4EED-9276-8875FC3D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D49-2DE4-4C02-B455-C70E8027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12A-CC84-4BC1-99A6-39335D7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9F1-BB43-4539-938F-5A558BCF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703-5B16-4C87-B0BB-5B6CA4BF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157-C8EC-4388-908C-4E55E19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52C-A27D-4048-A01D-EF26C934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9A5-913C-4B7C-AD0D-85A0434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B386-9AEB-4F80-9348-92EE2C7FDE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4FF4-7756-4D85-96C8-F9A596D5D3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sterisk.org/feature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gitnetworks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IP with the Asterisk PBX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ke Gerschefsk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ustin Gra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mes Yo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VoIP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IP stands for Voice over Internet Protoc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provides a means of transmitting voice communication over an IP based net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P can use a variety of types of VoIP, by far the most common types are SIP, H.323 and Sky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literally hundereds of different software based VoIP phones available and there also exists wide support for hardware VoIP phones from major manufactures such as Cis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VoIP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use existing network infrastruc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operate over relatively low bandwidth conne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an be very cost effe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IP is a feature rich solution for relatively low c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’mon, you know you’ve always wanted your own personal PBX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Asteris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 = $0.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sterisk.org/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terisk is the most widely supported open source PB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up an Asterisk server based on Linu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nd test SIP accounts using softph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 accounts to voicema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variety of Asterisk plug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ute incoming and outgoing calls across physical telco net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ing a Linux Dis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se suck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too doesn’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drake is great for a quick fi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terisk Depend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terisk compil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ing a FXO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vers for aforementioned FXO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rdw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digitnetworks.com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iginetworks X100P FXO card, is about $18 and allows people to build a pretty simple PBX without spending a lot of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wouldn’t let me bring this one from work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24480" y="1600200"/>
            <a:ext cx="2305080" cy="2146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05720" y="5105520"/>
            <a:ext cx="205740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505320"/>
            <a:ext cx="533160" cy="1523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21225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nst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ke calls J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mes calls Just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in calls Mike, gets voice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ke Checks voice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mes Forwards calls to Mike, Justin c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ke puts Justin on ho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100P Demo of real c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20:59:39Z</dcterms:created>
  <dc:creator>Justin Gray</dc:creator>
  <dc:description/>
  <dc:language>en-US</dc:language>
  <cp:lastModifiedBy>Justin Gray</cp:lastModifiedBy>
  <dcterms:modified xsi:type="dcterms:W3CDTF">2006-05-03T17:59:56Z</dcterms:modified>
  <cp:revision>7</cp:revision>
  <dc:subject/>
  <dc:title>VoIP with the Asterisk PBX</dc:title>
</cp:coreProperties>
</file>