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5DF1-E10C-4192-99E7-A0ED0A2B5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 letter abbreviation SIP can refer to the following: *In computing, the IETF standard Session Initiation Protoco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.wikipedia.org/wiki/S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vate Branch eXchange (also called PBX or Private Business eXchange) is a telephone switching center that is owned by a private business, as opposed to one owned by a common carrier or by a telephone company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.wikipedia.org/wiki/P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Exchange Office, or FXO, is a telephone interface which receives battery power and ring signals. A standard telephone is such a devic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.wikipedia.org/wiki/FX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173-7837-4272-ABFC-B12ABF8D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9ED-3A7E-4A24-A23B-67F6C7ED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06F-F641-4480-A08D-0F6A998B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DEC-36D2-4AA0-91CF-8254E277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0C5E-2A5D-44EA-85C3-BBC3EAFF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523C-507D-4787-9ACD-0F4CDFE0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052E-8C9E-4874-B020-7E6F159E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4209-3FC6-4FA7-8669-32B83A39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7D30-F732-4A26-BE5B-E2BCEFAB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5CCA-0263-4122-932D-8FEAFCAE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1760-2089-4095-A3FD-295ED99F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05E-6EDA-493E-8F66-79D55927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F880-410D-496C-BC5D-D2FDB482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E1BC-BED7-46A9-A62C-005F2291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DAB6-4684-43D2-8DBD-21819543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C5E6-92B3-47CA-9D99-76CE947D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1B11-02D0-4080-8B4E-C6798DDD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8DF-CD16-4619-BE77-5B55FFCB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9D4-5C71-4200-A1D5-814B22E2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B5F-0466-438F-BC16-8B0E4964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F88-E5C7-401A-93D9-68C08F21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70F-93F7-4B9B-88A1-6CA6EA29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345-D595-4B9F-BFCF-2C0D0FC4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BF4-14C0-4092-98F5-05E51AB8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743F-1739-492A-930E-8D925FEC71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00AA-01E3-4257-9B30-58E5DD7CC7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sterisk.org/features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gitnetworks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oIP with the Asterisk PBX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ike Gerschefsk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ustin Gra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mes Yo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VoIP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oIP stands for Voice over Internet Protoc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provides a means of transmitting voice communication over an IP based net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IP can use a variety of types of VoIP, by far the most common types are SIP, H.323 and Skyp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are literally hundereds of different software based VoIP phones available and there also exists wide support for hardware VoIP phones from major manufactures such as Cisc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VoIP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can use existing network infrastructu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can operate over relatively low bandwidth connec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can be very cost effec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oIP is a feature rich solution for relatively low co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’mon, you know you’ve always wanted your own personal PBX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Asteris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 = $0.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asterisk.org/fea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terisk is the most widely supported open source PB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ject 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tup an Asterisk server based on Linu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nd test SIP accounts using softpho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k accounts to voicema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variety of Asterisk plugi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ute incoming and outgoing calls across physical telco net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ing a Linux Distrib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se sucks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too doesn’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drake is great for a quick fix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terisk Dependen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terisk compil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ing a FXO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ivers for aforementioned FXO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rdw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digitnetworks.com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Diginetworks X100P FXO card, is about $18 and allows people to build a pretty simple PBX without spending a lot of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wouldn’t let me bring this one from work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324480" y="1600200"/>
            <a:ext cx="2305080" cy="2146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705720" y="5105520"/>
            <a:ext cx="2057400" cy="1218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3505320"/>
            <a:ext cx="533160" cy="1523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352680" y="4952880"/>
            <a:ext cx="21225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nst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ke calls Ja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mes calls Just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stin calls Mike, gets voicem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ke Checks voicem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mes Forwards calls to Mike, Justin ca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ke puts Justin on ho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100P Demo of real c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20:59:39Z</dcterms:created>
  <dc:creator>Justin Gray</dc:creator>
  <dc:description/>
  <dc:language>en-US</dc:language>
  <cp:lastModifiedBy>Justin Gray</cp:lastModifiedBy>
  <dcterms:modified xsi:type="dcterms:W3CDTF">2006-05-03T17:59:56Z</dcterms:modified>
  <cp:revision>7</cp:revision>
  <dc:subject/>
  <dc:title>VoIP with the Asterisk PBX</dc:title>
</cp:coreProperties>
</file>