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0288588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81200" y="1828800"/>
            <a:ext cx="8743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81200" y="3978360"/>
            <a:ext cx="8743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81200" y="1828800"/>
            <a:ext cx="42667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61760" y="1828800"/>
            <a:ext cx="42667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81200" y="3978360"/>
            <a:ext cx="42667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61760" y="3978360"/>
            <a:ext cx="42667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81200" y="18288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37520" y="18288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93840" y="18288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81200" y="39783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37520" y="39783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93840" y="39783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81200" y="1828800"/>
            <a:ext cx="87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81200" y="1828800"/>
            <a:ext cx="8743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81200" y="1828800"/>
            <a:ext cx="4266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61760" y="1828800"/>
            <a:ext cx="4266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62120" y="228240"/>
            <a:ext cx="8743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81200" y="1828800"/>
            <a:ext cx="42667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61760" y="1828800"/>
            <a:ext cx="4266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81200" y="3978360"/>
            <a:ext cx="42667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81200" y="1828800"/>
            <a:ext cx="4266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61760" y="1828800"/>
            <a:ext cx="42667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61760" y="3978360"/>
            <a:ext cx="42667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81200" y="1828800"/>
            <a:ext cx="42667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61760" y="1828800"/>
            <a:ext cx="42667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81200" y="3978360"/>
            <a:ext cx="8743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0285560" cy="6856560"/>
          </a:xfrm>
          <a:prstGeom prst="rect">
            <a:avLst/>
          </a:prstGeom>
          <a:solidFill>
            <a:srgbClr val="000080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81200" y="1828800"/>
            <a:ext cx="8743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1033560" y="5649840"/>
            <a:ext cx="8262720" cy="1055880"/>
            <a:chOff x="1033560" y="5649840"/>
            <a:chExt cx="8262720" cy="1055880"/>
          </a:xfrm>
        </p:grpSpPr>
        <p:sp>
          <p:nvSpPr>
            <p:cNvPr id="4" name=""/>
            <p:cNvSpPr/>
            <p:nvPr/>
          </p:nvSpPr>
          <p:spPr>
            <a:xfrm>
              <a:off x="7737480" y="5649840"/>
              <a:ext cx="1558800" cy="1055880"/>
            </a:xfrm>
            <a:custGeom>
              <a:avLst/>
              <a:gdLst/>
              <a:ahLst/>
              <a:rect l="l" t="t" r="r" b="b"/>
              <a:pathLst>
                <a:path w="982" h="665">
                  <a:moveTo>
                    <a:pt x="0" y="332"/>
                  </a:moveTo>
                  <a:lnTo>
                    <a:pt x="187" y="332"/>
                  </a:lnTo>
                  <a:lnTo>
                    <a:pt x="244" y="140"/>
                  </a:lnTo>
                  <a:lnTo>
                    <a:pt x="324" y="461"/>
                  </a:lnTo>
                  <a:lnTo>
                    <a:pt x="443" y="0"/>
                  </a:lnTo>
                  <a:lnTo>
                    <a:pt x="561" y="664"/>
                  </a:lnTo>
                  <a:lnTo>
                    <a:pt x="697" y="114"/>
                  </a:lnTo>
                  <a:lnTo>
                    <a:pt x="742" y="294"/>
                  </a:lnTo>
                  <a:lnTo>
                    <a:pt x="981" y="294"/>
                  </a:lnTo>
                </a:path>
              </a:pathLst>
            </a:custGeom>
            <a:noFill/>
            <a:ln cap="rnd" w="2556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033560" y="6172200"/>
              <a:ext cx="6780240" cy="0"/>
            </a:xfrm>
            <a:prstGeom prst="line">
              <a:avLst/>
            </a:prstGeom>
            <a:ln w="255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992160" y="5573880"/>
            <a:ext cx="8263080" cy="1055520"/>
            <a:chOff x="992160" y="5573880"/>
            <a:chExt cx="8263080" cy="1055520"/>
          </a:xfrm>
        </p:grpSpPr>
        <p:sp>
          <p:nvSpPr>
            <p:cNvPr id="7" name=""/>
            <p:cNvSpPr/>
            <p:nvPr/>
          </p:nvSpPr>
          <p:spPr>
            <a:xfrm>
              <a:off x="7696080" y="5573880"/>
              <a:ext cx="1559160" cy="1055520"/>
            </a:xfrm>
            <a:custGeom>
              <a:avLst/>
              <a:gdLst/>
              <a:ahLst/>
              <a:rect l="l" t="t" r="r" b="b"/>
              <a:pathLst>
                <a:path w="982" h="665">
                  <a:moveTo>
                    <a:pt x="0" y="332"/>
                  </a:moveTo>
                  <a:lnTo>
                    <a:pt x="187" y="332"/>
                  </a:lnTo>
                  <a:lnTo>
                    <a:pt x="244" y="140"/>
                  </a:lnTo>
                  <a:lnTo>
                    <a:pt x="324" y="461"/>
                  </a:lnTo>
                  <a:lnTo>
                    <a:pt x="443" y="0"/>
                  </a:lnTo>
                  <a:lnTo>
                    <a:pt x="561" y="664"/>
                  </a:lnTo>
                  <a:lnTo>
                    <a:pt x="697" y="114"/>
                  </a:lnTo>
                  <a:lnTo>
                    <a:pt x="742" y="294"/>
                  </a:lnTo>
                  <a:lnTo>
                    <a:pt x="981" y="294"/>
                  </a:lnTo>
                </a:path>
              </a:pathLst>
            </a:custGeom>
            <a:noFill/>
            <a:ln cap="rnd" w="255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992160" y="6095880"/>
              <a:ext cx="6780240" cy="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SIP/RTP/RTCP Implementation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520" y="388620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orge Fu, UC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S 525 Semester Projec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ll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mplementation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81200" y="2057400"/>
            <a:ext cx="8743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parate Thread for RTP and RTC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pthread_create(&amp;child, NULL, send_RTP_RTCP, NULL);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5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Select System Call to Make SIP/RTP/RTCP/User Commands Send and Receive all Work Simultaneous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emo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81200" y="1828800"/>
            <a:ext cx="4295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1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19040" y="1295280"/>
            <a:ext cx="4648320" cy="47246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295960" y="1295280"/>
            <a:ext cx="441972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uture Work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876240" y="1371600"/>
          <a:ext cx="8743680" cy="4444920"/>
        </p:xfrm>
        <a:graphic>
          <a:graphicData uri="http://schemas.openxmlformats.org/drawingml/2006/table">
            <a:tbl>
              <a:tblPr/>
              <a:tblGrid>
                <a:gridCol w="4371840"/>
                <a:gridCol w="43718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la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or high quality voice, one way latency must not be greater than 150ms. Delay greater than 50ms leads to echo and talker overlap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itt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ariation in inter-packet arrival time. The solution to this problem is to introduce jitter buffer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cket Lo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oss in excess of 5-10% causes significant degradation in voice quality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-order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ckets may arrive out of order and this leads to garbled speech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peech Cod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CM,  PCM uLaw, ADPCM, LPC, LD-CELP, GS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ferences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9753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. Black, Voice over IP, 2nd ed., Prentice Hall, 2002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. Davidson and J. Peters, Voice over IP Fundamentals, Cisco Press, 200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uskalis, IP Telephony. The Integration of Robust IP Services, Prentice Hall, 200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. Liu and P. Mouchtaris, “Voice over IP Signaling: H.323 and Beyond,” IEEE Comm. Mag., October 2000, pp. 142-148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. Schulzrinne and J. Rosenberg, The Session Initiation Protocol: Internet-Centric Signaling,”  IEEE Commun. Mag., Oct. 2000, pp. 134-14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FC 1889: H. Schulzrinne et al, “RTP: A Transport Protocol for Real-Time Application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MS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S Sans Serif"/>
                <a:ea typeface="Times New Roman"/>
              </a:rPr>
              <a:t>http://www.itpapers.com/techguide/voiceip.pd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cs.columbia.edu/sip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wo Parts of the Project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81200" y="2057400"/>
            <a:ext cx="8743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derstand SIP, RTP and RTC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lement SIP, RTP and RTC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8743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Voice To/From IP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28600" y="106668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a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0480" y="510552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gi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676520"/>
            <a:ext cx="0" cy="3200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19320" y="510552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57600" y="1752480"/>
            <a:ext cx="114300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9880" y="1143000"/>
            <a:ext cx="7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o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81120" y="1676520"/>
            <a:ext cx="350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DEC: Analog to Digi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258520" y="251460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r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255280" y="3352680"/>
            <a:ext cx="30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eate Voice Data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259600" y="4038480"/>
            <a:ext cx="263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d Hea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RTP, UDP, IP, et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267080" y="15238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267080" y="2286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267080" y="30481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267080" y="38098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657600" y="5029200"/>
          <a:ext cx="121932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5029200"/>
                    <a:ext cx="12193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3657600" y="2590920"/>
            <a:ext cx="114300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57600" y="3352680"/>
            <a:ext cx="114300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4191120"/>
            <a:ext cx="114300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47242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icrosoft Sans Serif"/>
              </a:rPr>
              <a:t>ISO Reference Model and VoIP Standards </a:t>
            </a:r>
            <a:br>
              <a:rPr sz="3200"/>
            </a:b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838080" y="1447920"/>
            <a:ext cx="8762760" cy="4114800"/>
            <a:chOff x="838080" y="1447920"/>
            <a:chExt cx="8762760" cy="4114800"/>
          </a:xfrm>
        </p:grpSpPr>
        <p:grpSp>
          <p:nvGrpSpPr>
            <p:cNvPr id="72" name=""/>
            <p:cNvGrpSpPr/>
            <p:nvPr/>
          </p:nvGrpSpPr>
          <p:grpSpPr>
            <a:xfrm>
              <a:off x="845640" y="1450440"/>
              <a:ext cx="8746920" cy="4108680"/>
              <a:chOff x="845640" y="1450440"/>
              <a:chExt cx="8746920" cy="4108680"/>
            </a:xfrm>
          </p:grpSpPr>
          <p:grpSp>
            <p:nvGrpSpPr>
              <p:cNvPr id="73" name=""/>
              <p:cNvGrpSpPr/>
              <p:nvPr/>
            </p:nvGrpSpPr>
            <p:grpSpPr>
              <a:xfrm>
                <a:off x="845640" y="1450440"/>
                <a:ext cx="4365360" cy="735120"/>
                <a:chOff x="845640" y="1450440"/>
                <a:chExt cx="4365360" cy="73512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845640" y="1450440"/>
                  <a:ext cx="4365360" cy="73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5" name=""/>
                <p:cNvGrpSpPr/>
                <p:nvPr/>
              </p:nvGrpSpPr>
              <p:grpSpPr>
                <a:xfrm>
                  <a:off x="845640" y="1450440"/>
                  <a:ext cx="4365000" cy="712080"/>
                  <a:chOff x="845640" y="1450440"/>
                  <a:chExt cx="4365000" cy="7120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>
                    <a:off x="860760" y="1455840"/>
                    <a:ext cx="4334760" cy="70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Microsoft Sans Serif"/>
                      </a:rPr>
                      <a:t> </a:t>
                    </a:r>
                    <a:r>
                      <a:rPr b="0" lang="en-US" sz="2400" spc="-1" strike="noStrike">
                        <a:solidFill>
                          <a:srgbClr val="ffcc99"/>
                        </a:solidFill>
                        <a:latin typeface="Microsoft Sans Serif"/>
                      </a:rPr>
                      <a:t>ISO Protocol layer</a:t>
                    </a:r>
                    <a:r>
                      <a:rPr b="0" lang="en-US" sz="1200" spc="-1" strike="noStrike">
                        <a:solidFill>
                          <a:srgbClr val="ffffff"/>
                        </a:solidFill>
                        <a:latin typeface="Microsoft Sans Serif"/>
                      </a:rPr>
                      <a:t> 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845640" y="1450440"/>
                    <a:ext cx="4365000" cy="712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8" name=""/>
              <p:cNvGrpSpPr/>
              <p:nvPr/>
            </p:nvGrpSpPr>
            <p:grpSpPr>
              <a:xfrm>
                <a:off x="5211360" y="1450440"/>
                <a:ext cx="4381200" cy="735120"/>
                <a:chOff x="5211360" y="1450440"/>
                <a:chExt cx="4381200" cy="73512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5211360" y="1450440"/>
                  <a:ext cx="4381200" cy="73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5211360" y="1450440"/>
                  <a:ext cx="4380840" cy="712080"/>
                  <a:chOff x="5211360" y="1450440"/>
                  <a:chExt cx="4380840" cy="71208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>
                    <a:off x="5226840" y="1455840"/>
                    <a:ext cx="4349880" cy="70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Microsoft Sans Serif"/>
                      </a:rPr>
                      <a:t> </a:t>
                    </a:r>
                    <a:r>
                      <a:rPr b="0" lang="en-US" sz="2400" spc="-1" strike="noStrike">
                        <a:solidFill>
                          <a:srgbClr val="ffcc99"/>
                        </a:solidFill>
                        <a:latin typeface="Microsoft Sans Serif"/>
                      </a:rPr>
                      <a:t>Protocols and standards</a:t>
                    </a:r>
                    <a:r>
                      <a:rPr b="0" lang="en-US" sz="1200" spc="-1" strike="noStrike">
                        <a:solidFill>
                          <a:srgbClr val="ffffff"/>
                        </a:solidFill>
                        <a:latin typeface="Microsoft Sans Serif"/>
                      </a:rPr>
                      <a:t> 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5211360" y="1450440"/>
                    <a:ext cx="4380840" cy="712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3" name=""/>
              <p:cNvGrpSpPr/>
              <p:nvPr/>
            </p:nvGrpSpPr>
            <p:grpSpPr>
              <a:xfrm>
                <a:off x="845640" y="2174040"/>
                <a:ext cx="4365360" cy="712080"/>
                <a:chOff x="845640" y="2174040"/>
                <a:chExt cx="4365360" cy="71208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860760" y="2179800"/>
                  <a:ext cx="4335120" cy="70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Microsoft Sans Serif"/>
                    </a:rPr>
                    <a:t>Presentation</a:t>
                  </a:r>
                  <a:r>
                    <a:rPr b="0" lang="en-US" sz="1200" spc="-1" strike="noStrike">
                      <a:solidFill>
                        <a:srgbClr val="ffffff"/>
                      </a:solidFill>
                      <a:latin typeface="Microsoft Sans Serif"/>
                    </a:rPr>
                    <a:t> 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845640" y="2174040"/>
                  <a:ext cx="4365360" cy="71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5211360" y="2174040"/>
                <a:ext cx="4381200" cy="712080"/>
                <a:chOff x="5211360" y="2174040"/>
                <a:chExt cx="4381200" cy="71208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5226840" y="2179800"/>
                  <a:ext cx="4350240" cy="70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Microsoft Sans Serif"/>
                    </a:rPr>
                    <a:t> </a:t>
                  </a:r>
                  <a:r>
                    <a:rPr b="0" lang="en-US" sz="2400" spc="-1" strike="noStrike">
                      <a:solidFill>
                        <a:srgbClr val="ffffff"/>
                      </a:solidFill>
                      <a:latin typeface="Microsoft Sans Serif"/>
                    </a:rPr>
                    <a:t>Codecs / Applications</a:t>
                  </a:r>
                  <a:r>
                    <a:rPr b="0" lang="en-US" sz="1200" spc="-1" strike="noStrike">
                      <a:solidFill>
                        <a:srgbClr val="ffffff"/>
                      </a:solidFill>
                      <a:latin typeface="Microsoft Sans Serif"/>
                    </a:rPr>
                    <a:t> 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5211360" y="2174040"/>
                  <a:ext cx="4381200" cy="71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845640" y="2898000"/>
                <a:ext cx="4365360" cy="712080"/>
                <a:chOff x="845640" y="2898000"/>
                <a:chExt cx="4365360" cy="71208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860760" y="2903400"/>
                  <a:ext cx="4335120" cy="70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Microsoft Sans Serif"/>
                    </a:rPr>
                    <a:t>Session</a:t>
                  </a:r>
                  <a:r>
                    <a:rPr b="0" lang="en-US" sz="1200" spc="-1" strike="noStrike">
                      <a:solidFill>
                        <a:srgbClr val="ffffff"/>
                      </a:solidFill>
                      <a:latin typeface="Microsoft Sans Serif"/>
                    </a:rPr>
                    <a:t> 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845640" y="2898000"/>
                  <a:ext cx="4365360" cy="71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5211360" y="2898000"/>
                <a:ext cx="4381200" cy="712080"/>
                <a:chOff x="5211360" y="2898000"/>
                <a:chExt cx="4381200" cy="71208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5226840" y="2903400"/>
                  <a:ext cx="4350240" cy="70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Microsoft Sans Serif"/>
                    </a:rPr>
                    <a:t> </a:t>
                  </a:r>
                  <a:r>
                    <a:rPr b="0" lang="en-US" sz="2400" spc="-1" strike="noStrike">
                      <a:solidFill>
                        <a:srgbClr val="ffffff"/>
                      </a:solidFill>
                      <a:latin typeface="Microsoft Sans Serif"/>
                    </a:rPr>
                    <a:t>H.323 / SIP / MGCP</a:t>
                  </a:r>
                  <a:r>
                    <a:rPr b="0" lang="en-US" sz="1200" spc="-1" strike="noStrike">
                      <a:solidFill>
                        <a:srgbClr val="ffffff"/>
                      </a:solidFill>
                      <a:latin typeface="Microsoft Sans Serif"/>
                    </a:rPr>
                    <a:t> 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5211360" y="2898000"/>
                  <a:ext cx="4381200" cy="71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845640" y="3621960"/>
                <a:ext cx="4365360" cy="489600"/>
                <a:chOff x="845640" y="3621960"/>
                <a:chExt cx="4365360" cy="48960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860760" y="3627720"/>
                  <a:ext cx="433512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Microsoft Sans Serif"/>
                    </a:rPr>
                    <a:t>Transport</a:t>
                  </a:r>
                  <a:r>
                    <a:rPr b="0" lang="en-US" sz="1200" spc="-1" strike="noStrike">
                      <a:solidFill>
                        <a:srgbClr val="ffffff"/>
                      </a:solidFill>
                      <a:latin typeface="Microsoft Sans Serif"/>
                    </a:rPr>
                    <a:t> 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845640" y="3621960"/>
                  <a:ext cx="4365360" cy="48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5211360" y="3621960"/>
                <a:ext cx="4381200" cy="489600"/>
                <a:chOff x="5211360" y="3621960"/>
                <a:chExt cx="4381200" cy="4896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5226840" y="3627720"/>
                  <a:ext cx="435024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Microsoft Sans Serif"/>
                    </a:rPr>
                    <a:t> </a:t>
                  </a:r>
                  <a:r>
                    <a:rPr b="0" lang="en-US" sz="2400" spc="-1" strike="noStrike">
                      <a:solidFill>
                        <a:srgbClr val="ffffff"/>
                      </a:solidFill>
                      <a:latin typeface="Microsoft Sans Serif"/>
                    </a:rPr>
                    <a:t>RTP / TCP / UDP</a:t>
                  </a:r>
                  <a:r>
                    <a:rPr b="0" lang="en-US" sz="1200" spc="-1" strike="noStrike">
                      <a:solidFill>
                        <a:srgbClr val="ffffff"/>
                      </a:solidFill>
                      <a:latin typeface="Microsoft Sans Serif"/>
                    </a:rPr>
                    <a:t> 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5211360" y="3621960"/>
                  <a:ext cx="4381200" cy="48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845640" y="4123440"/>
                <a:ext cx="4365360" cy="489600"/>
                <a:chOff x="845640" y="4123440"/>
                <a:chExt cx="4365360" cy="48960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860760" y="4128840"/>
                  <a:ext cx="4335120" cy="47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Microsoft Sans Serif"/>
                    </a:rPr>
                    <a:t>Network</a:t>
                  </a:r>
                  <a:r>
                    <a:rPr b="0" lang="en-US" sz="1200" spc="-1" strike="noStrike">
                      <a:solidFill>
                        <a:srgbClr val="ffffff"/>
                      </a:solidFill>
                      <a:latin typeface="Microsoft Sans Serif"/>
                    </a:rPr>
                    <a:t> 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845640" y="4123440"/>
                  <a:ext cx="4365360" cy="48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5211360" y="4123440"/>
                <a:ext cx="4381200" cy="489600"/>
                <a:chOff x="5211360" y="4123440"/>
                <a:chExt cx="4381200" cy="48960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5226840" y="4128840"/>
                  <a:ext cx="4350240" cy="47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Microsoft Sans Serif"/>
                    </a:rPr>
                    <a:t> </a:t>
                  </a:r>
                  <a:r>
                    <a:rPr b="0" lang="en-US" sz="2400" spc="-1" strike="noStrike">
                      <a:solidFill>
                        <a:srgbClr val="ffffff"/>
                      </a:solidFill>
                      <a:latin typeface="Microsoft Sans Serif"/>
                    </a:rPr>
                    <a:t>IP</a:t>
                  </a:r>
                  <a:r>
                    <a:rPr b="0" lang="en-US" sz="1200" spc="-1" strike="noStrike">
                      <a:solidFill>
                        <a:srgbClr val="ffffff"/>
                      </a:solidFill>
                      <a:latin typeface="Microsoft Sans Serif"/>
                    </a:rPr>
                    <a:t> 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5211360" y="4123440"/>
                  <a:ext cx="4381200" cy="48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845640" y="4624560"/>
                <a:ext cx="4365360" cy="934560"/>
                <a:chOff x="845640" y="4624560"/>
                <a:chExt cx="4365360" cy="93456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860760" y="4629960"/>
                  <a:ext cx="4335120" cy="92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Microsoft Sans Serif"/>
                    </a:rPr>
                    <a:t>Link</a:t>
                  </a:r>
                  <a:r>
                    <a:rPr b="0" lang="en-US" sz="1200" spc="-1" strike="noStrike">
                      <a:solidFill>
                        <a:srgbClr val="ffffff"/>
                      </a:solidFill>
                      <a:latin typeface="Microsoft Sans Serif"/>
                    </a:rPr>
                    <a:t> 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845640" y="4624560"/>
                  <a:ext cx="4365360" cy="93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5211360" y="4624560"/>
                <a:ext cx="4381200" cy="934560"/>
                <a:chOff x="5211360" y="4624560"/>
                <a:chExt cx="4381200" cy="93456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5226840" y="4629960"/>
                  <a:ext cx="4350240" cy="92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Microsoft Sans Serif"/>
                    </a:rPr>
                    <a:t> </a:t>
                  </a:r>
                  <a:r>
                    <a:rPr b="0" lang="en-US" sz="2400" spc="-1" strike="noStrike">
                      <a:solidFill>
                        <a:srgbClr val="ffffff"/>
                      </a:solidFill>
                      <a:latin typeface="Microsoft Sans Serif"/>
                    </a:rPr>
                    <a:t>FR, ATM, Ethernet, PPP, etc.</a:t>
                  </a:r>
                  <a:r>
                    <a:rPr b="0" lang="en-US" sz="1200" spc="-1" strike="noStrike">
                      <a:solidFill>
                        <a:srgbClr val="ffffff"/>
                      </a:solidFill>
                      <a:latin typeface="Microsoft Sans Serif"/>
                    </a:rPr>
                    <a:t> 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5211360" y="4624560"/>
                  <a:ext cx="4381200" cy="93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3" name=""/>
            <p:cNvSpPr/>
            <p:nvPr/>
          </p:nvSpPr>
          <p:spPr>
            <a:xfrm>
              <a:off x="838080" y="1447920"/>
              <a:ext cx="8762760" cy="41148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0" y="680400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58680"/>
            <a:ext cx="102870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IP Messages – Methods and Responses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15880" y="2048040"/>
            <a:ext cx="4538880" cy="458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SIP Method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228600"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NVITE – Initiates a call by inviting user to participate in sessio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228600"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CK - Confirms that the client has received a final response to an INVITE request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228600"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YE - Indicates termination of the call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228600"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ANCEL - Cancels a pending request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228600"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EGISTER – Registers the user agent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228600"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PTIONS – Used to query the capabilities of a serve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228600"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NFO – Used to carry out-of-bound information, such as DTMF digit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26120" y="2048040"/>
            <a:ext cx="4540320" cy="444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SIP Respons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228600"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xx - Informational Messag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228600"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2xx - Successful Respons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228600"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3xx - Redirection Respons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228600"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4xx - Request Failure Respons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228600"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5xx - Server Failure Respons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228600"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6xx - Global Failures Respons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4440" y="1600200"/>
            <a:ext cx="917244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P components communicate by exchanging SIP messag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7440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Example of SIP message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99760" y="1294920"/>
            <a:ext cx="60800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INVITE sip:bob@domain.com SIP/2.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Via: SIP/2.0/UDP 166.34.27.44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From: sip:alice@mci.com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To: sip:bob@domain.com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Call-ID: a2e3a@mci.com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Content-Type: application/sdp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Content-Length: 885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c=IN IP4 166.34.27.44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=audio 38060 RTP/AVP 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991200" y="1255680"/>
            <a:ext cx="208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201080" y="1967040"/>
            <a:ext cx="2444400" cy="26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Comic Sans MS"/>
              </a:rPr>
              <a:t>HTTP message synta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Comic Sans MS"/>
              </a:rPr>
              <a:t>sdp = session description protoc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Comic Sans MS"/>
              </a:rPr>
              <a:t>Call-ID is unique for every cal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C-to-PC</a:t>
            </a:r>
            <a:br>
              <a:rPr sz="3200"/>
            </a:b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1066680" cy="10206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7620120" y="2514600"/>
            <a:ext cx="1066680" cy="10206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419720" y="4876920"/>
            <a:ext cx="1049040" cy="4078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971800" y="2819520"/>
            <a:ext cx="114300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715000" y="2819520"/>
            <a:ext cx="114300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200400"/>
            <a:ext cx="533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686800" y="320040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438280" y="2971800"/>
            <a:ext cx="5335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438280" y="3124080"/>
            <a:ext cx="5335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114800" y="3048120"/>
            <a:ext cx="533520" cy="1600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257800" y="3048120"/>
            <a:ext cx="457200" cy="1447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0" y="2971800"/>
            <a:ext cx="7621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0" y="3124080"/>
            <a:ext cx="7621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1523880" y="2971800"/>
            <a:ext cx="744480" cy="2001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772400" y="2971800"/>
            <a:ext cx="744480" cy="200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6"/>
          <a:stretch/>
        </p:blipFill>
        <p:spPr>
          <a:xfrm>
            <a:off x="4038480" y="4419720"/>
            <a:ext cx="1905120" cy="14475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7"/>
          <a:stretch/>
        </p:blipFill>
        <p:spPr>
          <a:xfrm>
            <a:off x="4343400" y="4952880"/>
            <a:ext cx="1049400" cy="4082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8"/>
          <a:stretch/>
        </p:blipFill>
        <p:spPr>
          <a:xfrm>
            <a:off x="304920" y="2743200"/>
            <a:ext cx="561960" cy="5824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9"/>
          <a:stretch/>
        </p:blipFill>
        <p:spPr>
          <a:xfrm>
            <a:off x="9296280" y="2743200"/>
            <a:ext cx="561960" cy="5824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0"/>
          <a:stretch/>
        </p:blipFill>
        <p:spPr>
          <a:xfrm>
            <a:off x="3124080" y="2971800"/>
            <a:ext cx="762120" cy="2286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11"/>
          <a:stretch/>
        </p:blipFill>
        <p:spPr>
          <a:xfrm>
            <a:off x="5867280" y="2971800"/>
            <a:ext cx="76212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2760" y="0"/>
            <a:ext cx="8744040" cy="68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Call to a known Computer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477120" y="1006560"/>
            <a:ext cx="38098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ice’s SIP invite message indicates her port number &amp; IP address. Indicates  encoding that Alice prefers to receive (PCM ulaw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ob’s 200 OK message indicates his port number, IP address &amp; preferred encoding (GSM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P messages can be sent over TCP or UDP; here sent over RTP/UDP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ault SIP port number is 5060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-343080" y="838080"/>
          <a:ext cx="7614000" cy="559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43080" y="838080"/>
                    <a:ext cx="7614000" cy="559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mplementation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81200" y="2057400"/>
            <a:ext cx="8743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en All the Sockets in the Main Thre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da-DK" sz="2500" spc="-1" strike="noStrike">
                <a:solidFill>
                  <a:srgbClr val="ffffff"/>
                </a:solidFill>
                <a:latin typeface="Times New Roman"/>
              </a:rPr>
              <a:t>sip_send_socket = socket (AF_INET, SOCK_DGRAM, 0);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5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da-DK" sz="2500" spc="-1" strike="noStrike">
                <a:solidFill>
                  <a:srgbClr val="ffffff"/>
                </a:solidFill>
                <a:latin typeface="Times New Roman"/>
              </a:rPr>
              <a:t>rtp_send_socket = socket (AF_INET, SOCK_DGRAM, 0);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5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da-DK" sz="2500" spc="-1" strike="noStrike">
                <a:solidFill>
                  <a:srgbClr val="ffffff"/>
                </a:solidFill>
                <a:latin typeface="Times New Roman"/>
              </a:rPr>
              <a:t>rtcp_send_socket = socket (AF_INET, SOCK_DGRAM, 0);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5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da-DK" sz="2500" spc="-1" strike="noStrike">
                <a:solidFill>
                  <a:srgbClr val="ffffff"/>
                </a:solidFill>
                <a:latin typeface="Times New Roman"/>
              </a:rPr>
              <a:t>sip_receive_socket = socket (AF_INET, SOCK_DGRAM, 0);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5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da-DK" sz="2500" spc="-1" strike="noStrike">
                <a:solidFill>
                  <a:srgbClr val="ffffff"/>
                </a:solidFill>
                <a:latin typeface="Times New Roman"/>
              </a:rPr>
              <a:t>rtp_receive_socket = socket (AF_INET, SOCK_DGRAM, 0);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5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da-DK" sz="2500" spc="-1" strike="noStrike">
                <a:solidFill>
                  <a:srgbClr val="ffffff"/>
                </a:solidFill>
                <a:latin typeface="Times New Roman"/>
              </a:rPr>
              <a:t>rtcp_receive_socket = socket (AF_INET, SOCK_DGRAM, 0);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31T17:22:23Z</dcterms:created>
  <dc:creator>shashi</dc:creator>
  <dc:description/>
  <dc:language>en-US</dc:language>
  <cp:lastModifiedBy>George.Fu</cp:lastModifiedBy>
  <cp:lastPrinted>31146-05-27T03:19:16Z</cp:lastPrinted>
  <dcterms:modified xsi:type="dcterms:W3CDTF">2006-05-03T22:51:54Z</dcterms:modified>
  <cp:revision>181</cp:revision>
  <dc:subject/>
  <dc:title>Voice over IP (VoIP)</dc:title>
</cp:coreProperties>
</file>