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90A1-44B7-4876-B527-0CA67DEA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5FA9-B15B-4CD1-A718-AF0447D2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A3FD-3672-4731-A14B-A232000C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16D0-DA86-41CD-82EC-3CFE8BED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A1BF-4F11-4D44-B9E1-2A2B6744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AAF-CFA2-4257-987A-07AB7703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7A10-77DB-49C6-AD34-F3DA0F9F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0DFA-78F0-4A76-A9DB-3974277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101D-23D1-4F1D-91AA-6D707775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E657-F222-4780-98D1-5A6213CD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DF5D-801C-4093-B033-2BD34CE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1C08-760C-4E2A-8A19-1FD00F49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EBD6-5E7B-42C6-A72A-F3E6A0B8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2F45-85B0-4E3C-90A1-C8E4CE84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A401-E24F-42BD-B50A-67423BCD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C1F3-E3D3-433E-B936-8F0F5070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C45A-E673-45D1-B9D6-B6394A8D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D685-15A7-4A69-9EB6-1732CF8C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B2C9-5592-41EA-9991-251E43DC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EDD9-DE21-43A2-A238-272AE017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D3D1-5B51-4F6D-862D-6E9ABDD7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A548-3FCE-4434-AD94-6C46204B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75BF-A1D1-4E27-A91F-41335267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8EC2-B4DD-4EC8-99E7-B0709DB5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BC3B-57AC-4106-B36B-E74F850C71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7B28-875F-4310-9DC0-3562634788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mage Compression and Signal Process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 Hewe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5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sics of D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nputs -&gt; Real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PG encodes each pixel based on an 8X8 matrix of D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of the DCT are then discretized and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1676520" y="2438280"/>
            <a:ext cx="2733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ality of compres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frequency lends to high compression with less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ulses (non-smooth) source can lead to unpleasant 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5029200" y="3505320"/>
            <a:ext cx="32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ndancy/similarity is key to 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domain where redundancy/similarity occ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etize/quantize for further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eys to Compres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less – Must find information 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information simi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ad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source imag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 Dr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y                             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438280" cy="20545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2051280" cy="20574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1981080" y="4419720"/>
            <a:ext cx="2819520" cy="21286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6629400" y="4114800"/>
            <a:ext cx="2087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mple Lossless Compression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(GIF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number of colors (Uses a color m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 is based on repeated elements (LZ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ot work on a wide variety of source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mpression in Frequency/Spatial domai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advantage of spatial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 may decrease color re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take advantage of human perce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use further encoding (Huffman/RLE, etc) on frequency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requency Transforms (cont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content is not gained/l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bility is due to redundancy/similarity in the new dom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FT/FFT/DCT – How do they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requency Transfor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s at the sinusoidal behavior of the color in each row and colu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4038480" y="2743200"/>
            <a:ext cx="3695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w do they 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T (Discrete Fourier Transf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valued inputs -&gt; A single complex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“how much is there” of a single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FT (Fast Fourier Transf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inputs -&gt; Complex Outputs (0..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“How much is there” of n/2 frequ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T (Discrete Cosine Transf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inputs -&gt; Real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sics of DF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FT compares sin/cos to w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is complex number (mag+ph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838080" y="3657600"/>
          <a:ext cx="7391520" cy="302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39152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1981080" y="2362320"/>
            <a:ext cx="35910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23:34:54Z</dcterms:created>
  <dc:creator>Dan Hewett</dc:creator>
  <dc:description/>
  <dc:language>en-US</dc:language>
  <cp:lastModifiedBy>Dan Hewett</cp:lastModifiedBy>
  <dcterms:modified xsi:type="dcterms:W3CDTF">2006-05-01T13:29:07Z</dcterms:modified>
  <cp:revision>6</cp:revision>
  <dc:subject/>
  <dc:title>Image Compress and Signal Process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