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C4C5-2D29-4189-8839-FDDF1212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C304-388F-4E54-89B6-105D00AA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5E11-DD14-4657-9963-87EBB734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C3ED-C43B-4DFF-AC1D-66C1FDF7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E683-D050-446B-9D9B-A6E2D61B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53A7-0068-4068-9589-5F22BECF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BDBF-6AA3-4508-8976-7C4A363C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36C8-18A5-4A85-92B9-506EEF30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78B7-CF5F-442C-8E62-54643B11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7E80-DA5A-4417-A4AA-F6037E23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6135-5834-45BA-B096-93285592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6107-13C0-42C9-9A4C-218B16FC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BFB9-7B87-4025-8717-282CDA4F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7F74-000A-4BAA-B764-FA48F3A8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3D8F-AB0C-4CB0-901E-513AEE9E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300D-895C-4A2F-BB0E-55ACC869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1910-B0A5-4BB5-9456-C458C702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FA1E-EFE1-4336-BD58-60C2EC5E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5727-4850-4FCD-8F8D-07067A70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F984-202B-431C-B307-E477C33D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EB97-56D6-4C8D-8638-93B9CB52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4EEF-FF9E-4A7E-9A27-56B98948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05C7-DB1D-4D03-A6E4-2345580B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4C20-FAFC-4FC6-BA95-039900A0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45D2-7607-4F1D-8135-B3E9120B5C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3562-1E48-40BC-B18D-D4307E70B1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mage Compression and Signal Processing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 Hewe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5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sics of D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nputs -&gt; Real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PG encodes each pixel based on an 8X8 matrix of D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of the DCT are then discretized and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1676520" y="2438280"/>
            <a:ext cx="2733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ality of compres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frequency lends to high compression with less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ulses (non-smooth) source can lead to unpleasant 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5029200" y="3505320"/>
            <a:ext cx="3276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ndancy/similarity is key to 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domain where redundancy/similarity occ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etize/quantize for further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eys to Compres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less – Must find information 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information simi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ad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source imag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 Dra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sy                             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2438280" cy="20545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2051280" cy="20574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1981080" y="4419720"/>
            <a:ext cx="2819520" cy="21286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6629400" y="4114800"/>
            <a:ext cx="2087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e Lossless Compression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(GIF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number of colors (Uses a color m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on is based on repeated elements (LZ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ot work on a wide variety of source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mpression in Frequency/Spatial domai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advantage of spatial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on may decrease color re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take advantage of human perce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use further encoding (Huffman/RLE, etc) on frequency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requency Transforms (cont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content is not gained/l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bility is due to redundancy/similarity in the new dom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FT/FFT/DCT – How do they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requency Transfor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s at the sinusoidal behavior of the color in each row and colu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4038480" y="2743200"/>
            <a:ext cx="3695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do they 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T (Discrete Fourier Transf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valued inputs -&gt; A single complex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“how much is there” of a single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FT (Fast Fourier Transf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inputs -&gt; Complex Outputs (0..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“How much is there” of n/2 frequ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T (Discrete Cosine Transf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inputs -&gt; Real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sics of DF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T compares sin/cos to w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is complex number (mag+ph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838080" y="3657600"/>
          <a:ext cx="7391520" cy="302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39152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1981080" y="2362320"/>
            <a:ext cx="35910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23:34:54Z</dcterms:created>
  <dc:creator>Dan Hewett</dc:creator>
  <dc:description/>
  <dc:language>en-US</dc:language>
  <cp:lastModifiedBy>Dan Hewett</cp:lastModifiedBy>
  <dcterms:modified xsi:type="dcterms:W3CDTF">2006-05-01T13:29:07Z</dcterms:modified>
  <cp:revision>6</cp:revision>
  <dc:subject/>
  <dc:title>Image Compress and Signal Process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