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9C2-278B-4054-B781-8D97622C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76B-0DFC-4D91-AEEE-2F4D7D8E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B50-3041-4D3C-BF83-D6E44A9A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68A8-98AB-451D-B2CC-A198792D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1E2F-95A9-4D2D-95AA-509C0906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05B6-80F6-4220-943A-1F916134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DC87-DD8F-4D11-9640-497879C9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6694-6256-4B6F-B128-14C92F7F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9984-E229-4DB9-A8E1-0E98E223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4DA5-920F-49E1-9823-219D98CF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AD6C-08EC-4F09-82CB-BD942C69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484-022C-4BD1-B4DD-EA4E1147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733C-32AC-4F23-8421-3BD563F3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6F51-929E-4BB0-8FFF-3B1D2369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659F-A01F-4B46-B819-22D49A34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536F-1864-4425-BDF4-10DA3804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36DE-B750-431E-BD24-605D5703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467-3208-4931-B410-AAB8E3A5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95C-284F-477F-AB09-97AEF3D4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EE1-78C7-47B6-AE14-62E32CF9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250-1F42-42F7-9DBE-878C03D4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78AA-942F-42F5-AA4E-30C17845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3E8-87C5-4D81-8539-1713192D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E8AD-2DB2-483C-93B1-AEE6C442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E589-042E-4E32-814F-369226DF305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905A-0CDC-4802-8BBC-6EC22DB6321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ucidmist.com/sunnydale/" TargetMode="External"/><Relationship Id="rId2" Type="http://schemas.openxmlformats.org/officeDocument/2006/relationships/hyperlink" Target="http://www2.lucidmist.com:8080/sunnydale/" TargetMode="External"/><Relationship Id="rId3" Type="http://schemas.openxmlformats.org/officeDocument/2006/relationships/hyperlink" Target="http://www2.lucidmist.com:5190/sunnydale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Welcome to Sunnydal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web ga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th multimedia el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stin Le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monstr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http://www.lucidmist.com/sunnydale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http://www2.lucidmist.com:8080/sunnydale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http://www2.lucidmist.com:5190/sunnydale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ultimedia files are larg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ding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ML frames + scrip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X (IE on Windows only!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cromedia Flas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echnologies Us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P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ySQL 4.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D 2.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HTML 1.0 Transi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ML 1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ataba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search-related data is sto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cations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,y,z 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p skill level (visibil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s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, name, and pass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, creation date, descrip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quently changing data or highly configurable data is stored in XML files, not the data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ame File Tre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833480" y="2368080"/>
            <a:ext cx="5477040" cy="3724920"/>
            <a:chOff x="1833480" y="2368080"/>
            <a:chExt cx="5477040" cy="3724920"/>
          </a:xfrm>
        </p:grpSpPr>
        <p:cxnSp>
          <p:nvCxnSpPr>
            <p:cNvPr id="100" name="_s322643"/>
            <p:cNvCxnSpPr>
              <a:stCxn id="101" idx="0"/>
              <a:endCxn id="102" idx="2"/>
            </p:cNvCxnSpPr>
            <p:nvPr/>
          </p:nvCxnSpPr>
          <p:spPr>
            <a:xfrm flipV="1" rot="16200000">
              <a:off x="5362920" y="5330520"/>
              <a:ext cx="132480" cy="797760"/>
            </a:xfrm>
            <a:prstGeom prst="bentConnector3">
              <a:avLst>
                <a:gd name="adj1" fmla="val 493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322641"/>
            <p:cNvCxnSpPr>
              <a:stCxn id="104" idx="0"/>
              <a:endCxn id="102" idx="2"/>
            </p:cNvCxnSpPr>
            <p:nvPr/>
          </p:nvCxnSpPr>
          <p:spPr>
            <a:xfrm flipH="1" flipV="1" rot="5400000">
              <a:off x="4564440" y="5329440"/>
              <a:ext cx="132480" cy="800640"/>
            </a:xfrm>
            <a:prstGeom prst="bentConnector3">
              <a:avLst>
                <a:gd name="adj1" fmla="val 493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322639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761080" y="4068360"/>
              <a:ext cx="134640" cy="1596240"/>
            </a:xfrm>
            <a:prstGeom prst="bentConnector3">
              <a:avLst>
                <a:gd name="adj1" fmla="val 498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322637"/>
            <p:cNvCxnSpPr>
              <a:stCxn id="109" idx="0"/>
              <a:endCxn id="107" idx="2"/>
            </p:cNvCxnSpPr>
            <p:nvPr/>
          </p:nvCxnSpPr>
          <p:spPr>
            <a:xfrm flipH="1" flipV="1" rot="5400000">
              <a:off x="4962600" y="4865760"/>
              <a:ext cx="134640" cy="2160"/>
            </a:xfrm>
            <a:prstGeom prst="bentConnector3">
              <a:avLst>
                <a:gd name="adj1" fmla="val 498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322635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4164120" y="4067280"/>
              <a:ext cx="134640" cy="1599120"/>
            </a:xfrm>
            <a:prstGeom prst="bentConnector3">
              <a:avLst>
                <a:gd name="adj1" fmla="val 498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322633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5762160" y="3205800"/>
              <a:ext cx="132480" cy="1596240"/>
            </a:xfrm>
            <a:prstGeom prst="bentConnector3">
              <a:avLst>
                <a:gd name="adj1" fmla="val 493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322631"/>
            <p:cNvCxnSpPr>
              <a:stCxn id="116" idx="0"/>
              <a:endCxn id="114" idx="2"/>
            </p:cNvCxnSpPr>
            <p:nvPr/>
          </p:nvCxnSpPr>
          <p:spPr>
            <a:xfrm flipH="1" flipV="1" rot="5400000">
              <a:off x="4963680" y="4003200"/>
              <a:ext cx="132480" cy="2160"/>
            </a:xfrm>
            <a:prstGeom prst="bentConnector3">
              <a:avLst>
                <a:gd name="adj1" fmla="val 493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322629"/>
            <p:cNvCxnSpPr>
              <a:stCxn id="118" idx="0"/>
              <a:endCxn id="114" idx="2"/>
            </p:cNvCxnSpPr>
            <p:nvPr/>
          </p:nvCxnSpPr>
          <p:spPr>
            <a:xfrm flipH="1" flipV="1" rot="5400000">
              <a:off x="4165200" y="3204720"/>
              <a:ext cx="132480" cy="1599120"/>
            </a:xfrm>
            <a:prstGeom prst="bentConnector3">
              <a:avLst>
                <a:gd name="adj1" fmla="val 493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322619"/>
            <p:cNvCxnSpPr>
              <a:stCxn id="102" idx="1"/>
              <a:endCxn id="120" idx="2"/>
            </p:cNvCxnSpPr>
            <p:nvPr/>
          </p:nvCxnSpPr>
          <p:spPr>
            <a:xfrm rot="10800000">
              <a:off x="2518560" y="2654640"/>
              <a:ext cx="1562760" cy="286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322617"/>
            <p:cNvCxnSpPr>
              <a:stCxn id="107" idx="1"/>
              <a:endCxn id="120" idx="2"/>
            </p:cNvCxnSpPr>
            <p:nvPr/>
          </p:nvCxnSpPr>
          <p:spPr>
            <a:xfrm rot="10800000">
              <a:off x="2518560" y="2655360"/>
              <a:ext cx="1562760" cy="200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322615"/>
            <p:cNvCxnSpPr>
              <a:stCxn id="114" idx="1"/>
              <a:endCxn id="120" idx="2"/>
            </p:cNvCxnSpPr>
            <p:nvPr/>
          </p:nvCxnSpPr>
          <p:spPr>
            <a:xfrm rot="10800000">
              <a:off x="2518560" y="2654640"/>
              <a:ext cx="1562760" cy="1140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322614"/>
            <p:cNvCxnSpPr>
              <a:stCxn id="124" idx="1"/>
              <a:endCxn id="120" idx="2"/>
            </p:cNvCxnSpPr>
            <p:nvPr/>
          </p:nvCxnSpPr>
          <p:spPr>
            <a:xfrm rot="10800000">
              <a:off x="2518560" y="2654640"/>
              <a:ext cx="1562760" cy="70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322613"/>
            <p:cNvCxnSpPr>
              <a:stCxn id="126" idx="1"/>
              <a:endCxn id="120" idx="2"/>
            </p:cNvCxnSpPr>
            <p:nvPr/>
          </p:nvCxnSpPr>
          <p:spPr>
            <a:xfrm rot="10800000">
              <a:off x="2518560" y="2655360"/>
              <a:ext cx="1562760" cy="27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0" name="_s322609"/>
            <p:cNvSpPr/>
            <p:nvPr/>
          </p:nvSpPr>
          <p:spPr>
            <a:xfrm>
              <a:off x="1833480" y="2368080"/>
              <a:ext cx="1371600" cy="288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322610"/>
            <p:cNvSpPr/>
            <p:nvPr/>
          </p:nvSpPr>
          <p:spPr>
            <a:xfrm>
              <a:off x="4081320" y="2788560"/>
              <a:ext cx="1897200" cy="2869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322611"/>
            <p:cNvSpPr/>
            <p:nvPr/>
          </p:nvSpPr>
          <p:spPr>
            <a:xfrm>
              <a:off x="4081320" y="3219840"/>
              <a:ext cx="1897200" cy="2872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ail_templ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22612"/>
            <p:cNvSpPr/>
            <p:nvPr/>
          </p:nvSpPr>
          <p:spPr>
            <a:xfrm>
              <a:off x="4081320" y="3651120"/>
              <a:ext cx="1897200" cy="2872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e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322616"/>
            <p:cNvSpPr/>
            <p:nvPr/>
          </p:nvSpPr>
          <p:spPr>
            <a:xfrm>
              <a:off x="4081320" y="4513680"/>
              <a:ext cx="1897200" cy="2872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u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322618"/>
            <p:cNvSpPr/>
            <p:nvPr/>
          </p:nvSpPr>
          <p:spPr>
            <a:xfrm>
              <a:off x="4081320" y="5376600"/>
              <a:ext cx="1897200" cy="2872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322628"/>
            <p:cNvSpPr/>
            <p:nvPr/>
          </p:nvSpPr>
          <p:spPr>
            <a:xfrm>
              <a:off x="2747880" y="4070520"/>
              <a:ext cx="1368360" cy="297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080" rIns="6408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la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22630"/>
            <p:cNvSpPr/>
            <p:nvPr/>
          </p:nvSpPr>
          <p:spPr>
            <a:xfrm>
              <a:off x="4344840" y="4070520"/>
              <a:ext cx="1368720" cy="297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080" rIns="6408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mag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322632"/>
            <p:cNvSpPr/>
            <p:nvPr/>
          </p:nvSpPr>
          <p:spPr>
            <a:xfrm>
              <a:off x="5942160" y="4070520"/>
              <a:ext cx="1368360" cy="297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080" rIns="6408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u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322634"/>
            <p:cNvSpPr/>
            <p:nvPr/>
          </p:nvSpPr>
          <p:spPr>
            <a:xfrm>
              <a:off x="2747880" y="4933080"/>
              <a:ext cx="1368360" cy="297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080" rIns="6408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ne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322636"/>
            <p:cNvSpPr/>
            <p:nvPr/>
          </p:nvSpPr>
          <p:spPr>
            <a:xfrm>
              <a:off x="4344840" y="4933080"/>
              <a:ext cx="1368720" cy="297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322638"/>
            <p:cNvSpPr/>
            <p:nvPr/>
          </p:nvSpPr>
          <p:spPr>
            <a:xfrm>
              <a:off x="5942160" y="4933080"/>
              <a:ext cx="1368360" cy="297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440" rIns="73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22640"/>
            <p:cNvSpPr/>
            <p:nvPr/>
          </p:nvSpPr>
          <p:spPr>
            <a:xfrm>
              <a:off x="3546360" y="5796000"/>
              <a:ext cx="1368720" cy="297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440" rIns="73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lay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322642"/>
            <p:cNvSpPr/>
            <p:nvPr/>
          </p:nvSpPr>
          <p:spPr>
            <a:xfrm>
              <a:off x="5143680" y="5796000"/>
              <a:ext cx="1368360" cy="297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a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layer Dat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?xml version='1.0' ?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play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name&gt;Scare Trolfey&lt;/na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racefile&gt;Human&lt;/racefil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tslast&gt;1145659370&lt;/tslas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location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x&gt;0&lt;/x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y&gt;0&lt;/y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z&gt;0&lt;/z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/location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exp&gt;0&lt;/exp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money&gt;10&lt;/money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alignment&gt;0&lt;/alignmen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p&gt;100&lt;/hp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pmax&gt;100&lt;/hpmax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mp&gt;0&lt;/mp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mpmax&gt;0&lt;/mpmax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tp&gt;50&lt;/tp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tpmax&gt;50&lt;/tpmax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tpfrac&gt;0&lt;/tpfrac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att&gt;20&lt;/at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ef&gt;20&lt;/def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matt&gt;0&lt;/mat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mdef&gt;0&lt;/mdef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acc&gt;10&lt;/acc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ev&gt;20&lt;/ev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/play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ame.php (main game page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session for login k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 player data from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Regen r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Movement r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f location is registered in D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event r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t timestamp to n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player data to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lay UI and result(s) of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HP and G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s images to be created with program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age script files can be called like: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img src=“media/images/status.php?hp=100&amp;hpmax=100&amp;tp=30&amp;tpmax=50” 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uture updat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ion of core g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b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ayer inte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active comb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Flash based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conversion to Flas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0:03:43Z</dcterms:created>
  <dc:creator>Austin Lee</dc:creator>
  <dc:description/>
  <dc:language>en-US</dc:language>
  <cp:lastModifiedBy>Austin Lee</cp:lastModifiedBy>
  <dcterms:modified xsi:type="dcterms:W3CDTF">2006-05-03T10:54:35Z</dcterms:modified>
  <cp:revision>19</cp:revision>
  <dc:subject/>
  <dc:title>Welcome to Sunnyda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