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694-F2C7-4C26-854D-3B0B4207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EEB-5332-4AE3-8036-963A7E2A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6C5-C46B-4B9E-BA8D-FFE05B8C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C67-2A15-47FE-8C3E-2A1CE590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9849-0EBE-4AD4-A894-B0A2997E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4E07-C62A-4764-9581-BBC93245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C4D5-6EEA-45C9-ACB7-D07EBE5D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37DD-856D-436A-9ACF-AB022EE8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ACA5-43F4-4AF0-9D2B-8F04389B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5154-EC00-4561-A43E-682CE2BD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2039-CAD0-42DB-A442-2C91ECE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C22-ABF6-45EE-9AFD-ED59AE64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6CCF-0FD8-4695-B001-AA75750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7713-2BB1-4EB9-82BB-7C2392C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B034-2C68-4C8D-89DE-28ED3F30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E437-3A92-4949-B7C6-853322A5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6F8-2258-42DE-895A-3B924016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28A-41F8-4934-B64D-55ACB3D7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EB1-12A1-4EA6-BA2E-02A0F38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9C8-8C39-46F6-9974-1BFAB545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130-0ABB-4D94-9C44-11B875B9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279-9A9D-4ADB-8DB4-37F18A85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F9F-B515-48F6-B332-335F9334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461-C6AC-4170-AB1C-8394EC0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891-4098-41A8-8AB5-124AFB571E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9C13-29D6-4E9E-A7D6-144CFD9CDC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ucidmist.com/sunnydale/" TargetMode="External"/><Relationship Id="rId2" Type="http://schemas.openxmlformats.org/officeDocument/2006/relationships/hyperlink" Target="http://www2.lucidmist.com:8080/sunnydale/" TargetMode="External"/><Relationship Id="rId3" Type="http://schemas.openxmlformats.org/officeDocument/2006/relationships/hyperlink" Target="http://www2.lucidmist.com:5190/sunnydale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Welcome to Sunnydal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web ga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th multimedia el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stin Le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monstr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www.lucidmist.com/sunnydale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://www2.lucidmist.com:8080/sunnydale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http://www2.lucidmist.com:5190/sunnydale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ultimedia files are lar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ing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ML frames + scrip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X (IE on Windows only!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cromedia Fl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echnologies Us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P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ySQL 4.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D 2.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HTML 1.0 Transi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ataba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search-related data is sto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ions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,y,z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 skill level (visibi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s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, name, and 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, creation date, descri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tly changing data or highly configurable data is stored in XML files, not the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me File Tre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833480" y="2368080"/>
            <a:ext cx="5477040" cy="3724920"/>
            <a:chOff x="1833480" y="2368080"/>
            <a:chExt cx="5477040" cy="3724920"/>
          </a:xfrm>
        </p:grpSpPr>
        <p:cxnSp>
          <p:nvCxnSpPr>
            <p:cNvPr id="100" name="_s322643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362920" y="5330520"/>
              <a:ext cx="132480" cy="79776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22641"/>
            <p:cNvCxnSpPr>
              <a:stCxn id="104" idx="0"/>
              <a:endCxn id="102" idx="2"/>
            </p:cNvCxnSpPr>
            <p:nvPr/>
          </p:nvCxnSpPr>
          <p:spPr>
            <a:xfrm flipH="1" flipV="1" rot="5400000">
              <a:off x="4564440" y="5329440"/>
              <a:ext cx="132480" cy="80064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22639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61080" y="4068360"/>
              <a:ext cx="134640" cy="159624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322637"/>
            <p:cNvCxnSpPr>
              <a:stCxn id="109" idx="0"/>
              <a:endCxn id="107" idx="2"/>
            </p:cNvCxnSpPr>
            <p:nvPr/>
          </p:nvCxnSpPr>
          <p:spPr>
            <a:xfrm flipH="1" flipV="1" rot="5400000">
              <a:off x="4962600" y="4865760"/>
              <a:ext cx="134640" cy="216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322635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4164120" y="4067280"/>
              <a:ext cx="134640" cy="159912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322633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762160" y="3205800"/>
              <a:ext cx="132480" cy="159624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322631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4963680" y="4003200"/>
              <a:ext cx="132480" cy="216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322629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4165200" y="3204720"/>
              <a:ext cx="132480" cy="1599120"/>
            </a:xfrm>
            <a:prstGeom prst="bentConnector3">
              <a:avLst>
                <a:gd name="adj1" fmla="val 493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322619"/>
            <p:cNvCxnSpPr>
              <a:stCxn id="102" idx="1"/>
              <a:endCxn id="120" idx="2"/>
            </p:cNvCxnSpPr>
            <p:nvPr/>
          </p:nvCxnSpPr>
          <p:spPr>
            <a:xfrm rot="10800000">
              <a:off x="2518560" y="2654640"/>
              <a:ext cx="1562760" cy="286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322617"/>
            <p:cNvCxnSpPr>
              <a:stCxn id="107" idx="1"/>
              <a:endCxn id="120" idx="2"/>
            </p:cNvCxnSpPr>
            <p:nvPr/>
          </p:nvCxnSpPr>
          <p:spPr>
            <a:xfrm rot="10800000">
              <a:off x="2518560" y="2655360"/>
              <a:ext cx="1562760" cy="200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322615"/>
            <p:cNvCxnSpPr>
              <a:stCxn id="114" idx="1"/>
              <a:endCxn id="120" idx="2"/>
            </p:cNvCxnSpPr>
            <p:nvPr/>
          </p:nvCxnSpPr>
          <p:spPr>
            <a:xfrm rot="10800000">
              <a:off x="2518560" y="2654640"/>
              <a:ext cx="1562760" cy="114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322614"/>
            <p:cNvCxnSpPr>
              <a:stCxn id="124" idx="1"/>
              <a:endCxn id="120" idx="2"/>
            </p:cNvCxnSpPr>
            <p:nvPr/>
          </p:nvCxnSpPr>
          <p:spPr>
            <a:xfrm rot="10800000">
              <a:off x="2518560" y="2654640"/>
              <a:ext cx="1562760" cy="70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322613"/>
            <p:cNvCxnSpPr>
              <a:stCxn id="126" idx="1"/>
              <a:endCxn id="120" idx="2"/>
            </p:cNvCxnSpPr>
            <p:nvPr/>
          </p:nvCxnSpPr>
          <p:spPr>
            <a:xfrm rot="10800000">
              <a:off x="2518560" y="2655360"/>
              <a:ext cx="1562760" cy="27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322609"/>
            <p:cNvSpPr/>
            <p:nvPr/>
          </p:nvSpPr>
          <p:spPr>
            <a:xfrm>
              <a:off x="1833480" y="2368080"/>
              <a:ext cx="1371600" cy="288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22610"/>
            <p:cNvSpPr/>
            <p:nvPr/>
          </p:nvSpPr>
          <p:spPr>
            <a:xfrm>
              <a:off x="4081320" y="2788560"/>
              <a:ext cx="1897200" cy="2869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22611"/>
            <p:cNvSpPr/>
            <p:nvPr/>
          </p:nvSpPr>
          <p:spPr>
            <a:xfrm>
              <a:off x="4081320" y="3219840"/>
              <a:ext cx="1897200" cy="287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il_templ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22612"/>
            <p:cNvSpPr/>
            <p:nvPr/>
          </p:nvSpPr>
          <p:spPr>
            <a:xfrm>
              <a:off x="4081320" y="3651120"/>
              <a:ext cx="1897200" cy="287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22616"/>
            <p:cNvSpPr/>
            <p:nvPr/>
          </p:nvSpPr>
          <p:spPr>
            <a:xfrm>
              <a:off x="4081320" y="4513680"/>
              <a:ext cx="1897200" cy="287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322618"/>
            <p:cNvSpPr/>
            <p:nvPr/>
          </p:nvSpPr>
          <p:spPr>
            <a:xfrm>
              <a:off x="4081320" y="5376600"/>
              <a:ext cx="1897200" cy="287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22628"/>
            <p:cNvSpPr/>
            <p:nvPr/>
          </p:nvSpPr>
          <p:spPr>
            <a:xfrm>
              <a:off x="2747880" y="407052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l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22630"/>
            <p:cNvSpPr/>
            <p:nvPr/>
          </p:nvSpPr>
          <p:spPr>
            <a:xfrm>
              <a:off x="4344840" y="4070520"/>
              <a:ext cx="136872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22632"/>
            <p:cNvSpPr/>
            <p:nvPr/>
          </p:nvSpPr>
          <p:spPr>
            <a:xfrm>
              <a:off x="5942160" y="407052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u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22634"/>
            <p:cNvSpPr/>
            <p:nvPr/>
          </p:nvSpPr>
          <p:spPr>
            <a:xfrm>
              <a:off x="2747880" y="493308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080" rIns="6408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22636"/>
            <p:cNvSpPr/>
            <p:nvPr/>
          </p:nvSpPr>
          <p:spPr>
            <a:xfrm>
              <a:off x="4344840" y="4933080"/>
              <a:ext cx="136872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22638"/>
            <p:cNvSpPr/>
            <p:nvPr/>
          </p:nvSpPr>
          <p:spPr>
            <a:xfrm>
              <a:off x="5942160" y="493308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440" rIns="73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22640"/>
            <p:cNvSpPr/>
            <p:nvPr/>
          </p:nvSpPr>
          <p:spPr>
            <a:xfrm>
              <a:off x="3546360" y="5796000"/>
              <a:ext cx="136872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440" rIns="73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ay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22642"/>
            <p:cNvSpPr/>
            <p:nvPr/>
          </p:nvSpPr>
          <p:spPr>
            <a:xfrm>
              <a:off x="5143680" y="5796000"/>
              <a:ext cx="1368360" cy="297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layer Dat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?xml version='1.0' ?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play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name&gt;Scare Trolfey&lt;/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racefile&gt;Human&lt;/racefil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tslast&gt;1145659370&lt;/tslas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location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x&gt;0&lt;/x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y&gt;0&lt;/y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z&gt;0&lt;/z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/location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exp&gt;0&lt;/ex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oney&gt;10&lt;/money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alignment&gt;0&lt;/alignmen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p&gt;100&lt;/h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pmax&gt;100&lt;/hpmax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p&gt;0&lt;/m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pmax&gt;0&lt;/mpmax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tp&gt;50&lt;/tp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tpmax&gt;50&lt;/tpmax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tpfrac&gt;0&lt;/tpfrac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att&gt;20&lt;/at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ef&gt;20&lt;/def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att&gt;0&lt;/mat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def&gt;0&lt;/mdef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acc&gt;10&lt;/acc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ev&gt;20&lt;/ev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/play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ame.php (main game page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session for login k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player data from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Regen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Movement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f location is registered in D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event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timestamp to 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player data to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 UI and result(s) of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HP and G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images to be created with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script files can be called like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mg src=“media/images/status.php?hp=100&amp;hpmax=100&amp;tp=30&amp;tpmax=50”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uture updat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ion of core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ayer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ve comb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lash based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conversion to Fl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0:03:43Z</dcterms:created>
  <dc:creator>Austin Lee</dc:creator>
  <dc:description/>
  <dc:language>en-US</dc:language>
  <cp:lastModifiedBy>Austin Lee</cp:lastModifiedBy>
  <dcterms:modified xsi:type="dcterms:W3CDTF">2006-05-03T10:54:35Z</dcterms:modified>
  <cp:revision>19</cp:revision>
  <dc:subject/>
  <dc:title>Welcome to Sunnyd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