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/2/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91120" y="64008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ihong Wang/Content Switc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Page </a:t>
            </a:r>
            <a:fld id="{B63B1324-262D-4C89-B748-4AD926CE1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cs.uccs.edu/~chow/pub/contentsw/paper/contentsw/apostolopoulosum.pdf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981080" y="152388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Web Swi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429000" y="307332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hong W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92520" y="658800"/>
            <a:ext cx="66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ction/Classification Engines(A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57320" y="1712880"/>
            <a:ext cx="741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ACE classifies incoming packets according to the predefined rule fi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 then triggers action in the associated action fi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 use Network Classification Language(NCL) to configure ru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 is developed in tcp/ip lev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NC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8680" y="3325680"/>
            <a:ext cx="67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check_http{tcp&amp;&amp;(tcp.sport==80)}{action_scan(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44560" y="3962520"/>
            <a:ext cx="784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_http is the name of the rule, {tcp&amp;&amp;(tcp.sport==80)} is cla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ing condition, and {action_scan()} is action function of this cond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his rule means that incoming request with protocol=tcp and port=80 wi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action “action_scan()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CL is simple for configu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79760" y="228600"/>
            <a:ext cx="654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xamples of Content Switch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762120"/>
            <a:ext cx="429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isco Network Based Application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10520" y="1447920"/>
            <a:ext cx="524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(config)#class-map match-all http_sec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(config)#match protocol secure-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(config)#class-map match any audio_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(config)#match protocol http mime “audio/*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(config)#match protocol http mime “video/*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(config)#policy-map e-ex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(config-pmap-c)#class http_sec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(config-pmap-c)#bandwidth 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(config-pmap-c)#class audio_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(config-pmap-c)#bandwidth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525780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define classes for secure http request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o/video request,    and   then distribute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bandwidth for each clas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1295280"/>
            <a:ext cx="601992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22560" y="152280"/>
            <a:ext cx="654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xamples of Content Switch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6858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undry ServerI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1295280"/>
            <a:ext cx="5410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Iron(config)#url-map gif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Iron(config-url-gifPolicy)#method suf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Iron(config-url-gifPolicy)#match “gif”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Iron(config-gifPolicy)#defaul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Iron(config-gifPolicy)#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8195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uffix of url in the incoming packets is gif, route to ser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, else route to server group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37339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l IX-API SD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23640" y="4267080"/>
            <a:ext cx="564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 check_src {ip.src==10.10.10.30} {action_A(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 check_http{tcp&amp;&amp;(tcp.sport==80)}{action_scan(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5105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ing of rule check_src is: if source ip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10.10.10.30, then execute the action function “action_A()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143000"/>
            <a:ext cx="716256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4191120"/>
            <a:ext cx="70866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8720" y="609480"/>
            <a:ext cx="70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Switching Rule Matching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4320" y="1473120"/>
            <a:ext cx="70250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e Forced Sequential Execution – Early r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higher prio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solve conflict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s to speed up the process of rule match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flags based on the headers and cont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-passed rules not 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se compiler-optimization techniques to sp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he set of r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498760" y="496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0720" y="30492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Switch Rule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04200" y="1258920"/>
            <a:ext cx="398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condition) then (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2880" y="2590920"/>
            <a:ext cx="781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( (iph-&gt;saddr==128.198.192.194)&amp;&amp;(tcph-&gt;dport==80)&amp;&amp;(iph-&gt;protocol==TCP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n route_1(NONSTICKY, schedu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6960" y="3505320"/>
            <a:ext cx="7345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( (iph-&gt;==128.198.192.194)…) is the combined condi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route_1() is the action subroutine. It will 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NONSTICKY means the connection is configured as not sticky connectio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schedule is the schedule algorithm assigned for the connection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for the nonsticky connection scheduler should reschedule the real ser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ry time when Content Switch gets the http reque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add the new scheduled real serve to the connection l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04760" y="53352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Switch Rule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31480" y="1792440"/>
            <a:ext cx="526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iph-&gt;protocol==U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route_2(NONSTICKY, sche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21280" y="3392640"/>
            <a:ext cx="69242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coming packet is a UDP pack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oute_2() will 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non-sticky connection.  Next request will go through r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ag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Use “schedule” algorith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05120" y="380880"/>
            <a:ext cx="521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Switch Rule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59360" y="1335240"/>
            <a:ext cx="45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http-&gt;cookie==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route_3(STICKY, sche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61160" y="2475000"/>
            <a:ext cx="70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t request will be forwarded according to the “schedule”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algorithm to a real server, say real server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requests from the same session will be forwarded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real server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666880" y="685800"/>
            <a:ext cx="4991400" cy="20001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Processing in Content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819520" y="2666880"/>
            <a:ext cx="4838760" cy="1791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819520" y="4495680"/>
            <a:ext cx="4838760" cy="1838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77160" y="1716120"/>
            <a:ext cx="143352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3000" y="3581280"/>
            <a:ext cx="143352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3000" y="5486400"/>
            <a:ext cx="143352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74040" y="1523880"/>
            <a:ext cx="7799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1:  Client establishes a TCP connection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Swi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2:  Content Switch examines the conten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and choose a real server to establ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CP connection with the real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3:  - NAT appro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Switch forward data in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and serv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P Tunnel/IP Direct Rou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and server communicate di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going through Content Swi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Processing in Content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833120" y="228600"/>
            <a:ext cx="58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Chart of Content Switch (N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4840" y="91440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from 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1840" y="1447920"/>
            <a:ext cx="13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put to ip_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2040" y="2209680"/>
            <a:ext cx="18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ion establishe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5000" y="28954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/SY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37339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e ACK back m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4495680"/>
            <a:ext cx="135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nd back AC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7320" y="2057400"/>
            <a:ext cx="15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querade ip 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rt,seq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9080" y="3048120"/>
            <a:ext cx="144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 ib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1760" y="388620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6172200"/>
            <a:ext cx="60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133720"/>
            <a:ext cx="1600200" cy="3808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3048120"/>
            <a:ext cx="1600200" cy="3808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3886200"/>
            <a:ext cx="990720" cy="3808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3733920"/>
            <a:ext cx="1752480" cy="3808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4495680"/>
            <a:ext cx="1600200" cy="4572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2209680"/>
            <a:ext cx="1981080" cy="3049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2819520"/>
            <a:ext cx="1295280" cy="380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1447920"/>
            <a:ext cx="1447920" cy="3808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3733920"/>
            <a:ext cx="1143000" cy="3045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3733920"/>
            <a:ext cx="1371600" cy="3045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6095880"/>
            <a:ext cx="1143000" cy="3812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2819520"/>
            <a:ext cx="838440" cy="380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2819520"/>
            <a:ext cx="1143000" cy="380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76200" y="373392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oose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00960" y="449568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q SYN m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5105520"/>
            <a:ext cx="140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 to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7800" y="373392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oose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4419720"/>
            <a:ext cx="146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q UDP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2680" y="5105520"/>
            <a:ext cx="141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 to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95000" y="3657600"/>
            <a:ext cx="99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iver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per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33160" y="289548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/data/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62720" y="285588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4495680"/>
            <a:ext cx="1295280" cy="3049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5105520"/>
            <a:ext cx="1371600" cy="3045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4495680"/>
            <a:ext cx="1447560" cy="3049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3733920"/>
            <a:ext cx="1066680" cy="4572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5105520"/>
            <a:ext cx="1371600" cy="3045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838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133360" y="2362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29718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816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816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62920" y="2971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29600" y="2971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571500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276720" y="4952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410080" y="5409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153280" y="41907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57400" y="2019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220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184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829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224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400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46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4940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81440" y="457200"/>
            <a:ext cx="49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Content Swit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219320"/>
            <a:ext cx="758232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twork device which routes the user requests based on the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s and headers to a set of real serv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tent Switch can route the incoming request based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ur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mail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ttp meta hea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MAP/POP lo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okie 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UDP/NFS file path,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sl session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el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XML ta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configured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irew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oad balancing device or load distribution dev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ail-over clustering dev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85760" y="303120"/>
            <a:ext cx="573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Chart of Content Switch(N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16520" y="1066680"/>
            <a:ext cx="209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from back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2666880"/>
            <a:ext cx="192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ion establishe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160" y="3505320"/>
            <a:ext cx="107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saq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51760" y="43434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 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120" y="617220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40840" y="26668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N/ACK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1200" y="3505320"/>
            <a:ext cx="220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e connection hash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37960" y="4191120"/>
            <a:ext cx="11498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q ip add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rt,se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62000" y="5181480"/>
            <a:ext cx="124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 sav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p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37080" y="434340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ward as no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505320"/>
            <a:ext cx="1295280" cy="3808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4267080"/>
            <a:ext cx="1371600" cy="3812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3920" y="6095880"/>
            <a:ext cx="1143000" cy="3812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3505320"/>
            <a:ext cx="2057400" cy="3808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38680" y="4191120"/>
            <a:ext cx="1143000" cy="6858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5181480"/>
            <a:ext cx="1218960" cy="6098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38880" y="4343400"/>
            <a:ext cx="1447920" cy="3808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2590920"/>
            <a:ext cx="228600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2590920"/>
            <a:ext cx="144792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1676520"/>
            <a:ext cx="1752840" cy="3808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3960" y="167652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put to ip_for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1371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11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2895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286000" y="281916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2819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7400" y="58672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57400" y="4648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57913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24680" y="4724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720" y="152280"/>
            <a:ext cx="808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Switch Load Balancing Web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114800" cy="3657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95480" y="4495680"/>
            <a:ext cx="7621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5080" y="4038480"/>
            <a:ext cx="8388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Switch is a network component load balancing web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rformance of a web server farm can be improved by distributin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ing request to a set of web serv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quest distribution can be based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P address and port# , Layer4 switch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ession Layer, Application Layer information, L5,L7 switch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3733920"/>
            <a:ext cx="10670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commerce_fig1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4364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3880" y="3808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owPoint Network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6960" y="838080"/>
            <a:ext cx="41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upport url and cookie-based switch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4840" y="5484960"/>
            <a:ext cx="6778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o the customer is based on user cookie located within HTTP head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What information or transaction the customer is reques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Where best to service the custom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Switch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6400800" cy="53751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3505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postolopoulos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controller matches incom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packets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switch processor or rou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 direc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matching resul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7680" y="99072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tent switch 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 Switch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3048120"/>
            <a:ext cx="701028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72240" y="3429000"/>
            <a:ext cx="34984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Switch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Matching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8440" y="3200400"/>
            <a:ext cx="153540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4952880"/>
            <a:ext cx="32004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4880" y="2589120"/>
            <a:ext cx="29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1066680"/>
            <a:ext cx="1600200" cy="1447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3600" y="1371600"/>
            <a:ext cx="11088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29440" y="5181480"/>
            <a:ext cx="2481840" cy="825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Rou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oad Balanc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1371600"/>
            <a:ext cx="198144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7560" y="1523880"/>
            <a:ext cx="1312920" cy="825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 Ru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2514600"/>
            <a:ext cx="457200" cy="91440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181120" y="1981080"/>
            <a:ext cx="7621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57200" y="2818800"/>
            <a:ext cx="914400" cy="990360"/>
          </a:xfrm>
          <a:custGeom>
            <a:avLst/>
            <a:gdLst>
              <a:gd name="textAreaLeft" fmla="*/ 0 w 914400"/>
              <a:gd name="textAreaRight" fmla="*/ 914760 w 914400"/>
              <a:gd name="textAreaTop" fmla="*/ -360 h 990360"/>
              <a:gd name="textAreaBottom" fmla="*/ 990360 h 99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3505320"/>
            <a:ext cx="1067040" cy="5331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3320" y="1876320"/>
            <a:ext cx="121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4267080"/>
            <a:ext cx="533520" cy="914400"/>
          </a:xfrm>
          <a:prstGeom prst="downArrow">
            <a:avLst>
              <a:gd name="adj1" fmla="val 50000"/>
              <a:gd name="adj2" fmla="val 428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34320" y="5334120"/>
            <a:ext cx="1066680" cy="5331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31000" y="4848120"/>
            <a:ext cx="11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4952880"/>
            <a:ext cx="2590920" cy="1447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01040" y="5257800"/>
            <a:ext cx="2125440" cy="368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Path 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02120" y="5791320"/>
            <a:ext cx="226260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Load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334120"/>
            <a:ext cx="990360" cy="228600"/>
          </a:xfrm>
          <a:prstGeom prst="rightArrow">
            <a:avLst>
              <a:gd name="adj1" fmla="val 50000"/>
              <a:gd name="adj2" fmla="val 10830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5943600"/>
            <a:ext cx="990360" cy="228600"/>
          </a:xfrm>
          <a:prstGeom prst="rightArrow">
            <a:avLst>
              <a:gd name="adj1" fmla="val 50000"/>
              <a:gd name="adj2" fmla="val 10830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541008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4419720"/>
            <a:ext cx="304560" cy="838080"/>
          </a:xfrm>
          <a:prstGeom prst="downArrow">
            <a:avLst>
              <a:gd name="adj1" fmla="val 50000"/>
              <a:gd name="adj2" fmla="val 68794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7520" y="609480"/>
            <a:ext cx="63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in Tasks of Content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98040" y="1828800"/>
            <a:ext cx="571284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Classif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ule Matching Pro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Traffic Forwarding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T, IP/Tunnel, IP/Direct Rou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layed Bi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88200" y="558720"/>
            <a:ext cx="779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design approaches of Content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8840" y="1752480"/>
            <a:ext cx="74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ontent switching on application le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Apache, Jserve, Java Servl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ontent switching on tcp/ip lev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modify operating system kern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using NAT to develop a content swi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89280" y="14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32400" y="457200"/>
            <a:ext cx="514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sco Content Engine 2.20(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1523880"/>
            <a:ext cx="727092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 CE supports HTTP and HTTPS proxy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 examines web request and makes the action decision  such as block,cache, or prox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ntax of Rule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ttern-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 no-cache url-regex\. *cgi-bin.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 block domain \.foo.com ba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 no-cache dst-ip 172.77.120.0 255.255.19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rule configures that the incoming packets with the url matching the pattern “*cgi-bin” will not be forward to the proxy serv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1T05:00:10Z</dcterms:created>
  <dc:creator>Wei Liu</dc:creator>
  <dc:description/>
  <dc:language>en-US</dc:language>
  <cp:lastModifiedBy>Edward Chow</cp:lastModifiedBy>
  <cp:lastPrinted>2000-11-03T15:56:57Z</cp:lastPrinted>
  <dcterms:modified xsi:type="dcterms:W3CDTF">2000-11-05T05:48:46Z</dcterms:modified>
  <cp:revision>11</cp:revision>
  <dc:subject/>
  <dc:title>No Slide Title</dc:title>
</cp:coreProperties>
</file>